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F89-B750-44A1-8906-2784F538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AE1-1F7E-4779-B9E4-E3606375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869-8B87-480B-8967-BF948954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3F2-6FD1-4FB7-AB78-865196F7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C5D-EF6D-48C1-BF1A-407426DD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B37-2D23-4A5A-B705-CC39A2AC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33A-BF01-4C79-88CE-D5771CD6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88D-3F6F-4B08-B2F9-67EF41B4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BAE-48F3-4BD8-9B17-FEAF0A58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896-E575-4C41-9B1B-C302735F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13F-F29D-42E3-8030-178AC4D0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3D36-20C5-4F3E-BA4D-2A918C43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991E-242F-48EB-B305-D49818610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. 31, 2011 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 each triang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8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9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6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in., 12in., 7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m, 4m, 4.5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cm,9cm,9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7040" y="2286000"/>
            <a:ext cx="1079640" cy="330120"/>
          </a:xfrm>
          <a:custGeom>
            <a:avLst/>
            <a:gdLst/>
            <a:ahLst/>
            <a:rect l="l" t="t" r="r" b="b"/>
            <a:pathLst>
              <a:path w="3002" h="919">
                <a:moveTo>
                  <a:pt x="11733" y="6896"/>
                </a:moveTo>
                <a:cubicBezTo>
                  <a:pt x="11715" y="6806"/>
                  <a:pt x="11681" y="6735"/>
                  <a:pt x="11609" y="6672"/>
                </a:cubicBezTo>
                <a:cubicBezTo>
                  <a:pt x="11482" y="6561"/>
                  <a:pt x="11350" y="6663"/>
                  <a:pt x="11286" y="6796"/>
                </a:cubicBezTo>
                <a:cubicBezTo>
                  <a:pt x="11221" y="6992"/>
                  <a:pt x="11196" y="7038"/>
                  <a:pt x="11212" y="7169"/>
                </a:cubicBezTo>
                <a:cubicBezTo>
                  <a:pt x="11393" y="7269"/>
                  <a:pt x="11560" y="7328"/>
                  <a:pt x="11683" y="7094"/>
                </a:cubicBezTo>
                <a:cubicBezTo>
                  <a:pt x="11737" y="6992"/>
                  <a:pt x="11705" y="6874"/>
                  <a:pt x="11683" y="6772"/>
                </a:cubicBezTo>
                <a:cubicBezTo>
                  <a:pt x="11683" y="6932"/>
                  <a:pt x="11655" y="7057"/>
                  <a:pt x="11757" y="7193"/>
                </a:cubicBezTo>
                <a:cubicBezTo>
                  <a:pt x="11859" y="7328"/>
                  <a:pt x="11950" y="7204"/>
                  <a:pt x="12030" y="7144"/>
                </a:cubicBezTo>
              </a:path>
              <a:path w="3002" h="919">
                <a:moveTo>
                  <a:pt x="12353" y="6796"/>
                </a:moveTo>
                <a:cubicBezTo>
                  <a:pt x="12423" y="6843"/>
                  <a:pt x="12338" y="6730"/>
                  <a:pt x="12278" y="6722"/>
                </a:cubicBezTo>
                <a:cubicBezTo>
                  <a:pt x="12095" y="6698"/>
                  <a:pt x="11989" y="6974"/>
                  <a:pt x="12055" y="7119"/>
                </a:cubicBezTo>
                <a:cubicBezTo>
                  <a:pt x="12142" y="7310"/>
                  <a:pt x="12339" y="7202"/>
                  <a:pt x="12477" y="7169"/>
                </a:cubicBezTo>
              </a:path>
              <a:path w="3002" h="919">
                <a:moveTo>
                  <a:pt x="12675" y="6697"/>
                </a:moveTo>
                <a:cubicBezTo>
                  <a:pt x="12645" y="6853"/>
                  <a:pt x="12565" y="7056"/>
                  <a:pt x="12675" y="7193"/>
                </a:cubicBezTo>
                <a:cubicBezTo>
                  <a:pt x="12692" y="7201"/>
                  <a:pt x="12708" y="7210"/>
                  <a:pt x="12725" y="7218"/>
                </a:cubicBezTo>
                <a:cubicBezTo>
                  <a:pt x="12876" y="7125"/>
                  <a:pt x="12932" y="7024"/>
                  <a:pt x="12973" y="6846"/>
                </a:cubicBezTo>
                <a:cubicBezTo>
                  <a:pt x="12973" y="6838"/>
                  <a:pt x="12973" y="6829"/>
                  <a:pt x="12973" y="6821"/>
                </a:cubicBezTo>
                <a:cubicBezTo>
                  <a:pt x="12973" y="6784"/>
                  <a:pt x="12963" y="7006"/>
                  <a:pt x="12973" y="7045"/>
                </a:cubicBezTo>
                <a:cubicBezTo>
                  <a:pt x="13040" y="7299"/>
                  <a:pt x="13146" y="7254"/>
                  <a:pt x="13320" y="7144"/>
                </a:cubicBezTo>
              </a:path>
              <a:path w="3002" h="919">
                <a:moveTo>
                  <a:pt x="13395" y="6350"/>
                </a:moveTo>
                <a:cubicBezTo>
                  <a:pt x="13395" y="6564"/>
                  <a:pt x="13359" y="6812"/>
                  <a:pt x="13419" y="7020"/>
                </a:cubicBezTo>
                <a:cubicBezTo>
                  <a:pt x="13476" y="7218"/>
                  <a:pt x="13616" y="7216"/>
                  <a:pt x="13791" y="7144"/>
                </a:cubicBezTo>
                <a:cubicBezTo>
                  <a:pt x="13965" y="7073"/>
                  <a:pt x="14016" y="6962"/>
                  <a:pt x="13990" y="6796"/>
                </a:cubicBezTo>
                <a:cubicBezTo>
                  <a:pt x="13865" y="6780"/>
                  <a:pt x="13821" y="6748"/>
                  <a:pt x="13767" y="6896"/>
                </a:cubicBezTo>
                <a:cubicBezTo>
                  <a:pt x="13706" y="7063"/>
                  <a:pt x="13789" y="7204"/>
                  <a:pt x="13965" y="7243"/>
                </a:cubicBezTo>
                <a:cubicBezTo>
                  <a:pt x="14043" y="7260"/>
                  <a:pt x="14149" y="7246"/>
                  <a:pt x="14213" y="7218"/>
                </a:cubicBezTo>
              </a:path>
              <a:path w="3002" h="919">
                <a:moveTo>
                  <a:pt x="13146" y="6697"/>
                </a:moveTo>
                <a:cubicBezTo>
                  <a:pt x="13258" y="6641"/>
                  <a:pt x="13438" y="6646"/>
                  <a:pt x="13568" y="6623"/>
                </a:cubicBezTo>
                <a:cubicBezTo>
                  <a:pt x="13616" y="6615"/>
                  <a:pt x="13792" y="6548"/>
                  <a:pt x="13717" y="664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87880" y="2928960"/>
            <a:ext cx="1214280" cy="295200"/>
          </a:xfrm>
          <a:custGeom>
            <a:avLst/>
            <a:gdLst/>
            <a:ahLst/>
            <a:rect l="l" t="t" r="r" b="b"/>
            <a:pathLst>
              <a:path w="3375" h="819">
                <a:moveTo>
                  <a:pt x="11956" y="8483"/>
                </a:moveTo>
                <a:cubicBezTo>
                  <a:pt x="11889" y="8416"/>
                  <a:pt x="11731" y="8516"/>
                  <a:pt x="11683" y="8607"/>
                </a:cubicBezTo>
                <a:cubicBezTo>
                  <a:pt x="11519" y="8916"/>
                  <a:pt x="11833" y="9038"/>
                  <a:pt x="12080" y="8880"/>
                </a:cubicBezTo>
                <a:cubicBezTo>
                  <a:pt x="12244" y="8776"/>
                  <a:pt x="12363" y="8451"/>
                  <a:pt x="12105" y="8384"/>
                </a:cubicBezTo>
                <a:cubicBezTo>
                  <a:pt x="12014" y="8384"/>
                  <a:pt x="12006" y="8384"/>
                  <a:pt x="11956" y="8384"/>
                </a:cubicBezTo>
              </a:path>
              <a:path w="3375" h="819">
                <a:moveTo>
                  <a:pt x="12278" y="8161"/>
                </a:moveTo>
                <a:cubicBezTo>
                  <a:pt x="12325" y="8351"/>
                  <a:pt x="12381" y="8544"/>
                  <a:pt x="12427" y="8731"/>
                </a:cubicBezTo>
                <a:cubicBezTo>
                  <a:pt x="12427" y="8611"/>
                  <a:pt x="12384" y="8452"/>
                  <a:pt x="12526" y="8384"/>
                </a:cubicBezTo>
                <a:cubicBezTo>
                  <a:pt x="12707" y="8361"/>
                  <a:pt x="12757" y="8343"/>
                  <a:pt x="12849" y="8434"/>
                </a:cubicBezTo>
                <a:cubicBezTo>
                  <a:pt x="12883" y="8699"/>
                  <a:pt x="12804" y="8794"/>
                  <a:pt x="12502" y="8781"/>
                </a:cubicBezTo>
                <a:cubicBezTo>
                  <a:pt x="12406" y="8757"/>
                  <a:pt x="12371" y="8753"/>
                  <a:pt x="12452" y="8682"/>
                </a:cubicBezTo>
              </a:path>
              <a:path w="3375" h="819">
                <a:moveTo>
                  <a:pt x="12923" y="8136"/>
                </a:moveTo>
                <a:cubicBezTo>
                  <a:pt x="12999" y="8352"/>
                  <a:pt x="13049" y="8558"/>
                  <a:pt x="13097" y="8781"/>
                </a:cubicBezTo>
                <a:cubicBezTo>
                  <a:pt x="13108" y="8831"/>
                  <a:pt x="13122" y="8931"/>
                  <a:pt x="13122" y="8880"/>
                </a:cubicBezTo>
              </a:path>
              <a:path w="3375" h="819">
                <a:moveTo>
                  <a:pt x="12799" y="8582"/>
                </a:moveTo>
                <a:cubicBezTo>
                  <a:pt x="13015" y="8525"/>
                  <a:pt x="13221" y="8472"/>
                  <a:pt x="13444" y="8458"/>
                </a:cubicBezTo>
                <a:cubicBezTo>
                  <a:pt x="13429" y="8580"/>
                  <a:pt x="13372" y="8740"/>
                  <a:pt x="13444" y="8855"/>
                </a:cubicBezTo>
                <a:cubicBezTo>
                  <a:pt x="13461" y="8863"/>
                  <a:pt x="13477" y="8872"/>
                  <a:pt x="13494" y="8880"/>
                </a:cubicBezTo>
                <a:cubicBezTo>
                  <a:pt x="13627" y="8746"/>
                  <a:pt x="13655" y="8649"/>
                  <a:pt x="13667" y="8458"/>
                </a:cubicBezTo>
                <a:cubicBezTo>
                  <a:pt x="13653" y="8570"/>
                  <a:pt x="13606" y="8700"/>
                  <a:pt x="13717" y="8781"/>
                </a:cubicBezTo>
                <a:cubicBezTo>
                  <a:pt x="13742" y="8789"/>
                  <a:pt x="13766" y="8798"/>
                  <a:pt x="13791" y="8806"/>
                </a:cubicBezTo>
              </a:path>
              <a:path w="3375" h="819">
                <a:moveTo>
                  <a:pt x="14114" y="8334"/>
                </a:moveTo>
                <a:cubicBezTo>
                  <a:pt x="13967" y="8375"/>
                  <a:pt x="13959" y="8358"/>
                  <a:pt x="13891" y="8483"/>
                </a:cubicBezTo>
                <a:cubicBezTo>
                  <a:pt x="13995" y="8589"/>
                  <a:pt x="14133" y="8614"/>
                  <a:pt x="14238" y="8706"/>
                </a:cubicBezTo>
                <a:cubicBezTo>
                  <a:pt x="14121" y="8840"/>
                  <a:pt x="14060" y="8815"/>
                  <a:pt x="13940" y="8706"/>
                </a:cubicBezTo>
              </a:path>
              <a:path w="3375" h="819">
                <a:moveTo>
                  <a:pt x="14585" y="8558"/>
                </a:moveTo>
                <a:cubicBezTo>
                  <a:pt x="14649" y="8558"/>
                  <a:pt x="14742" y="8541"/>
                  <a:pt x="14759" y="8558"/>
                </a:cubicBezTo>
                <a:cubicBezTo>
                  <a:pt x="14704" y="8427"/>
                  <a:pt x="14662" y="8228"/>
                  <a:pt x="14486" y="8384"/>
                </a:cubicBezTo>
                <a:cubicBezTo>
                  <a:pt x="14245" y="8598"/>
                  <a:pt x="14512" y="8812"/>
                  <a:pt x="14759" y="8781"/>
                </a:cubicBezTo>
                <a:cubicBezTo>
                  <a:pt x="14935" y="8759"/>
                  <a:pt x="14992" y="8700"/>
                  <a:pt x="14957" y="860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30800" y="3500280"/>
            <a:ext cx="1616040" cy="330480"/>
          </a:xfrm>
          <a:custGeom>
            <a:avLst/>
            <a:gdLst/>
            <a:ahLst/>
            <a:rect l="l" t="t" r="r" b="b"/>
            <a:pathLst>
              <a:path w="4491" h="919">
                <a:moveTo>
                  <a:pt x="12055" y="10592"/>
                </a:moveTo>
                <a:cubicBezTo>
                  <a:pt x="11988" y="10678"/>
                  <a:pt x="12100" y="10631"/>
                  <a:pt x="12154" y="10592"/>
                </a:cubicBezTo>
                <a:cubicBezTo>
                  <a:pt x="12359" y="10445"/>
                  <a:pt x="12449" y="10213"/>
                  <a:pt x="12626" y="10046"/>
                </a:cubicBezTo>
                <a:cubicBezTo>
                  <a:pt x="12634" y="10046"/>
                  <a:pt x="12642" y="10046"/>
                  <a:pt x="12650" y="10046"/>
                </a:cubicBezTo>
                <a:cubicBezTo>
                  <a:pt x="12747" y="10155"/>
                  <a:pt x="12823" y="10358"/>
                  <a:pt x="12750" y="10517"/>
                </a:cubicBezTo>
                <a:cubicBezTo>
                  <a:pt x="12678" y="10673"/>
                  <a:pt x="12494" y="10600"/>
                  <a:pt x="12378" y="10567"/>
                </a:cubicBezTo>
                <a:cubicBezTo>
                  <a:pt x="12475" y="10606"/>
                  <a:pt x="12589" y="10667"/>
                  <a:pt x="12700" y="10567"/>
                </a:cubicBezTo>
                <a:cubicBezTo>
                  <a:pt x="12805" y="10408"/>
                  <a:pt x="12845" y="10349"/>
                  <a:pt x="12923" y="10244"/>
                </a:cubicBezTo>
              </a:path>
              <a:path w="4491" h="919">
                <a:moveTo>
                  <a:pt x="13146" y="10071"/>
                </a:moveTo>
                <a:cubicBezTo>
                  <a:pt x="13154" y="10071"/>
                  <a:pt x="13163" y="10071"/>
                  <a:pt x="13171" y="10071"/>
                </a:cubicBezTo>
                <a:cubicBezTo>
                  <a:pt x="13156" y="9996"/>
                  <a:pt x="13101" y="9948"/>
                  <a:pt x="13047" y="10046"/>
                </a:cubicBezTo>
                <a:cubicBezTo>
                  <a:pt x="12983" y="10161"/>
                  <a:pt x="12834" y="10621"/>
                  <a:pt x="13146" y="10517"/>
                </a:cubicBezTo>
                <a:cubicBezTo>
                  <a:pt x="13196" y="10484"/>
                  <a:pt x="13245" y="10451"/>
                  <a:pt x="13295" y="10418"/>
                </a:cubicBezTo>
              </a:path>
              <a:path w="4491" h="919">
                <a:moveTo>
                  <a:pt x="13791" y="10269"/>
                </a:moveTo>
                <a:cubicBezTo>
                  <a:pt x="13769" y="10188"/>
                  <a:pt x="13762" y="10149"/>
                  <a:pt x="13717" y="10071"/>
                </a:cubicBezTo>
                <a:cubicBezTo>
                  <a:pt x="13523" y="10038"/>
                  <a:pt x="13437" y="10160"/>
                  <a:pt x="13419" y="10368"/>
                </a:cubicBezTo>
                <a:cubicBezTo>
                  <a:pt x="13391" y="10688"/>
                  <a:pt x="13734" y="10478"/>
                  <a:pt x="13841" y="10368"/>
                </a:cubicBezTo>
                <a:cubicBezTo>
                  <a:pt x="13858" y="10335"/>
                  <a:pt x="13874" y="10302"/>
                  <a:pt x="13891" y="10269"/>
                </a:cubicBezTo>
                <a:cubicBezTo>
                  <a:pt x="13864" y="10269"/>
                  <a:pt x="13797" y="10186"/>
                  <a:pt x="13841" y="10368"/>
                </a:cubicBezTo>
                <a:cubicBezTo>
                  <a:pt x="13902" y="10622"/>
                  <a:pt x="14090" y="10540"/>
                  <a:pt x="14238" y="10418"/>
                </a:cubicBezTo>
                <a:cubicBezTo>
                  <a:pt x="14410" y="10277"/>
                  <a:pt x="14440" y="10056"/>
                  <a:pt x="14387" y="9847"/>
                </a:cubicBezTo>
                <a:cubicBezTo>
                  <a:pt x="14338" y="9751"/>
                  <a:pt x="14325" y="9718"/>
                  <a:pt x="14238" y="9723"/>
                </a:cubicBezTo>
                <a:cubicBezTo>
                  <a:pt x="14062" y="9811"/>
                  <a:pt x="14050" y="9920"/>
                  <a:pt x="14064" y="10120"/>
                </a:cubicBezTo>
                <a:cubicBezTo>
                  <a:pt x="14077" y="10310"/>
                  <a:pt x="14184" y="10508"/>
                  <a:pt x="14412" y="10492"/>
                </a:cubicBezTo>
                <a:cubicBezTo>
                  <a:pt x="14606" y="10478"/>
                  <a:pt x="14844" y="10356"/>
                  <a:pt x="14858" y="10145"/>
                </a:cubicBezTo>
                <a:cubicBezTo>
                  <a:pt x="14850" y="10129"/>
                  <a:pt x="14841" y="10112"/>
                  <a:pt x="14833" y="10096"/>
                </a:cubicBezTo>
                <a:cubicBezTo>
                  <a:pt x="14655" y="10066"/>
                  <a:pt x="14612" y="10135"/>
                  <a:pt x="14585" y="10319"/>
                </a:cubicBezTo>
                <a:cubicBezTo>
                  <a:pt x="14552" y="10542"/>
                  <a:pt x="14778" y="10508"/>
                  <a:pt x="14908" y="10468"/>
                </a:cubicBezTo>
                <a:cubicBezTo>
                  <a:pt x="15095" y="10411"/>
                  <a:pt x="15208" y="10370"/>
                  <a:pt x="15230" y="10170"/>
                </a:cubicBezTo>
                <a:cubicBezTo>
                  <a:pt x="15230" y="10162"/>
                  <a:pt x="15230" y="10153"/>
                  <a:pt x="15230" y="10145"/>
                </a:cubicBezTo>
                <a:cubicBezTo>
                  <a:pt x="15207" y="10281"/>
                  <a:pt x="15211" y="10382"/>
                  <a:pt x="15230" y="10517"/>
                </a:cubicBezTo>
                <a:cubicBezTo>
                  <a:pt x="15236" y="10406"/>
                  <a:pt x="15227" y="10273"/>
                  <a:pt x="15280" y="10170"/>
                </a:cubicBezTo>
                <a:cubicBezTo>
                  <a:pt x="15343" y="10085"/>
                  <a:pt x="15356" y="10065"/>
                  <a:pt x="15404" y="10021"/>
                </a:cubicBezTo>
                <a:cubicBezTo>
                  <a:pt x="15510" y="10128"/>
                  <a:pt x="15511" y="10159"/>
                  <a:pt x="15553" y="10319"/>
                </a:cubicBezTo>
                <a:cubicBezTo>
                  <a:pt x="15575" y="10386"/>
                  <a:pt x="15579" y="10404"/>
                  <a:pt x="15602" y="10443"/>
                </a:cubicBezTo>
                <a:cubicBezTo>
                  <a:pt x="15802" y="10397"/>
                  <a:pt x="15890" y="10395"/>
                  <a:pt x="15949" y="10195"/>
                </a:cubicBezTo>
                <a:cubicBezTo>
                  <a:pt x="15989" y="10059"/>
                  <a:pt x="15960" y="10115"/>
                  <a:pt x="15925" y="10021"/>
                </a:cubicBezTo>
                <a:cubicBezTo>
                  <a:pt x="15807" y="10070"/>
                  <a:pt x="15737" y="10062"/>
                  <a:pt x="15751" y="10269"/>
                </a:cubicBezTo>
                <a:cubicBezTo>
                  <a:pt x="15763" y="10447"/>
                  <a:pt x="15880" y="10528"/>
                  <a:pt x="16049" y="10468"/>
                </a:cubicBezTo>
                <a:cubicBezTo>
                  <a:pt x="16204" y="10413"/>
                  <a:pt x="16373" y="10302"/>
                  <a:pt x="16495" y="10195"/>
                </a:cubicBezTo>
                <a:cubicBezTo>
                  <a:pt x="16503" y="10187"/>
                  <a:pt x="16512" y="10178"/>
                  <a:pt x="16520" y="1017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8120" y="4152960"/>
            <a:ext cx="3749760" cy="2554200"/>
          </a:xfrm>
          <a:custGeom>
            <a:avLst/>
            <a:gdLst/>
            <a:ahLst/>
            <a:rect l="l" t="t" r="r" b="b"/>
            <a:pathLst>
              <a:path w="10419" h="7095">
                <a:moveTo>
                  <a:pt x="12998" y="11832"/>
                </a:moveTo>
                <a:cubicBezTo>
                  <a:pt x="12998" y="11824"/>
                  <a:pt x="12998" y="11815"/>
                  <a:pt x="12998" y="11807"/>
                </a:cubicBezTo>
              </a:path>
              <a:path w="10419" h="7095">
                <a:moveTo>
                  <a:pt x="12998" y="11857"/>
                </a:moveTo>
                <a:lnTo>
                  <a:pt x="12998" y="11857"/>
                </a:lnTo>
              </a:path>
              <a:path w="10419" h="7095">
                <a:moveTo>
                  <a:pt x="14883" y="12129"/>
                </a:moveTo>
                <a:cubicBezTo>
                  <a:pt x="14883" y="12137"/>
                  <a:pt x="14883" y="12146"/>
                  <a:pt x="14883" y="12154"/>
                </a:cubicBezTo>
              </a:path>
              <a:path w="10419" h="7095">
                <a:moveTo>
                  <a:pt x="12824" y="11534"/>
                </a:moveTo>
                <a:cubicBezTo>
                  <a:pt x="12832" y="11534"/>
                  <a:pt x="12841" y="11534"/>
                  <a:pt x="12849" y="11534"/>
                </a:cubicBezTo>
              </a:path>
              <a:path w="10419" h="7095">
                <a:moveTo>
                  <a:pt x="14833" y="12973"/>
                </a:moveTo>
                <a:cubicBezTo>
                  <a:pt x="14841" y="12973"/>
                  <a:pt x="14850" y="12973"/>
                  <a:pt x="14858" y="12973"/>
                </a:cubicBezTo>
              </a:path>
              <a:path w="10419" h="7095">
                <a:moveTo>
                  <a:pt x="4465" y="18628"/>
                </a:moveTo>
                <a:lnTo>
                  <a:pt x="4465" y="18628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9080" y="4626000"/>
            <a:ext cx="2536920" cy="714240"/>
          </a:xfrm>
          <a:custGeom>
            <a:avLst/>
            <a:gdLst/>
            <a:ahLst/>
            <a:rect l="l" t="t" r="r" b="b"/>
            <a:pathLst>
              <a:path w="7046" h="1985">
                <a:moveTo>
                  <a:pt x="12328" y="13891"/>
                </a:moveTo>
                <a:cubicBezTo>
                  <a:pt x="12286" y="13931"/>
                  <a:pt x="12611" y="13921"/>
                  <a:pt x="12650" y="13915"/>
                </a:cubicBezTo>
                <a:cubicBezTo>
                  <a:pt x="12829" y="13886"/>
                  <a:pt x="13114" y="13777"/>
                  <a:pt x="13196" y="13593"/>
                </a:cubicBezTo>
                <a:cubicBezTo>
                  <a:pt x="13247" y="13478"/>
                  <a:pt x="13114" y="13320"/>
                  <a:pt x="12998" y="13320"/>
                </a:cubicBezTo>
                <a:cubicBezTo>
                  <a:pt x="12990" y="13328"/>
                  <a:pt x="12981" y="13337"/>
                  <a:pt x="12973" y="13345"/>
                </a:cubicBezTo>
                <a:cubicBezTo>
                  <a:pt x="12924" y="13476"/>
                  <a:pt x="12804" y="13798"/>
                  <a:pt x="12998" y="13891"/>
                </a:cubicBezTo>
                <a:cubicBezTo>
                  <a:pt x="13126" y="13952"/>
                  <a:pt x="13271" y="13869"/>
                  <a:pt x="13370" y="13816"/>
                </a:cubicBezTo>
              </a:path>
              <a:path w="7046" h="1985">
                <a:moveTo>
                  <a:pt x="13767" y="13543"/>
                </a:moveTo>
                <a:cubicBezTo>
                  <a:pt x="13732" y="13440"/>
                  <a:pt x="13733" y="13350"/>
                  <a:pt x="13593" y="13345"/>
                </a:cubicBezTo>
                <a:cubicBezTo>
                  <a:pt x="13347" y="13337"/>
                  <a:pt x="13417" y="13695"/>
                  <a:pt x="13444" y="13816"/>
                </a:cubicBezTo>
                <a:cubicBezTo>
                  <a:pt x="13681" y="13775"/>
                  <a:pt x="13653" y="13731"/>
                  <a:pt x="13816" y="13568"/>
                </a:cubicBezTo>
                <a:cubicBezTo>
                  <a:pt x="13816" y="13576"/>
                  <a:pt x="13816" y="13585"/>
                  <a:pt x="13816" y="13593"/>
                </a:cubicBezTo>
                <a:cubicBezTo>
                  <a:pt x="13715" y="13947"/>
                  <a:pt x="13606" y="14302"/>
                  <a:pt x="13444" y="14635"/>
                </a:cubicBezTo>
                <a:cubicBezTo>
                  <a:pt x="13374" y="14758"/>
                  <a:pt x="13341" y="14757"/>
                  <a:pt x="13345" y="14833"/>
                </a:cubicBezTo>
                <a:cubicBezTo>
                  <a:pt x="13483" y="14696"/>
                  <a:pt x="13625" y="14584"/>
                  <a:pt x="13643" y="14362"/>
                </a:cubicBezTo>
                <a:cubicBezTo>
                  <a:pt x="13665" y="14090"/>
                  <a:pt x="13465" y="13964"/>
                  <a:pt x="13221" y="13990"/>
                </a:cubicBezTo>
                <a:cubicBezTo>
                  <a:pt x="13213" y="13998"/>
                  <a:pt x="13204" y="14007"/>
                  <a:pt x="13196" y="14015"/>
                </a:cubicBezTo>
                <a:cubicBezTo>
                  <a:pt x="13464" y="14061"/>
                  <a:pt x="13687" y="14007"/>
                  <a:pt x="13915" y="13841"/>
                </a:cubicBezTo>
                <a:cubicBezTo>
                  <a:pt x="14047" y="13709"/>
                  <a:pt x="14080" y="13676"/>
                  <a:pt x="14163" y="13593"/>
                </a:cubicBezTo>
                <a:cubicBezTo>
                  <a:pt x="14161" y="13597"/>
                  <a:pt x="14016" y="13748"/>
                  <a:pt x="14139" y="13841"/>
                </a:cubicBezTo>
                <a:cubicBezTo>
                  <a:pt x="14316" y="13975"/>
                  <a:pt x="14498" y="13699"/>
                  <a:pt x="14585" y="13593"/>
                </a:cubicBezTo>
                <a:cubicBezTo>
                  <a:pt x="14548" y="13569"/>
                  <a:pt x="14431" y="13646"/>
                  <a:pt x="14536" y="13791"/>
                </a:cubicBezTo>
                <a:cubicBezTo>
                  <a:pt x="14630" y="13921"/>
                  <a:pt x="14875" y="13748"/>
                  <a:pt x="14932" y="13667"/>
                </a:cubicBezTo>
                <a:cubicBezTo>
                  <a:pt x="14959" y="13629"/>
                  <a:pt x="14940" y="13611"/>
                  <a:pt x="14957" y="13568"/>
                </a:cubicBezTo>
                <a:cubicBezTo>
                  <a:pt x="14914" y="13673"/>
                  <a:pt x="14804" y="13825"/>
                  <a:pt x="14957" y="13866"/>
                </a:cubicBezTo>
                <a:cubicBezTo>
                  <a:pt x="15140" y="13914"/>
                  <a:pt x="15459" y="13744"/>
                  <a:pt x="15528" y="13568"/>
                </a:cubicBezTo>
                <a:cubicBezTo>
                  <a:pt x="15571" y="13458"/>
                  <a:pt x="15607" y="13034"/>
                  <a:pt x="15478" y="12948"/>
                </a:cubicBezTo>
                <a:cubicBezTo>
                  <a:pt x="15429" y="12923"/>
                  <a:pt x="15412" y="12915"/>
                  <a:pt x="15379" y="12948"/>
                </a:cubicBezTo>
                <a:cubicBezTo>
                  <a:pt x="15308" y="13173"/>
                  <a:pt x="15068" y="13799"/>
                  <a:pt x="15404" y="13915"/>
                </a:cubicBezTo>
                <a:cubicBezTo>
                  <a:pt x="15547" y="13964"/>
                  <a:pt x="15722" y="13863"/>
                  <a:pt x="15850" y="13816"/>
                </a:cubicBezTo>
              </a:path>
              <a:path w="7046" h="1985">
                <a:moveTo>
                  <a:pt x="16470" y="13742"/>
                </a:moveTo>
                <a:cubicBezTo>
                  <a:pt x="16440" y="13660"/>
                  <a:pt x="16390" y="13484"/>
                  <a:pt x="16297" y="13444"/>
                </a:cubicBezTo>
                <a:cubicBezTo>
                  <a:pt x="16141" y="13377"/>
                  <a:pt x="15849" y="13624"/>
                  <a:pt x="15925" y="13791"/>
                </a:cubicBezTo>
                <a:cubicBezTo>
                  <a:pt x="16045" y="14055"/>
                  <a:pt x="16293" y="13711"/>
                  <a:pt x="16346" y="13618"/>
                </a:cubicBezTo>
                <a:cubicBezTo>
                  <a:pt x="16346" y="13610"/>
                  <a:pt x="16346" y="13601"/>
                  <a:pt x="16346" y="13593"/>
                </a:cubicBezTo>
                <a:cubicBezTo>
                  <a:pt x="16283" y="13741"/>
                  <a:pt x="16262" y="13920"/>
                  <a:pt x="16495" y="13891"/>
                </a:cubicBezTo>
                <a:cubicBezTo>
                  <a:pt x="16769" y="13856"/>
                  <a:pt x="16798" y="13439"/>
                  <a:pt x="16818" y="13221"/>
                </a:cubicBezTo>
                <a:cubicBezTo>
                  <a:pt x="16818" y="13171"/>
                  <a:pt x="16818" y="13122"/>
                  <a:pt x="16818" y="13072"/>
                </a:cubicBezTo>
                <a:cubicBezTo>
                  <a:pt x="16737" y="12951"/>
                  <a:pt x="16770" y="13119"/>
                  <a:pt x="16768" y="13271"/>
                </a:cubicBezTo>
                <a:cubicBezTo>
                  <a:pt x="16767" y="13371"/>
                  <a:pt x="16680" y="13851"/>
                  <a:pt x="16793" y="13940"/>
                </a:cubicBezTo>
                <a:cubicBezTo>
                  <a:pt x="16818" y="13940"/>
                  <a:pt x="16842" y="13940"/>
                  <a:pt x="16867" y="13940"/>
                </a:cubicBezTo>
                <a:cubicBezTo>
                  <a:pt x="17012" y="13864"/>
                  <a:pt x="17304" y="13729"/>
                  <a:pt x="17289" y="13519"/>
                </a:cubicBezTo>
                <a:cubicBezTo>
                  <a:pt x="17272" y="13502"/>
                  <a:pt x="17256" y="13486"/>
                  <a:pt x="17239" y="13469"/>
                </a:cubicBezTo>
                <a:cubicBezTo>
                  <a:pt x="17115" y="13537"/>
                  <a:pt x="17035" y="13683"/>
                  <a:pt x="17090" y="13841"/>
                </a:cubicBezTo>
                <a:cubicBezTo>
                  <a:pt x="17115" y="13874"/>
                  <a:pt x="17140" y="13907"/>
                  <a:pt x="17165" y="13940"/>
                </a:cubicBezTo>
                <a:cubicBezTo>
                  <a:pt x="17434" y="13916"/>
                  <a:pt x="17595" y="13856"/>
                  <a:pt x="17686" y="13568"/>
                </a:cubicBezTo>
                <a:cubicBezTo>
                  <a:pt x="17751" y="13360"/>
                  <a:pt x="17626" y="13481"/>
                  <a:pt x="17636" y="13395"/>
                </a:cubicBezTo>
                <a:cubicBezTo>
                  <a:pt x="17644" y="13395"/>
                  <a:pt x="17653" y="13395"/>
                  <a:pt x="17661" y="13395"/>
                </a:cubicBezTo>
                <a:cubicBezTo>
                  <a:pt x="17780" y="13471"/>
                  <a:pt x="17804" y="13457"/>
                  <a:pt x="17735" y="13618"/>
                </a:cubicBezTo>
                <a:cubicBezTo>
                  <a:pt x="17676" y="13756"/>
                  <a:pt x="17694" y="13866"/>
                  <a:pt x="17884" y="13866"/>
                </a:cubicBezTo>
                <a:cubicBezTo>
                  <a:pt x="18014" y="13840"/>
                  <a:pt x="18060" y="13828"/>
                  <a:pt x="18132" y="13767"/>
                </a:cubicBezTo>
              </a:path>
              <a:path w="7046" h="1985">
                <a:moveTo>
                  <a:pt x="18455" y="13643"/>
                </a:moveTo>
                <a:cubicBezTo>
                  <a:pt x="18430" y="13530"/>
                  <a:pt x="18358" y="13381"/>
                  <a:pt x="18207" y="13469"/>
                </a:cubicBezTo>
                <a:cubicBezTo>
                  <a:pt x="18089" y="13587"/>
                  <a:pt x="18049" y="13621"/>
                  <a:pt x="18058" y="13742"/>
                </a:cubicBezTo>
                <a:cubicBezTo>
                  <a:pt x="18188" y="13908"/>
                  <a:pt x="18292" y="13754"/>
                  <a:pt x="18405" y="13618"/>
                </a:cubicBezTo>
                <a:cubicBezTo>
                  <a:pt x="18405" y="13593"/>
                  <a:pt x="18405" y="13585"/>
                  <a:pt x="18405" y="13618"/>
                </a:cubicBezTo>
                <a:cubicBezTo>
                  <a:pt x="18365" y="13738"/>
                  <a:pt x="18398" y="13838"/>
                  <a:pt x="18554" y="13841"/>
                </a:cubicBezTo>
                <a:cubicBezTo>
                  <a:pt x="18878" y="13848"/>
                  <a:pt x="19009" y="13459"/>
                  <a:pt x="19025" y="13196"/>
                </a:cubicBezTo>
                <a:cubicBezTo>
                  <a:pt x="19035" y="13042"/>
                  <a:pt x="18995" y="12943"/>
                  <a:pt x="18901" y="12849"/>
                </a:cubicBezTo>
                <a:cubicBezTo>
                  <a:pt x="18751" y="13063"/>
                  <a:pt x="18676" y="13369"/>
                  <a:pt x="18752" y="13643"/>
                </a:cubicBezTo>
                <a:cubicBezTo>
                  <a:pt x="18842" y="13968"/>
                  <a:pt x="19057" y="13849"/>
                  <a:pt x="19248" y="13742"/>
                </a:cubicBezTo>
                <a:cubicBezTo>
                  <a:pt x="19331" y="13700"/>
                  <a:pt x="19381" y="13692"/>
                  <a:pt x="19298" y="13667"/>
                </a:cubicBezTo>
              </a:path>
              <a:path w="7046" h="1985">
                <a:moveTo>
                  <a:pt x="16520" y="13246"/>
                </a:moveTo>
                <a:cubicBezTo>
                  <a:pt x="16535" y="13200"/>
                  <a:pt x="16798" y="13197"/>
                  <a:pt x="16818" y="13196"/>
                </a:cubicBezTo>
                <a:cubicBezTo>
                  <a:pt x="16974" y="13189"/>
                  <a:pt x="17133" y="13171"/>
                  <a:pt x="17289" y="1317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9000" y="4098960"/>
            <a:ext cx="731880" cy="349200"/>
          </a:xfrm>
          <a:custGeom>
            <a:avLst/>
            <a:gdLst/>
            <a:ahLst/>
            <a:rect l="l" t="t" r="r" b="b"/>
            <a:pathLst>
              <a:path w="2035" h="969">
                <a:moveTo>
                  <a:pt x="12973" y="11931"/>
                </a:moveTo>
                <a:cubicBezTo>
                  <a:pt x="12903" y="12071"/>
                  <a:pt x="12837" y="12211"/>
                  <a:pt x="12774" y="12353"/>
                </a:cubicBezTo>
                <a:cubicBezTo>
                  <a:pt x="12942" y="12329"/>
                  <a:pt x="13100" y="12288"/>
                  <a:pt x="13246" y="12179"/>
                </a:cubicBezTo>
                <a:cubicBezTo>
                  <a:pt x="13398" y="12065"/>
                  <a:pt x="13535" y="11864"/>
                  <a:pt x="13643" y="11733"/>
                </a:cubicBezTo>
                <a:cubicBezTo>
                  <a:pt x="13725" y="11888"/>
                  <a:pt x="13815" y="12051"/>
                  <a:pt x="13667" y="12204"/>
                </a:cubicBezTo>
                <a:cubicBezTo>
                  <a:pt x="13594" y="12280"/>
                  <a:pt x="13464" y="12271"/>
                  <a:pt x="13370" y="12278"/>
                </a:cubicBezTo>
                <a:cubicBezTo>
                  <a:pt x="13447" y="12222"/>
                  <a:pt x="13503" y="12259"/>
                  <a:pt x="13593" y="12229"/>
                </a:cubicBezTo>
                <a:cubicBezTo>
                  <a:pt x="13817" y="12154"/>
                  <a:pt x="14138" y="11994"/>
                  <a:pt x="14288" y="11807"/>
                </a:cubicBezTo>
                <a:cubicBezTo>
                  <a:pt x="14288" y="11790"/>
                  <a:pt x="14288" y="11774"/>
                  <a:pt x="14288" y="11757"/>
                </a:cubicBezTo>
                <a:cubicBezTo>
                  <a:pt x="14217" y="11890"/>
                  <a:pt x="14122" y="12070"/>
                  <a:pt x="14089" y="12229"/>
                </a:cubicBezTo>
                <a:cubicBezTo>
                  <a:pt x="14023" y="12543"/>
                  <a:pt x="14427" y="12227"/>
                  <a:pt x="14486" y="12154"/>
                </a:cubicBezTo>
                <a:cubicBezTo>
                  <a:pt x="14636" y="11966"/>
                  <a:pt x="14655" y="11732"/>
                  <a:pt x="14362" y="11683"/>
                </a:cubicBezTo>
                <a:cubicBezTo>
                  <a:pt x="14206" y="11657"/>
                  <a:pt x="14163" y="11758"/>
                  <a:pt x="14114" y="11857"/>
                </a:cubicBezTo>
                <a:cubicBezTo>
                  <a:pt x="14319" y="12023"/>
                  <a:pt x="14546" y="12028"/>
                  <a:pt x="14734" y="11782"/>
                </a:cubicBezTo>
                <a:cubicBezTo>
                  <a:pt x="14763" y="11743"/>
                  <a:pt x="14894" y="11278"/>
                  <a:pt x="14684" y="11385"/>
                </a:cubicBezTo>
                <a:cubicBezTo>
                  <a:pt x="14632" y="11411"/>
                  <a:pt x="14660" y="11551"/>
                  <a:pt x="14660" y="1160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4880" y="2795760"/>
            <a:ext cx="750960" cy="500040"/>
          </a:xfrm>
          <a:custGeom>
            <a:avLst/>
            <a:gdLst/>
            <a:ahLst/>
            <a:rect l="l" t="t" r="r" b="b"/>
            <a:pathLst>
              <a:path w="2085" h="1390">
                <a:moveTo>
                  <a:pt x="5333" y="9079"/>
                </a:moveTo>
                <a:cubicBezTo>
                  <a:pt x="5423" y="9094"/>
                  <a:pt x="5515" y="9111"/>
                  <a:pt x="5606" y="9128"/>
                </a:cubicBezTo>
                <a:cubicBezTo>
                  <a:pt x="5811" y="9166"/>
                  <a:pt x="6018" y="9153"/>
                  <a:pt x="6226" y="9153"/>
                </a:cubicBezTo>
                <a:cubicBezTo>
                  <a:pt x="6361" y="9153"/>
                  <a:pt x="6523" y="9141"/>
                  <a:pt x="6648" y="9079"/>
                </a:cubicBezTo>
                <a:cubicBezTo>
                  <a:pt x="6741" y="9033"/>
                  <a:pt x="6828" y="8978"/>
                  <a:pt x="6921" y="8930"/>
                </a:cubicBezTo>
                <a:cubicBezTo>
                  <a:pt x="6979" y="8900"/>
                  <a:pt x="7102" y="8830"/>
                  <a:pt x="7119" y="8756"/>
                </a:cubicBezTo>
                <a:cubicBezTo>
                  <a:pt x="7137" y="8678"/>
                  <a:pt x="7166" y="8630"/>
                  <a:pt x="7193" y="8558"/>
                </a:cubicBezTo>
                <a:cubicBezTo>
                  <a:pt x="7228" y="8465"/>
                  <a:pt x="7246" y="8425"/>
                  <a:pt x="7268" y="8334"/>
                </a:cubicBezTo>
                <a:cubicBezTo>
                  <a:pt x="7291" y="8242"/>
                  <a:pt x="7279" y="8146"/>
                  <a:pt x="7218" y="8062"/>
                </a:cubicBezTo>
                <a:cubicBezTo>
                  <a:pt x="7175" y="8003"/>
                  <a:pt x="7095" y="7931"/>
                  <a:pt x="7045" y="7888"/>
                </a:cubicBezTo>
                <a:cubicBezTo>
                  <a:pt x="6951" y="7808"/>
                  <a:pt x="6791" y="7775"/>
                  <a:pt x="6672" y="7764"/>
                </a:cubicBezTo>
                <a:cubicBezTo>
                  <a:pt x="6458" y="7745"/>
                  <a:pt x="6213" y="7748"/>
                  <a:pt x="6003" y="7789"/>
                </a:cubicBezTo>
                <a:cubicBezTo>
                  <a:pt x="5888" y="7812"/>
                  <a:pt x="5763" y="7841"/>
                  <a:pt x="5655" y="7888"/>
                </a:cubicBezTo>
                <a:cubicBezTo>
                  <a:pt x="5548" y="7935"/>
                  <a:pt x="5426" y="8011"/>
                  <a:pt x="5358" y="8111"/>
                </a:cubicBezTo>
                <a:cubicBezTo>
                  <a:pt x="5283" y="8222"/>
                  <a:pt x="5261" y="8312"/>
                  <a:pt x="5234" y="8434"/>
                </a:cubicBezTo>
                <a:cubicBezTo>
                  <a:pt x="5211" y="8534"/>
                  <a:pt x="5211" y="8606"/>
                  <a:pt x="5234" y="8706"/>
                </a:cubicBezTo>
                <a:cubicBezTo>
                  <a:pt x="5253" y="8789"/>
                  <a:pt x="5296" y="8877"/>
                  <a:pt x="5333" y="8954"/>
                </a:cubicBezTo>
                <a:cubicBezTo>
                  <a:pt x="5363" y="9017"/>
                  <a:pt x="5444" y="9099"/>
                  <a:pt x="5507" y="9128"/>
                </a:cubicBezTo>
                <a:cubicBezTo>
                  <a:pt x="5577" y="9160"/>
                  <a:pt x="5633" y="9150"/>
                  <a:pt x="5705" y="9153"/>
                </a:cubicBezTo>
                <a:cubicBezTo>
                  <a:pt x="5730" y="9153"/>
                  <a:pt x="5738" y="9153"/>
                  <a:pt x="5755" y="915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280" y="4687920"/>
            <a:ext cx="268560" cy="322200"/>
          </a:xfrm>
          <a:custGeom>
            <a:avLst/>
            <a:gdLst/>
            <a:ahLst/>
            <a:rect l="l" t="t" r="r" b="b"/>
            <a:pathLst>
              <a:path w="745" h="894">
                <a:moveTo>
                  <a:pt x="719" y="13146"/>
                </a:moveTo>
                <a:cubicBezTo>
                  <a:pt x="708" y="13114"/>
                  <a:pt x="680" y="13116"/>
                  <a:pt x="670" y="13097"/>
                </a:cubicBezTo>
                <a:cubicBezTo>
                  <a:pt x="670" y="13089"/>
                  <a:pt x="670" y="13080"/>
                  <a:pt x="670" y="13072"/>
                </a:cubicBezTo>
                <a:cubicBezTo>
                  <a:pt x="721" y="13295"/>
                  <a:pt x="770" y="13545"/>
                  <a:pt x="843" y="13767"/>
                </a:cubicBezTo>
                <a:cubicBezTo>
                  <a:pt x="877" y="13871"/>
                  <a:pt x="893" y="13839"/>
                  <a:pt x="893" y="13915"/>
                </a:cubicBezTo>
              </a:path>
              <a:path w="745" h="894">
                <a:moveTo>
                  <a:pt x="496" y="13915"/>
                </a:moveTo>
                <a:cubicBezTo>
                  <a:pt x="541" y="13782"/>
                  <a:pt x="639" y="13664"/>
                  <a:pt x="744" y="13568"/>
                </a:cubicBezTo>
                <a:cubicBezTo>
                  <a:pt x="829" y="13490"/>
                  <a:pt x="928" y="13341"/>
                  <a:pt x="1042" y="13320"/>
                </a:cubicBezTo>
                <a:cubicBezTo>
                  <a:pt x="1050" y="13320"/>
                  <a:pt x="1059" y="13320"/>
                  <a:pt x="1067" y="13320"/>
                </a:cubicBezTo>
              </a:path>
              <a:path w="745" h="894">
                <a:moveTo>
                  <a:pt x="967" y="13022"/>
                </a:moveTo>
                <a:cubicBezTo>
                  <a:pt x="897" y="13280"/>
                  <a:pt x="830" y="13551"/>
                  <a:pt x="794" y="13816"/>
                </a:cubicBezTo>
                <a:cubicBezTo>
                  <a:pt x="778" y="13935"/>
                  <a:pt x="809" y="13934"/>
                  <a:pt x="769" y="13841"/>
                </a:cubicBezTo>
              </a:path>
              <a:path w="745" h="894">
                <a:moveTo>
                  <a:pt x="347" y="13444"/>
                </a:moveTo>
                <a:cubicBezTo>
                  <a:pt x="458" y="13444"/>
                  <a:pt x="561" y="13463"/>
                  <a:pt x="670" y="13469"/>
                </a:cubicBezTo>
                <a:cubicBezTo>
                  <a:pt x="809" y="13477"/>
                  <a:pt x="951" y="13469"/>
                  <a:pt x="1091" y="1346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Compare and classify triangles by angle measure and sides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 of Angle Measures of a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the angle measures of a triangle is 180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3962520"/>
            <a:ext cx="4267440" cy="175248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541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3880" y="3200400"/>
          <a:ext cx="3594240" cy="3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200400"/>
                    <a:ext cx="3594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9080" y="2108160"/>
            <a:ext cx="7251840" cy="579600"/>
          </a:xfrm>
          <a:custGeom>
            <a:avLst/>
            <a:gdLst/>
            <a:ahLst/>
            <a:rect l="l" t="t" r="r" b="b"/>
            <a:pathLst>
              <a:path w="20142" h="1613">
                <a:moveTo>
                  <a:pt x="4217" y="6052"/>
                </a:moveTo>
                <a:cubicBezTo>
                  <a:pt x="4258" y="6049"/>
                  <a:pt x="4338" y="6033"/>
                  <a:pt x="4390" y="6028"/>
                </a:cubicBezTo>
                <a:cubicBezTo>
                  <a:pt x="4583" y="6009"/>
                  <a:pt x="4767" y="6016"/>
                  <a:pt x="4961" y="6003"/>
                </a:cubicBezTo>
                <a:cubicBezTo>
                  <a:pt x="5047" y="5997"/>
                  <a:pt x="5123" y="5981"/>
                  <a:pt x="5209" y="5978"/>
                </a:cubicBezTo>
                <a:cubicBezTo>
                  <a:pt x="5355" y="5973"/>
                  <a:pt x="5490" y="5995"/>
                  <a:pt x="5631" y="6003"/>
                </a:cubicBezTo>
                <a:cubicBezTo>
                  <a:pt x="5929" y="6019"/>
                  <a:pt x="6224" y="6025"/>
                  <a:pt x="6524" y="6028"/>
                </a:cubicBezTo>
                <a:cubicBezTo>
                  <a:pt x="6988" y="6032"/>
                  <a:pt x="7451" y="6066"/>
                  <a:pt x="7913" y="6052"/>
                </a:cubicBezTo>
                <a:cubicBezTo>
                  <a:pt x="9026" y="6017"/>
                  <a:pt x="10129" y="6001"/>
                  <a:pt x="11237" y="5904"/>
                </a:cubicBezTo>
                <a:cubicBezTo>
                  <a:pt x="11393" y="5890"/>
                  <a:pt x="11552" y="5890"/>
                  <a:pt x="11708" y="5879"/>
                </a:cubicBezTo>
                <a:cubicBezTo>
                  <a:pt x="11875" y="5867"/>
                  <a:pt x="12036" y="5859"/>
                  <a:pt x="12204" y="5854"/>
                </a:cubicBezTo>
                <a:cubicBezTo>
                  <a:pt x="13440" y="5819"/>
                  <a:pt x="14673" y="5887"/>
                  <a:pt x="15900" y="5928"/>
                </a:cubicBezTo>
                <a:cubicBezTo>
                  <a:pt x="16108" y="5935"/>
                  <a:pt x="16313" y="5938"/>
                  <a:pt x="16520" y="5953"/>
                </a:cubicBezTo>
                <a:cubicBezTo>
                  <a:pt x="16735" y="5969"/>
                  <a:pt x="16950" y="5987"/>
                  <a:pt x="17165" y="6003"/>
                </a:cubicBezTo>
                <a:cubicBezTo>
                  <a:pt x="17413" y="6021"/>
                  <a:pt x="17661" y="6036"/>
                  <a:pt x="17909" y="6052"/>
                </a:cubicBezTo>
                <a:cubicBezTo>
                  <a:pt x="18207" y="6071"/>
                  <a:pt x="18508" y="6065"/>
                  <a:pt x="18802" y="6077"/>
                </a:cubicBezTo>
                <a:cubicBezTo>
                  <a:pt x="19051" y="6087"/>
                  <a:pt x="19296" y="6100"/>
                  <a:pt x="19546" y="6102"/>
                </a:cubicBezTo>
                <a:cubicBezTo>
                  <a:pt x="20321" y="6108"/>
                  <a:pt x="21082" y="6051"/>
                  <a:pt x="21853" y="6028"/>
                </a:cubicBezTo>
                <a:cubicBezTo>
                  <a:pt x="22059" y="6022"/>
                  <a:pt x="23137" y="5907"/>
                  <a:pt x="22374" y="6052"/>
                </a:cubicBezTo>
              </a:path>
              <a:path w="20142" h="1613">
                <a:moveTo>
                  <a:pt x="2555" y="7466"/>
                </a:moveTo>
                <a:cubicBezTo>
                  <a:pt x="2632" y="7379"/>
                  <a:pt x="2693" y="7368"/>
                  <a:pt x="2828" y="7342"/>
                </a:cubicBezTo>
                <a:cubicBezTo>
                  <a:pt x="3036" y="7302"/>
                  <a:pt x="3261" y="7296"/>
                  <a:pt x="3473" y="7293"/>
                </a:cubicBezTo>
                <a:cubicBezTo>
                  <a:pt x="3699" y="7290"/>
                  <a:pt x="3918" y="7256"/>
                  <a:pt x="4142" y="7243"/>
                </a:cubicBezTo>
                <a:cubicBezTo>
                  <a:pt x="4328" y="7233"/>
                  <a:pt x="4504" y="7185"/>
                  <a:pt x="4688" y="7169"/>
                </a:cubicBezTo>
                <a:cubicBezTo>
                  <a:pt x="4893" y="7151"/>
                  <a:pt x="5103" y="7165"/>
                  <a:pt x="5308" y="7144"/>
                </a:cubicBezTo>
                <a:cubicBezTo>
                  <a:pt x="5416" y="7133"/>
                  <a:pt x="5524" y="7108"/>
                  <a:pt x="5631" y="7094"/>
                </a:cubicBezTo>
                <a:cubicBezTo>
                  <a:pt x="5639" y="7094"/>
                  <a:pt x="5647" y="7094"/>
                  <a:pt x="5655" y="709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43080" y="3357720"/>
            <a:ext cx="2116080" cy="36360"/>
          </a:xfrm>
          <a:custGeom>
            <a:avLst/>
            <a:gdLst/>
            <a:ahLst/>
            <a:rect l="l" t="t" r="r" b="b"/>
            <a:pathLst>
              <a:path w="5880" h="100">
                <a:moveTo>
                  <a:pt x="5953" y="9426"/>
                </a:moveTo>
                <a:cubicBezTo>
                  <a:pt x="6070" y="9371"/>
                  <a:pt x="6149" y="9342"/>
                  <a:pt x="6276" y="9327"/>
                </a:cubicBezTo>
              </a:path>
              <a:path w="5880" h="100">
                <a:moveTo>
                  <a:pt x="11485" y="9401"/>
                </a:moveTo>
                <a:cubicBezTo>
                  <a:pt x="11650" y="9373"/>
                  <a:pt x="11716" y="9363"/>
                  <a:pt x="11832" y="935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76200" y="3214800"/>
            <a:ext cx="2679840" cy="322200"/>
          </a:xfrm>
          <a:custGeom>
            <a:avLst/>
            <a:gdLst/>
            <a:ahLst/>
            <a:rect l="l" t="t" r="r" b="b"/>
            <a:pathLst>
              <a:path w="7442" h="894">
                <a:moveTo>
                  <a:pt x="3572" y="9451"/>
                </a:moveTo>
                <a:cubicBezTo>
                  <a:pt x="3572" y="9540"/>
                  <a:pt x="3575" y="9638"/>
                  <a:pt x="3547" y="9723"/>
                </a:cubicBezTo>
                <a:cubicBezTo>
                  <a:pt x="3547" y="9699"/>
                  <a:pt x="3547" y="9690"/>
                  <a:pt x="3547" y="9674"/>
                </a:cubicBezTo>
                <a:cubicBezTo>
                  <a:pt x="3547" y="9673"/>
                  <a:pt x="3685" y="9330"/>
                  <a:pt x="3721" y="9376"/>
                </a:cubicBezTo>
                <a:cubicBezTo>
                  <a:pt x="3791" y="9467"/>
                  <a:pt x="3788" y="9568"/>
                  <a:pt x="3795" y="9674"/>
                </a:cubicBezTo>
                <a:cubicBezTo>
                  <a:pt x="3795" y="9660"/>
                  <a:pt x="3843" y="9491"/>
                  <a:pt x="3894" y="9401"/>
                </a:cubicBezTo>
                <a:cubicBezTo>
                  <a:pt x="3999" y="9414"/>
                  <a:pt x="4068" y="9477"/>
                  <a:pt x="4068" y="9599"/>
                </a:cubicBezTo>
                <a:cubicBezTo>
                  <a:pt x="4068" y="9671"/>
                  <a:pt x="4043" y="9747"/>
                  <a:pt x="4043" y="9823"/>
                </a:cubicBezTo>
              </a:path>
              <a:path w="7442" h="894">
                <a:moveTo>
                  <a:pt x="5060" y="9079"/>
                </a:moveTo>
                <a:cubicBezTo>
                  <a:pt x="4869" y="9174"/>
                  <a:pt x="4698" y="9354"/>
                  <a:pt x="4514" y="9475"/>
                </a:cubicBezTo>
                <a:cubicBezTo>
                  <a:pt x="4450" y="9517"/>
                  <a:pt x="4323" y="9597"/>
                  <a:pt x="4242" y="9624"/>
                </a:cubicBezTo>
                <a:cubicBezTo>
                  <a:pt x="4390" y="9649"/>
                  <a:pt x="4477" y="9645"/>
                  <a:pt x="4638" y="9624"/>
                </a:cubicBezTo>
                <a:cubicBezTo>
                  <a:pt x="4687" y="9618"/>
                  <a:pt x="4986" y="9549"/>
                  <a:pt x="5035" y="9599"/>
                </a:cubicBezTo>
                <a:cubicBezTo>
                  <a:pt x="5035" y="9607"/>
                  <a:pt x="5035" y="9616"/>
                  <a:pt x="5035" y="9624"/>
                </a:cubicBezTo>
              </a:path>
              <a:path w="7442" h="894">
                <a:moveTo>
                  <a:pt x="5457" y="9153"/>
                </a:moveTo>
                <a:cubicBezTo>
                  <a:pt x="5398" y="9330"/>
                  <a:pt x="5329" y="9501"/>
                  <a:pt x="5259" y="9674"/>
                </a:cubicBezTo>
                <a:cubicBezTo>
                  <a:pt x="5184" y="9649"/>
                  <a:pt x="5323" y="9369"/>
                  <a:pt x="5333" y="9351"/>
                </a:cubicBezTo>
                <a:cubicBezTo>
                  <a:pt x="5412" y="9209"/>
                  <a:pt x="5510" y="9080"/>
                  <a:pt x="5631" y="8979"/>
                </a:cubicBezTo>
                <a:cubicBezTo>
                  <a:pt x="5691" y="9164"/>
                  <a:pt x="5676" y="9357"/>
                  <a:pt x="5655" y="9550"/>
                </a:cubicBezTo>
                <a:cubicBezTo>
                  <a:pt x="5634" y="9657"/>
                  <a:pt x="5626" y="9681"/>
                  <a:pt x="5631" y="9748"/>
                </a:cubicBezTo>
              </a:path>
              <a:path w="7442" h="894">
                <a:moveTo>
                  <a:pt x="5358" y="9475"/>
                </a:moveTo>
                <a:cubicBezTo>
                  <a:pt x="5433" y="9433"/>
                  <a:pt x="5518" y="9407"/>
                  <a:pt x="5606" y="9401"/>
                </a:cubicBezTo>
                <a:cubicBezTo>
                  <a:pt x="5614" y="9401"/>
                  <a:pt x="5623" y="9401"/>
                  <a:pt x="5631" y="9401"/>
                </a:cubicBezTo>
              </a:path>
              <a:path w="7442" h="894">
                <a:moveTo>
                  <a:pt x="6077" y="9227"/>
                </a:moveTo>
                <a:cubicBezTo>
                  <a:pt x="6068" y="9301"/>
                  <a:pt x="6060" y="9441"/>
                  <a:pt x="6028" y="9500"/>
                </a:cubicBezTo>
                <a:cubicBezTo>
                  <a:pt x="6020" y="9500"/>
                  <a:pt x="6011" y="9500"/>
                  <a:pt x="6003" y="9500"/>
                </a:cubicBezTo>
              </a:path>
              <a:path w="7442" h="894">
                <a:moveTo>
                  <a:pt x="6375" y="9475"/>
                </a:moveTo>
                <a:cubicBezTo>
                  <a:pt x="6336" y="9582"/>
                  <a:pt x="6234" y="9903"/>
                  <a:pt x="6276" y="9798"/>
                </a:cubicBezTo>
                <a:cubicBezTo>
                  <a:pt x="6284" y="9773"/>
                  <a:pt x="6292" y="9748"/>
                  <a:pt x="6300" y="9723"/>
                </a:cubicBezTo>
                <a:cubicBezTo>
                  <a:pt x="6313" y="9682"/>
                  <a:pt x="6378" y="9376"/>
                  <a:pt x="6474" y="9426"/>
                </a:cubicBezTo>
                <a:cubicBezTo>
                  <a:pt x="6566" y="9474"/>
                  <a:pt x="6543" y="9591"/>
                  <a:pt x="6548" y="9674"/>
                </a:cubicBezTo>
                <a:cubicBezTo>
                  <a:pt x="6512" y="9702"/>
                  <a:pt x="6513" y="9716"/>
                  <a:pt x="6499" y="9674"/>
                </a:cubicBezTo>
                <a:cubicBezTo>
                  <a:pt x="6542" y="9539"/>
                  <a:pt x="6541" y="9452"/>
                  <a:pt x="6697" y="9426"/>
                </a:cubicBezTo>
                <a:cubicBezTo>
                  <a:pt x="6738" y="9534"/>
                  <a:pt x="6785" y="9683"/>
                  <a:pt x="6722" y="9798"/>
                </a:cubicBezTo>
                <a:cubicBezTo>
                  <a:pt x="6714" y="9798"/>
                  <a:pt x="6705" y="9798"/>
                  <a:pt x="6697" y="9798"/>
                </a:cubicBezTo>
              </a:path>
              <a:path w="7442" h="894">
                <a:moveTo>
                  <a:pt x="7417" y="9103"/>
                </a:moveTo>
                <a:cubicBezTo>
                  <a:pt x="7381" y="9284"/>
                  <a:pt x="7231" y="9369"/>
                  <a:pt x="7094" y="9475"/>
                </a:cubicBezTo>
                <a:cubicBezTo>
                  <a:pt x="6990" y="9556"/>
                  <a:pt x="6875" y="9620"/>
                  <a:pt x="6772" y="9699"/>
                </a:cubicBezTo>
                <a:cubicBezTo>
                  <a:pt x="6966" y="9699"/>
                  <a:pt x="7151" y="9658"/>
                  <a:pt x="7342" y="9624"/>
                </a:cubicBezTo>
                <a:cubicBezTo>
                  <a:pt x="7450" y="9602"/>
                  <a:pt x="7477" y="9589"/>
                  <a:pt x="7541" y="9624"/>
                </a:cubicBezTo>
              </a:path>
              <a:path w="7442" h="894">
                <a:moveTo>
                  <a:pt x="7789" y="9227"/>
                </a:moveTo>
                <a:cubicBezTo>
                  <a:pt x="7765" y="9391"/>
                  <a:pt x="7731" y="9557"/>
                  <a:pt x="7714" y="9723"/>
                </a:cubicBezTo>
                <a:cubicBezTo>
                  <a:pt x="7714" y="9740"/>
                  <a:pt x="7714" y="9756"/>
                  <a:pt x="7714" y="9773"/>
                </a:cubicBezTo>
                <a:cubicBezTo>
                  <a:pt x="7714" y="9595"/>
                  <a:pt x="7766" y="9468"/>
                  <a:pt x="7838" y="9302"/>
                </a:cubicBezTo>
                <a:cubicBezTo>
                  <a:pt x="7874" y="9218"/>
                  <a:pt x="8080" y="8822"/>
                  <a:pt x="8186" y="9029"/>
                </a:cubicBezTo>
                <a:cubicBezTo>
                  <a:pt x="8262" y="9177"/>
                  <a:pt x="8149" y="9239"/>
                  <a:pt x="8062" y="9327"/>
                </a:cubicBezTo>
                <a:cubicBezTo>
                  <a:pt x="7988" y="9345"/>
                  <a:pt x="7981" y="9353"/>
                  <a:pt x="7938" y="9351"/>
                </a:cubicBezTo>
                <a:cubicBezTo>
                  <a:pt x="8063" y="9315"/>
                  <a:pt x="8157" y="9252"/>
                  <a:pt x="8210" y="9426"/>
                </a:cubicBezTo>
                <a:cubicBezTo>
                  <a:pt x="8270" y="9624"/>
                  <a:pt x="8022" y="9766"/>
                  <a:pt x="7863" y="9773"/>
                </a:cubicBezTo>
                <a:cubicBezTo>
                  <a:pt x="7685" y="9780"/>
                  <a:pt x="7705" y="9718"/>
                  <a:pt x="7714" y="9599"/>
                </a:cubicBezTo>
              </a:path>
              <a:path w="7442" h="894">
                <a:moveTo>
                  <a:pt x="8508" y="9252"/>
                </a:moveTo>
                <a:cubicBezTo>
                  <a:pt x="8502" y="9352"/>
                  <a:pt x="8554" y="9621"/>
                  <a:pt x="8483" y="9550"/>
                </a:cubicBezTo>
                <a:cubicBezTo>
                  <a:pt x="8475" y="9533"/>
                  <a:pt x="8466" y="9517"/>
                  <a:pt x="8458" y="9500"/>
                </a:cubicBezTo>
              </a:path>
              <a:path w="7442" h="894">
                <a:moveTo>
                  <a:pt x="8409" y="9401"/>
                </a:moveTo>
                <a:cubicBezTo>
                  <a:pt x="8530" y="9372"/>
                  <a:pt x="8632" y="9357"/>
                  <a:pt x="8756" y="9351"/>
                </a:cubicBezTo>
              </a:path>
              <a:path w="7442" h="894">
                <a:moveTo>
                  <a:pt x="8830" y="9376"/>
                </a:moveTo>
                <a:cubicBezTo>
                  <a:pt x="8830" y="9484"/>
                  <a:pt x="8830" y="9591"/>
                  <a:pt x="8830" y="9699"/>
                </a:cubicBezTo>
                <a:cubicBezTo>
                  <a:pt x="8864" y="9631"/>
                  <a:pt x="8881" y="9420"/>
                  <a:pt x="8954" y="9376"/>
                </a:cubicBezTo>
                <a:cubicBezTo>
                  <a:pt x="8981" y="9360"/>
                  <a:pt x="9026" y="9587"/>
                  <a:pt x="9029" y="9599"/>
                </a:cubicBezTo>
                <a:cubicBezTo>
                  <a:pt x="8941" y="9657"/>
                  <a:pt x="9070" y="9439"/>
                  <a:pt x="9079" y="9426"/>
                </a:cubicBezTo>
                <a:cubicBezTo>
                  <a:pt x="9209" y="9249"/>
                  <a:pt x="9315" y="9388"/>
                  <a:pt x="9302" y="9550"/>
                </a:cubicBezTo>
                <a:cubicBezTo>
                  <a:pt x="9281" y="9634"/>
                  <a:pt x="9279" y="9653"/>
                  <a:pt x="9252" y="9699"/>
                </a:cubicBezTo>
              </a:path>
              <a:path w="7442" h="894">
                <a:moveTo>
                  <a:pt x="10071" y="9004"/>
                </a:moveTo>
                <a:cubicBezTo>
                  <a:pt x="10126" y="8960"/>
                  <a:pt x="10168" y="8979"/>
                  <a:pt x="10220" y="8954"/>
                </a:cubicBezTo>
                <a:cubicBezTo>
                  <a:pt x="10228" y="8946"/>
                  <a:pt x="10236" y="8938"/>
                  <a:pt x="10244" y="8930"/>
                </a:cubicBezTo>
                <a:cubicBezTo>
                  <a:pt x="10125" y="9136"/>
                  <a:pt x="9891" y="9284"/>
                  <a:pt x="9699" y="9426"/>
                </a:cubicBezTo>
                <a:cubicBezTo>
                  <a:pt x="9564" y="9522"/>
                  <a:pt x="9540" y="9530"/>
                  <a:pt x="9475" y="9599"/>
                </a:cubicBezTo>
                <a:cubicBezTo>
                  <a:pt x="9656" y="9580"/>
                  <a:pt x="9838" y="9535"/>
                  <a:pt x="10021" y="9525"/>
                </a:cubicBezTo>
                <a:cubicBezTo>
                  <a:pt x="10144" y="9518"/>
                  <a:pt x="10270" y="9525"/>
                  <a:pt x="10393" y="9525"/>
                </a:cubicBezTo>
              </a:path>
              <a:path w="7442" h="894">
                <a:moveTo>
                  <a:pt x="10939" y="9079"/>
                </a:moveTo>
                <a:cubicBezTo>
                  <a:pt x="10964" y="9087"/>
                  <a:pt x="11031" y="9095"/>
                  <a:pt x="10939" y="8979"/>
                </a:cubicBezTo>
                <a:cubicBezTo>
                  <a:pt x="10759" y="8752"/>
                  <a:pt x="10425" y="9197"/>
                  <a:pt x="10393" y="9327"/>
                </a:cubicBezTo>
                <a:cubicBezTo>
                  <a:pt x="10315" y="9641"/>
                  <a:pt x="10640" y="9745"/>
                  <a:pt x="10864" y="9624"/>
                </a:cubicBezTo>
                <a:cubicBezTo>
                  <a:pt x="10900" y="9605"/>
                  <a:pt x="10977" y="9533"/>
                  <a:pt x="10988" y="95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3240" y="3321000"/>
            <a:ext cx="125640" cy="19080"/>
          </a:xfrm>
          <a:custGeom>
            <a:avLst/>
            <a:gdLst/>
            <a:ahLst/>
            <a:rect l="l" t="t" r="r" b="b"/>
            <a:pathLst>
              <a:path w="349" h="51">
                <a:moveTo>
                  <a:pt x="11509" y="9277"/>
                </a:moveTo>
                <a:cubicBezTo>
                  <a:pt x="11628" y="9237"/>
                  <a:pt x="11730" y="9227"/>
                  <a:pt x="11857" y="922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56080" y="3214800"/>
            <a:ext cx="625680" cy="295200"/>
          </a:xfrm>
          <a:custGeom>
            <a:avLst/>
            <a:gdLst/>
            <a:ahLst/>
            <a:rect l="l" t="t" r="r" b="b"/>
            <a:pathLst>
              <a:path w="1737" h="819">
                <a:moveTo>
                  <a:pt x="12477" y="8930"/>
                </a:moveTo>
                <a:cubicBezTo>
                  <a:pt x="12477" y="9151"/>
                  <a:pt x="12440" y="9358"/>
                  <a:pt x="12402" y="9575"/>
                </a:cubicBezTo>
                <a:cubicBezTo>
                  <a:pt x="12387" y="9661"/>
                  <a:pt x="12343" y="9820"/>
                  <a:pt x="12427" y="9674"/>
                </a:cubicBezTo>
              </a:path>
              <a:path w="1737" h="819">
                <a:moveTo>
                  <a:pt x="13246" y="9103"/>
                </a:moveTo>
                <a:cubicBezTo>
                  <a:pt x="13110" y="9046"/>
                  <a:pt x="12958" y="9024"/>
                  <a:pt x="12824" y="9128"/>
                </a:cubicBezTo>
                <a:cubicBezTo>
                  <a:pt x="12816" y="9145"/>
                  <a:pt x="12807" y="9161"/>
                  <a:pt x="12799" y="9178"/>
                </a:cubicBezTo>
                <a:cubicBezTo>
                  <a:pt x="12872" y="9281"/>
                  <a:pt x="13173" y="9480"/>
                  <a:pt x="13072" y="9624"/>
                </a:cubicBezTo>
                <a:cubicBezTo>
                  <a:pt x="12982" y="9669"/>
                  <a:pt x="12960" y="9689"/>
                  <a:pt x="12898" y="9649"/>
                </a:cubicBezTo>
                <a:cubicBezTo>
                  <a:pt x="12899" y="9407"/>
                  <a:pt x="13031" y="9344"/>
                  <a:pt x="13171" y="9153"/>
                </a:cubicBezTo>
                <a:cubicBezTo>
                  <a:pt x="13171" y="9145"/>
                  <a:pt x="13171" y="9136"/>
                  <a:pt x="13171" y="9128"/>
                </a:cubicBezTo>
              </a:path>
              <a:path w="1737" h="819">
                <a:moveTo>
                  <a:pt x="13543" y="9054"/>
                </a:moveTo>
                <a:cubicBezTo>
                  <a:pt x="13393" y="9176"/>
                  <a:pt x="13279" y="9367"/>
                  <a:pt x="13295" y="9575"/>
                </a:cubicBezTo>
                <a:cubicBezTo>
                  <a:pt x="13312" y="9616"/>
                  <a:pt x="13328" y="9658"/>
                  <a:pt x="13345" y="9699"/>
                </a:cubicBezTo>
                <a:cubicBezTo>
                  <a:pt x="13590" y="9713"/>
                  <a:pt x="13667" y="9588"/>
                  <a:pt x="13643" y="9327"/>
                </a:cubicBezTo>
                <a:cubicBezTo>
                  <a:pt x="13631" y="9194"/>
                  <a:pt x="13539" y="9019"/>
                  <a:pt x="13419" y="9079"/>
                </a:cubicBezTo>
              </a:path>
              <a:path w="1737" h="819">
                <a:moveTo>
                  <a:pt x="13990" y="9029"/>
                </a:moveTo>
                <a:cubicBezTo>
                  <a:pt x="13886" y="9115"/>
                  <a:pt x="13856" y="9199"/>
                  <a:pt x="13866" y="9327"/>
                </a:cubicBezTo>
                <a:cubicBezTo>
                  <a:pt x="13944" y="9339"/>
                  <a:pt x="14244" y="9290"/>
                  <a:pt x="14114" y="9128"/>
                </a:cubicBezTo>
                <a:cubicBezTo>
                  <a:pt x="14015" y="9103"/>
                  <a:pt x="13981" y="9095"/>
                  <a:pt x="13915" y="912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7240" y="3606840"/>
            <a:ext cx="8010720" cy="2179440"/>
          </a:xfrm>
          <a:custGeom>
            <a:avLst/>
            <a:gdLst/>
            <a:ahLst/>
            <a:rect l="l" t="t" r="r" b="b"/>
            <a:pathLst>
              <a:path w="22251" h="6053">
                <a:moveTo>
                  <a:pt x="7987" y="12725"/>
                </a:moveTo>
                <a:cubicBezTo>
                  <a:pt x="8234" y="12718"/>
                  <a:pt x="8492" y="12721"/>
                  <a:pt x="8731" y="12650"/>
                </a:cubicBezTo>
                <a:cubicBezTo>
                  <a:pt x="8748" y="12642"/>
                  <a:pt x="8764" y="12634"/>
                  <a:pt x="8781" y="12626"/>
                </a:cubicBezTo>
              </a:path>
              <a:path w="22251" h="6053">
                <a:moveTo>
                  <a:pt x="10542" y="12849"/>
                </a:moveTo>
                <a:cubicBezTo>
                  <a:pt x="10542" y="12841"/>
                  <a:pt x="10542" y="12832"/>
                  <a:pt x="10542" y="12824"/>
                </a:cubicBezTo>
              </a:path>
              <a:path w="22251" h="6053">
                <a:moveTo>
                  <a:pt x="10542" y="12824"/>
                </a:moveTo>
                <a:lnTo>
                  <a:pt x="10542" y="12824"/>
                </a:lnTo>
              </a:path>
              <a:path w="22251" h="6053">
                <a:moveTo>
                  <a:pt x="8086" y="16049"/>
                </a:moveTo>
                <a:cubicBezTo>
                  <a:pt x="8086" y="16057"/>
                  <a:pt x="8086" y="16065"/>
                  <a:pt x="8086" y="16073"/>
                </a:cubicBezTo>
              </a:path>
              <a:path w="22251" h="6053">
                <a:moveTo>
                  <a:pt x="10145" y="15825"/>
                </a:moveTo>
                <a:cubicBezTo>
                  <a:pt x="10052" y="15832"/>
                  <a:pt x="9959" y="15832"/>
                  <a:pt x="9897" y="15850"/>
                </a:cubicBezTo>
                <a:cubicBezTo>
                  <a:pt x="9852" y="15863"/>
                  <a:pt x="9815" y="15889"/>
                  <a:pt x="9773" y="15900"/>
                </a:cubicBezTo>
                <a:cubicBezTo>
                  <a:pt x="9713" y="15916"/>
                  <a:pt x="9664" y="15912"/>
                  <a:pt x="9599" y="15925"/>
                </a:cubicBezTo>
                <a:cubicBezTo>
                  <a:pt x="9545" y="15936"/>
                  <a:pt x="9508" y="15945"/>
                  <a:pt x="9451" y="15949"/>
                </a:cubicBezTo>
                <a:cubicBezTo>
                  <a:pt x="9227" y="15965"/>
                  <a:pt x="9020" y="15915"/>
                  <a:pt x="8806" y="15900"/>
                </a:cubicBezTo>
                <a:cubicBezTo>
                  <a:pt x="8717" y="15894"/>
                  <a:pt x="8588" y="15872"/>
                  <a:pt x="8508" y="15875"/>
                </a:cubicBezTo>
                <a:cubicBezTo>
                  <a:pt x="8444" y="15877"/>
                  <a:pt x="8380" y="15898"/>
                  <a:pt x="8310" y="15900"/>
                </a:cubicBezTo>
                <a:cubicBezTo>
                  <a:pt x="8219" y="15903"/>
                  <a:pt x="8121" y="15921"/>
                  <a:pt x="8037" y="15925"/>
                </a:cubicBezTo>
                <a:cubicBezTo>
                  <a:pt x="7903" y="15932"/>
                  <a:pt x="7758" y="15907"/>
                  <a:pt x="7640" y="15900"/>
                </a:cubicBezTo>
                <a:cubicBezTo>
                  <a:pt x="7308" y="15880"/>
                  <a:pt x="6965" y="15888"/>
                  <a:pt x="6648" y="15900"/>
                </a:cubicBezTo>
                <a:cubicBezTo>
                  <a:pt x="6555" y="15903"/>
                  <a:pt x="6452" y="15879"/>
                  <a:pt x="6375" y="15875"/>
                </a:cubicBezTo>
                <a:cubicBezTo>
                  <a:pt x="6272" y="15870"/>
                  <a:pt x="6163" y="15880"/>
                  <a:pt x="6052" y="15875"/>
                </a:cubicBezTo>
                <a:cubicBezTo>
                  <a:pt x="5965" y="15871"/>
                  <a:pt x="5852" y="15854"/>
                  <a:pt x="5779" y="15850"/>
                </a:cubicBezTo>
                <a:cubicBezTo>
                  <a:pt x="5577" y="15839"/>
                  <a:pt x="5357" y="15810"/>
                  <a:pt x="5159" y="15825"/>
                </a:cubicBezTo>
                <a:cubicBezTo>
                  <a:pt x="5065" y="15832"/>
                  <a:pt x="4964" y="15848"/>
                  <a:pt x="4862" y="15850"/>
                </a:cubicBezTo>
                <a:cubicBezTo>
                  <a:pt x="4423" y="15858"/>
                  <a:pt x="3980" y="15855"/>
                  <a:pt x="3547" y="15875"/>
                </a:cubicBezTo>
                <a:cubicBezTo>
                  <a:pt x="3257" y="15888"/>
                  <a:pt x="2964" y="15884"/>
                  <a:pt x="2679" y="15900"/>
                </a:cubicBezTo>
                <a:cubicBezTo>
                  <a:pt x="2543" y="15907"/>
                  <a:pt x="2415" y="15910"/>
                  <a:pt x="2282" y="15925"/>
                </a:cubicBezTo>
                <a:cubicBezTo>
                  <a:pt x="2157" y="15939"/>
                  <a:pt x="2037" y="15944"/>
                  <a:pt x="1910" y="15949"/>
                </a:cubicBezTo>
              </a:path>
              <a:path w="22251" h="6053">
                <a:moveTo>
                  <a:pt x="17363" y="10120"/>
                </a:moveTo>
                <a:cubicBezTo>
                  <a:pt x="17535" y="10063"/>
                  <a:pt x="17676" y="10043"/>
                  <a:pt x="17859" y="10021"/>
                </a:cubicBezTo>
              </a:path>
              <a:path w="22251" h="6053">
                <a:moveTo>
                  <a:pt x="20662" y="10939"/>
                </a:moveTo>
                <a:lnTo>
                  <a:pt x="20662" y="10939"/>
                </a:lnTo>
              </a:path>
              <a:path w="22251" h="6053">
                <a:moveTo>
                  <a:pt x="20737" y="11708"/>
                </a:moveTo>
                <a:lnTo>
                  <a:pt x="20737" y="11708"/>
                </a:lnTo>
              </a:path>
              <a:path w="22251" h="6053">
                <a:moveTo>
                  <a:pt x="24011" y="10468"/>
                </a:moveTo>
                <a:cubicBezTo>
                  <a:pt x="24015" y="10521"/>
                  <a:pt x="24122" y="10791"/>
                  <a:pt x="24160" y="10592"/>
                </a:cubicBezTo>
                <a:cubicBezTo>
                  <a:pt x="24137" y="10524"/>
                  <a:pt x="24136" y="10503"/>
                  <a:pt x="24085" y="10492"/>
                </a:cubicBezTo>
              </a:path>
              <a:path w="22251" h="6053">
                <a:moveTo>
                  <a:pt x="10468" y="10988"/>
                </a:moveTo>
                <a:cubicBezTo>
                  <a:pt x="10565" y="10922"/>
                  <a:pt x="10652" y="10865"/>
                  <a:pt x="10740" y="10790"/>
                </a:cubicBezTo>
              </a:path>
              <a:path w="22251" h="6053">
                <a:moveTo>
                  <a:pt x="7590" y="11137"/>
                </a:moveTo>
                <a:cubicBezTo>
                  <a:pt x="7590" y="11162"/>
                  <a:pt x="7590" y="11170"/>
                  <a:pt x="7615" y="11162"/>
                </a:cubicBezTo>
                <a:cubicBezTo>
                  <a:pt x="7552" y="11162"/>
                  <a:pt x="7490" y="11143"/>
                  <a:pt x="7441" y="11137"/>
                </a:cubicBezTo>
                <a:cubicBezTo>
                  <a:pt x="7400" y="11137"/>
                  <a:pt x="7392" y="11137"/>
                  <a:pt x="7367" y="11137"/>
                </a:cubicBezTo>
                <a:cubicBezTo>
                  <a:pt x="7351" y="11129"/>
                  <a:pt x="7330" y="11123"/>
                  <a:pt x="7293" y="11112"/>
                </a:cubicBezTo>
                <a:cubicBezTo>
                  <a:pt x="7265" y="11103"/>
                  <a:pt x="7219" y="11076"/>
                  <a:pt x="7193" y="11063"/>
                </a:cubicBezTo>
                <a:cubicBezTo>
                  <a:pt x="7146" y="11039"/>
                  <a:pt x="7119" y="11031"/>
                  <a:pt x="7069" y="11013"/>
                </a:cubicBezTo>
                <a:cubicBezTo>
                  <a:pt x="7055" y="11005"/>
                  <a:pt x="6978" y="10966"/>
                  <a:pt x="6945" y="10939"/>
                </a:cubicBezTo>
                <a:cubicBezTo>
                  <a:pt x="6894" y="10898"/>
                  <a:pt x="6847" y="10872"/>
                  <a:pt x="6796" y="10840"/>
                </a:cubicBezTo>
                <a:cubicBezTo>
                  <a:pt x="6738" y="10804"/>
                  <a:pt x="6677" y="10792"/>
                  <a:pt x="6623" y="10765"/>
                </a:cubicBezTo>
                <a:cubicBezTo>
                  <a:pt x="6577" y="10742"/>
                  <a:pt x="6541" y="10709"/>
                  <a:pt x="6499" y="10691"/>
                </a:cubicBezTo>
                <a:cubicBezTo>
                  <a:pt x="6452" y="10671"/>
                  <a:pt x="6418" y="10654"/>
                  <a:pt x="6375" y="10641"/>
                </a:cubicBezTo>
                <a:cubicBezTo>
                  <a:pt x="6310" y="10621"/>
                  <a:pt x="6274" y="10613"/>
                  <a:pt x="6226" y="10592"/>
                </a:cubicBezTo>
                <a:cubicBezTo>
                  <a:pt x="6178" y="10571"/>
                  <a:pt x="6131" y="10556"/>
                  <a:pt x="6077" y="10542"/>
                </a:cubicBezTo>
                <a:cubicBezTo>
                  <a:pt x="6016" y="10526"/>
                  <a:pt x="5961" y="10510"/>
                  <a:pt x="5904" y="10492"/>
                </a:cubicBezTo>
                <a:cubicBezTo>
                  <a:pt x="5875" y="10464"/>
                  <a:pt x="5862" y="10456"/>
                  <a:pt x="5829" y="10468"/>
                </a:cubicBezTo>
                <a:cubicBezTo>
                  <a:pt x="5810" y="10458"/>
                  <a:pt x="5746" y="10417"/>
                  <a:pt x="5705" y="10393"/>
                </a:cubicBezTo>
                <a:cubicBezTo>
                  <a:pt x="5674" y="10375"/>
                  <a:pt x="5640" y="10380"/>
                  <a:pt x="5606" y="10368"/>
                </a:cubicBezTo>
                <a:cubicBezTo>
                  <a:pt x="5552" y="10350"/>
                  <a:pt x="5536" y="10346"/>
                  <a:pt x="5482" y="10344"/>
                </a:cubicBezTo>
                <a:cubicBezTo>
                  <a:pt x="5413" y="10342"/>
                  <a:pt x="5365" y="10335"/>
                  <a:pt x="5308" y="10319"/>
                </a:cubicBezTo>
                <a:cubicBezTo>
                  <a:pt x="5257" y="10304"/>
                  <a:pt x="5212" y="10287"/>
                  <a:pt x="5159" y="10269"/>
                </a:cubicBezTo>
                <a:cubicBezTo>
                  <a:pt x="5101" y="10249"/>
                  <a:pt x="5042" y="10238"/>
                  <a:pt x="4986" y="10220"/>
                </a:cubicBezTo>
                <a:cubicBezTo>
                  <a:pt x="4936" y="10204"/>
                  <a:pt x="4885" y="10186"/>
                  <a:pt x="4837" y="10170"/>
                </a:cubicBezTo>
              </a:path>
              <a:path w="22251" h="6053">
                <a:moveTo>
                  <a:pt x="9798" y="12030"/>
                </a:moveTo>
                <a:cubicBezTo>
                  <a:pt x="9726" y="12015"/>
                  <a:pt x="9694" y="12003"/>
                  <a:pt x="9624" y="11981"/>
                </a:cubicBezTo>
                <a:cubicBezTo>
                  <a:pt x="9575" y="11966"/>
                  <a:pt x="9526" y="11948"/>
                  <a:pt x="9475" y="11931"/>
                </a:cubicBezTo>
                <a:cubicBezTo>
                  <a:pt x="9431" y="11916"/>
                  <a:pt x="9403" y="11893"/>
                  <a:pt x="9376" y="11881"/>
                </a:cubicBezTo>
                <a:cubicBezTo>
                  <a:pt x="9324" y="11858"/>
                  <a:pt x="9263" y="11834"/>
                  <a:pt x="9203" y="11807"/>
                </a:cubicBezTo>
                <a:cubicBezTo>
                  <a:pt x="9142" y="11779"/>
                  <a:pt x="9068" y="11759"/>
                  <a:pt x="9004" y="11733"/>
                </a:cubicBezTo>
                <a:cubicBezTo>
                  <a:pt x="8948" y="11711"/>
                  <a:pt x="8887" y="11686"/>
                  <a:pt x="8830" y="11658"/>
                </a:cubicBezTo>
                <a:cubicBezTo>
                  <a:pt x="8801" y="11644"/>
                  <a:pt x="8762" y="11620"/>
                  <a:pt x="8731" y="11609"/>
                </a:cubicBezTo>
                <a:cubicBezTo>
                  <a:pt x="8686" y="11593"/>
                  <a:pt x="8628" y="11602"/>
                  <a:pt x="8582" y="11584"/>
                </a:cubicBezTo>
                <a:cubicBezTo>
                  <a:pt x="8546" y="11570"/>
                  <a:pt x="8497" y="11550"/>
                  <a:pt x="8458" y="11534"/>
                </a:cubicBezTo>
                <a:cubicBezTo>
                  <a:pt x="8370" y="11499"/>
                  <a:pt x="8282" y="11441"/>
                  <a:pt x="8186" y="11410"/>
                </a:cubicBezTo>
                <a:cubicBezTo>
                  <a:pt x="8132" y="11392"/>
                  <a:pt x="8121" y="11387"/>
                  <a:pt x="8062" y="11361"/>
                </a:cubicBezTo>
                <a:cubicBezTo>
                  <a:pt x="7984" y="11327"/>
                  <a:pt x="7904" y="11293"/>
                  <a:pt x="7838" y="11261"/>
                </a:cubicBezTo>
                <a:cubicBezTo>
                  <a:pt x="7788" y="11237"/>
                  <a:pt x="7734" y="11208"/>
                  <a:pt x="7689" y="11187"/>
                </a:cubicBezTo>
                <a:cubicBezTo>
                  <a:pt x="7626" y="11157"/>
                  <a:pt x="7556" y="11120"/>
                  <a:pt x="7491" y="11088"/>
                </a:cubicBezTo>
                <a:cubicBezTo>
                  <a:pt x="7423" y="11054"/>
                  <a:pt x="7366" y="11015"/>
                  <a:pt x="7293" y="10988"/>
                </a:cubicBezTo>
                <a:cubicBezTo>
                  <a:pt x="7148" y="10934"/>
                  <a:pt x="6987" y="10859"/>
                  <a:pt x="6846" y="10815"/>
                </a:cubicBezTo>
                <a:cubicBezTo>
                  <a:pt x="6780" y="10795"/>
                  <a:pt x="6704" y="10791"/>
                  <a:pt x="6648" y="10765"/>
                </a:cubicBezTo>
                <a:cubicBezTo>
                  <a:pt x="6585" y="10736"/>
                  <a:pt x="6515" y="10696"/>
                  <a:pt x="6449" y="10666"/>
                </a:cubicBezTo>
                <a:cubicBezTo>
                  <a:pt x="6393" y="10641"/>
                  <a:pt x="6329" y="10615"/>
                  <a:pt x="6276" y="10592"/>
                </a:cubicBezTo>
                <a:cubicBezTo>
                  <a:pt x="6207" y="10562"/>
                  <a:pt x="6148" y="10537"/>
                  <a:pt x="6077" y="10517"/>
                </a:cubicBezTo>
                <a:cubicBezTo>
                  <a:pt x="6008" y="10498"/>
                  <a:pt x="5948" y="10466"/>
                  <a:pt x="5879" y="10443"/>
                </a:cubicBezTo>
                <a:cubicBezTo>
                  <a:pt x="5813" y="10421"/>
                  <a:pt x="5769" y="10389"/>
                  <a:pt x="5705" y="10368"/>
                </a:cubicBezTo>
                <a:cubicBezTo>
                  <a:pt x="5615" y="10338"/>
                  <a:pt x="5525" y="10345"/>
                  <a:pt x="5432" y="10319"/>
                </a:cubicBezTo>
                <a:cubicBezTo>
                  <a:pt x="5376" y="10303"/>
                  <a:pt x="5316" y="10289"/>
                  <a:pt x="5259" y="10269"/>
                </a:cubicBezTo>
                <a:cubicBezTo>
                  <a:pt x="5217" y="10254"/>
                  <a:pt x="5182" y="10235"/>
                  <a:pt x="5135" y="10220"/>
                </a:cubicBezTo>
                <a:cubicBezTo>
                  <a:pt x="5107" y="10211"/>
                  <a:pt x="5062" y="10208"/>
                  <a:pt x="5035" y="10195"/>
                </a:cubicBezTo>
                <a:cubicBezTo>
                  <a:pt x="5026" y="10190"/>
                  <a:pt x="4968" y="10132"/>
                  <a:pt x="4936" y="10120"/>
                </a:cubicBezTo>
                <a:cubicBezTo>
                  <a:pt x="4897" y="10106"/>
                  <a:pt x="4871" y="10118"/>
                  <a:pt x="4837" y="10096"/>
                </a:cubicBezTo>
                <a:cubicBezTo>
                  <a:pt x="4837" y="10088"/>
                  <a:pt x="4837" y="10079"/>
                  <a:pt x="4837" y="1007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6160" y="3660840"/>
            <a:ext cx="3384720" cy="2081160"/>
          </a:xfrm>
          <a:custGeom>
            <a:avLst/>
            <a:gdLst/>
            <a:ahLst/>
            <a:rect l="l" t="t" r="r" b="b"/>
            <a:pathLst>
              <a:path w="9402" h="5780">
                <a:moveTo>
                  <a:pt x="7565" y="12353"/>
                </a:moveTo>
                <a:cubicBezTo>
                  <a:pt x="7627" y="12353"/>
                  <a:pt x="7632" y="12327"/>
                  <a:pt x="7689" y="12303"/>
                </a:cubicBezTo>
                <a:cubicBezTo>
                  <a:pt x="7818" y="12248"/>
                  <a:pt x="7920" y="12184"/>
                  <a:pt x="8037" y="12105"/>
                </a:cubicBezTo>
                <a:cubicBezTo>
                  <a:pt x="8126" y="12044"/>
                  <a:pt x="8208" y="11980"/>
                  <a:pt x="8285" y="11906"/>
                </a:cubicBezTo>
                <a:cubicBezTo>
                  <a:pt x="8351" y="11843"/>
                  <a:pt x="8390" y="11760"/>
                  <a:pt x="8434" y="11708"/>
                </a:cubicBezTo>
                <a:cubicBezTo>
                  <a:pt x="8442" y="11708"/>
                  <a:pt x="8450" y="11708"/>
                  <a:pt x="8458" y="11708"/>
                </a:cubicBezTo>
                <a:cubicBezTo>
                  <a:pt x="8402" y="11767"/>
                  <a:pt x="8378" y="11788"/>
                  <a:pt x="8310" y="11832"/>
                </a:cubicBezTo>
                <a:cubicBezTo>
                  <a:pt x="8130" y="11948"/>
                  <a:pt x="7928" y="12040"/>
                  <a:pt x="7764" y="12179"/>
                </a:cubicBezTo>
                <a:cubicBezTo>
                  <a:pt x="7705" y="12229"/>
                  <a:pt x="7649" y="12279"/>
                  <a:pt x="7590" y="12328"/>
                </a:cubicBezTo>
                <a:cubicBezTo>
                  <a:pt x="7699" y="12246"/>
                  <a:pt x="7778" y="12209"/>
                  <a:pt x="7888" y="12129"/>
                </a:cubicBezTo>
                <a:cubicBezTo>
                  <a:pt x="8052" y="12010"/>
                  <a:pt x="8303" y="11838"/>
                  <a:pt x="8384" y="11633"/>
                </a:cubicBezTo>
                <a:cubicBezTo>
                  <a:pt x="8399" y="11594"/>
                  <a:pt x="8388" y="11573"/>
                  <a:pt x="8409" y="11534"/>
                </a:cubicBezTo>
                <a:cubicBezTo>
                  <a:pt x="8432" y="11492"/>
                  <a:pt x="8463" y="11458"/>
                  <a:pt x="8483" y="11435"/>
                </a:cubicBezTo>
              </a:path>
              <a:path w="9402" h="5780">
                <a:moveTo>
                  <a:pt x="7441" y="14858"/>
                </a:moveTo>
                <a:cubicBezTo>
                  <a:pt x="7552" y="14852"/>
                  <a:pt x="7630" y="14836"/>
                  <a:pt x="7739" y="14808"/>
                </a:cubicBezTo>
                <a:cubicBezTo>
                  <a:pt x="7896" y="14768"/>
                  <a:pt x="8051" y="14780"/>
                  <a:pt x="8210" y="14734"/>
                </a:cubicBezTo>
                <a:cubicBezTo>
                  <a:pt x="8303" y="14707"/>
                  <a:pt x="8391" y="14705"/>
                  <a:pt x="8483" y="14684"/>
                </a:cubicBezTo>
                <a:cubicBezTo>
                  <a:pt x="8547" y="14670"/>
                  <a:pt x="8572" y="14663"/>
                  <a:pt x="8632" y="14660"/>
                </a:cubicBezTo>
                <a:cubicBezTo>
                  <a:pt x="8665" y="14658"/>
                  <a:pt x="8698" y="14660"/>
                  <a:pt x="8731" y="14660"/>
                </a:cubicBezTo>
                <a:cubicBezTo>
                  <a:pt x="8725" y="14735"/>
                  <a:pt x="8719" y="14810"/>
                  <a:pt x="8706" y="14883"/>
                </a:cubicBezTo>
                <a:cubicBezTo>
                  <a:pt x="8679" y="15031"/>
                  <a:pt x="8661" y="15178"/>
                  <a:pt x="8657" y="15329"/>
                </a:cubicBezTo>
                <a:cubicBezTo>
                  <a:pt x="8655" y="15428"/>
                  <a:pt x="8632" y="15502"/>
                  <a:pt x="8632" y="15602"/>
                </a:cubicBezTo>
                <a:cubicBezTo>
                  <a:pt x="8632" y="15702"/>
                  <a:pt x="8607" y="15797"/>
                  <a:pt x="8607" y="15900"/>
                </a:cubicBezTo>
                <a:cubicBezTo>
                  <a:pt x="8607" y="15941"/>
                  <a:pt x="8599" y="15957"/>
                  <a:pt x="8632" y="15949"/>
                </a:cubicBezTo>
              </a:path>
              <a:path w="9402" h="5780">
                <a:moveTo>
                  <a:pt x="8359" y="12328"/>
                </a:moveTo>
                <a:cubicBezTo>
                  <a:pt x="8309" y="12425"/>
                  <a:pt x="8320" y="12492"/>
                  <a:pt x="8310" y="12601"/>
                </a:cubicBezTo>
              </a:path>
              <a:path w="9402" h="5780">
                <a:moveTo>
                  <a:pt x="8062" y="12303"/>
                </a:moveTo>
                <a:cubicBezTo>
                  <a:pt x="8265" y="12366"/>
                  <a:pt x="8469" y="12353"/>
                  <a:pt x="8682" y="12353"/>
                </a:cubicBezTo>
                <a:cubicBezTo>
                  <a:pt x="8698" y="12353"/>
                  <a:pt x="8715" y="12353"/>
                  <a:pt x="8731" y="12353"/>
                </a:cubicBezTo>
              </a:path>
              <a:path w="9402" h="5780">
                <a:moveTo>
                  <a:pt x="8781" y="12650"/>
                </a:moveTo>
                <a:cubicBezTo>
                  <a:pt x="8781" y="12691"/>
                  <a:pt x="8781" y="12733"/>
                  <a:pt x="8781" y="12774"/>
                </a:cubicBezTo>
                <a:cubicBezTo>
                  <a:pt x="8695" y="12917"/>
                  <a:pt x="8849" y="12606"/>
                  <a:pt x="8855" y="12601"/>
                </a:cubicBezTo>
                <a:cubicBezTo>
                  <a:pt x="9045" y="12455"/>
                  <a:pt x="9072" y="12747"/>
                  <a:pt x="9079" y="12849"/>
                </a:cubicBezTo>
                <a:cubicBezTo>
                  <a:pt x="9079" y="12893"/>
                  <a:pt x="9082" y="12907"/>
                  <a:pt x="9054" y="12923"/>
                </a:cubicBezTo>
              </a:path>
              <a:path w="9402" h="5780">
                <a:moveTo>
                  <a:pt x="9475" y="12378"/>
                </a:moveTo>
                <a:cubicBezTo>
                  <a:pt x="9498" y="12581"/>
                  <a:pt x="9515" y="12774"/>
                  <a:pt x="9475" y="12973"/>
                </a:cubicBezTo>
              </a:path>
              <a:path w="9402" h="5780">
                <a:moveTo>
                  <a:pt x="9426" y="12700"/>
                </a:moveTo>
                <a:cubicBezTo>
                  <a:pt x="9559" y="12718"/>
                  <a:pt x="9866" y="12694"/>
                  <a:pt x="9971" y="12774"/>
                </a:cubicBezTo>
                <a:cubicBezTo>
                  <a:pt x="9971" y="12782"/>
                  <a:pt x="9971" y="12791"/>
                  <a:pt x="9971" y="12799"/>
                </a:cubicBezTo>
                <a:cubicBezTo>
                  <a:pt x="9971" y="12720"/>
                  <a:pt x="9922" y="12576"/>
                  <a:pt x="9823" y="12576"/>
                </a:cubicBezTo>
                <a:cubicBezTo>
                  <a:pt x="9644" y="12576"/>
                  <a:pt x="9625" y="12890"/>
                  <a:pt x="9748" y="12973"/>
                </a:cubicBezTo>
                <a:cubicBezTo>
                  <a:pt x="9935" y="13100"/>
                  <a:pt x="10027" y="12812"/>
                  <a:pt x="10096" y="12824"/>
                </a:cubicBezTo>
                <a:cubicBezTo>
                  <a:pt x="10187" y="12840"/>
                  <a:pt x="10071" y="13005"/>
                  <a:pt x="10071" y="13097"/>
                </a:cubicBezTo>
                <a:cubicBezTo>
                  <a:pt x="10040" y="12988"/>
                  <a:pt x="10088" y="12863"/>
                  <a:pt x="10220" y="12824"/>
                </a:cubicBezTo>
                <a:cubicBezTo>
                  <a:pt x="10314" y="12796"/>
                  <a:pt x="10371" y="12853"/>
                  <a:pt x="10443" y="12898"/>
                </a:cubicBezTo>
              </a:path>
              <a:path w="9402" h="5780">
                <a:moveTo>
                  <a:pt x="10517" y="12973"/>
                </a:moveTo>
                <a:cubicBezTo>
                  <a:pt x="10505" y="13090"/>
                  <a:pt x="10429" y="13431"/>
                  <a:pt x="10468" y="13320"/>
                </a:cubicBezTo>
                <a:cubicBezTo>
                  <a:pt x="10476" y="13279"/>
                  <a:pt x="10484" y="13237"/>
                  <a:pt x="10492" y="13196"/>
                </a:cubicBezTo>
              </a:path>
              <a:path w="9402" h="5780">
                <a:moveTo>
                  <a:pt x="10840" y="13171"/>
                </a:moveTo>
                <a:cubicBezTo>
                  <a:pt x="10696" y="13195"/>
                  <a:pt x="10672" y="13250"/>
                  <a:pt x="10616" y="13370"/>
                </a:cubicBezTo>
                <a:cubicBezTo>
                  <a:pt x="10761" y="13473"/>
                  <a:pt x="10935" y="13530"/>
                  <a:pt x="11013" y="13295"/>
                </a:cubicBezTo>
                <a:cubicBezTo>
                  <a:pt x="11013" y="13178"/>
                  <a:pt x="11020" y="13139"/>
                  <a:pt x="10914" y="13146"/>
                </a:cubicBezTo>
              </a:path>
              <a:path w="9402" h="5780">
                <a:moveTo>
                  <a:pt x="11162" y="13593"/>
                </a:moveTo>
                <a:cubicBezTo>
                  <a:pt x="11154" y="13610"/>
                  <a:pt x="11145" y="13626"/>
                  <a:pt x="11137" y="13643"/>
                </a:cubicBezTo>
                <a:cubicBezTo>
                  <a:pt x="11137" y="13517"/>
                  <a:pt x="11158" y="13454"/>
                  <a:pt x="11261" y="13370"/>
                </a:cubicBezTo>
                <a:cubicBezTo>
                  <a:pt x="11352" y="13296"/>
                  <a:pt x="11383" y="13318"/>
                  <a:pt x="11460" y="13370"/>
                </a:cubicBezTo>
              </a:path>
              <a:path w="9402" h="5780">
                <a:moveTo>
                  <a:pt x="9302" y="13593"/>
                </a:moveTo>
                <a:cubicBezTo>
                  <a:pt x="9179" y="13740"/>
                  <a:pt x="9046" y="13861"/>
                  <a:pt x="8905" y="13990"/>
                </a:cubicBezTo>
                <a:cubicBezTo>
                  <a:pt x="8933" y="13876"/>
                  <a:pt x="9169" y="13693"/>
                  <a:pt x="9252" y="13618"/>
                </a:cubicBezTo>
                <a:cubicBezTo>
                  <a:pt x="9364" y="13525"/>
                  <a:pt x="9366" y="13483"/>
                  <a:pt x="9451" y="13494"/>
                </a:cubicBezTo>
                <a:cubicBezTo>
                  <a:pt x="9479" y="13751"/>
                  <a:pt x="9399" y="13905"/>
                  <a:pt x="9302" y="14139"/>
                </a:cubicBezTo>
                <a:cubicBezTo>
                  <a:pt x="9277" y="14212"/>
                  <a:pt x="9269" y="14238"/>
                  <a:pt x="9277" y="14139"/>
                </a:cubicBezTo>
              </a:path>
              <a:path w="9402" h="5780">
                <a:moveTo>
                  <a:pt x="9079" y="13866"/>
                </a:moveTo>
                <a:cubicBezTo>
                  <a:pt x="9253" y="13888"/>
                  <a:pt x="9460" y="13945"/>
                  <a:pt x="9624" y="13915"/>
                </a:cubicBezTo>
              </a:path>
              <a:path w="9402" h="5780">
                <a:moveTo>
                  <a:pt x="9649" y="13990"/>
                </a:moveTo>
                <a:cubicBezTo>
                  <a:pt x="9646" y="14066"/>
                  <a:pt x="9625" y="14212"/>
                  <a:pt x="9624" y="14213"/>
                </a:cubicBezTo>
                <a:cubicBezTo>
                  <a:pt x="9669" y="14086"/>
                  <a:pt x="9700" y="14030"/>
                  <a:pt x="9798" y="13940"/>
                </a:cubicBezTo>
                <a:cubicBezTo>
                  <a:pt x="9953" y="14031"/>
                  <a:pt x="10023" y="14155"/>
                  <a:pt x="9922" y="14337"/>
                </a:cubicBezTo>
                <a:cubicBezTo>
                  <a:pt x="9897" y="14362"/>
                  <a:pt x="9872" y="14387"/>
                  <a:pt x="9847" y="14412"/>
                </a:cubicBezTo>
              </a:path>
              <a:path w="9402" h="5780">
                <a:moveTo>
                  <a:pt x="10418" y="14089"/>
                </a:moveTo>
                <a:cubicBezTo>
                  <a:pt x="10348" y="14120"/>
                  <a:pt x="9955" y="14310"/>
                  <a:pt x="10096" y="14436"/>
                </a:cubicBezTo>
                <a:cubicBezTo>
                  <a:pt x="10246" y="14570"/>
                  <a:pt x="10369" y="14278"/>
                  <a:pt x="10393" y="14188"/>
                </a:cubicBezTo>
                <a:cubicBezTo>
                  <a:pt x="10393" y="14386"/>
                  <a:pt x="10394" y="14605"/>
                  <a:pt x="10294" y="14784"/>
                </a:cubicBezTo>
                <a:cubicBezTo>
                  <a:pt x="10242" y="14877"/>
                  <a:pt x="9690" y="15222"/>
                  <a:pt x="9723" y="14908"/>
                </a:cubicBezTo>
                <a:cubicBezTo>
                  <a:pt x="9756" y="14850"/>
                  <a:pt x="9790" y="14792"/>
                  <a:pt x="9823" y="14734"/>
                </a:cubicBezTo>
              </a:path>
              <a:path w="9402" h="5780">
                <a:moveTo>
                  <a:pt x="10716" y="14039"/>
                </a:moveTo>
                <a:cubicBezTo>
                  <a:pt x="10618" y="14288"/>
                  <a:pt x="10573" y="14560"/>
                  <a:pt x="10468" y="14808"/>
                </a:cubicBezTo>
                <a:cubicBezTo>
                  <a:pt x="10445" y="14831"/>
                  <a:pt x="10434" y="14839"/>
                  <a:pt x="10468" y="14833"/>
                </a:cubicBezTo>
              </a:path>
              <a:path w="9402" h="5780">
                <a:moveTo>
                  <a:pt x="10815" y="14610"/>
                </a:moveTo>
                <a:cubicBezTo>
                  <a:pt x="10911" y="14640"/>
                  <a:pt x="10978" y="14694"/>
                  <a:pt x="11038" y="14734"/>
                </a:cubicBezTo>
                <a:cubicBezTo>
                  <a:pt x="11046" y="14734"/>
                  <a:pt x="11055" y="14734"/>
                  <a:pt x="11063" y="14734"/>
                </a:cubicBezTo>
                <a:cubicBezTo>
                  <a:pt x="11048" y="14600"/>
                  <a:pt x="11005" y="14528"/>
                  <a:pt x="10914" y="14436"/>
                </a:cubicBezTo>
                <a:cubicBezTo>
                  <a:pt x="10749" y="14524"/>
                  <a:pt x="10646" y="14677"/>
                  <a:pt x="10815" y="14858"/>
                </a:cubicBezTo>
                <a:cubicBezTo>
                  <a:pt x="10928" y="14915"/>
                  <a:pt x="10975" y="14927"/>
                  <a:pt x="11063" y="14858"/>
                </a:cubicBezTo>
              </a:path>
              <a:path w="9402" h="5780">
                <a:moveTo>
                  <a:pt x="11485" y="14585"/>
                </a:moveTo>
                <a:cubicBezTo>
                  <a:pt x="11381" y="14598"/>
                  <a:pt x="11349" y="14597"/>
                  <a:pt x="11261" y="14660"/>
                </a:cubicBezTo>
                <a:cubicBezTo>
                  <a:pt x="11367" y="14744"/>
                  <a:pt x="11474" y="14802"/>
                  <a:pt x="11559" y="14908"/>
                </a:cubicBezTo>
                <a:cubicBezTo>
                  <a:pt x="11401" y="15032"/>
                  <a:pt x="11352" y="15023"/>
                  <a:pt x="11137" y="15056"/>
                </a:cubicBezTo>
              </a:path>
              <a:path w="9402" h="5780">
                <a:moveTo>
                  <a:pt x="7466" y="15900"/>
                </a:moveTo>
                <a:cubicBezTo>
                  <a:pt x="7491" y="15900"/>
                  <a:pt x="7499" y="15900"/>
                  <a:pt x="7491" y="15875"/>
                </a:cubicBezTo>
                <a:cubicBezTo>
                  <a:pt x="7455" y="15883"/>
                  <a:pt x="7425" y="15897"/>
                  <a:pt x="7392" y="15900"/>
                </a:cubicBezTo>
                <a:cubicBezTo>
                  <a:pt x="7327" y="15907"/>
                  <a:pt x="7198" y="15922"/>
                  <a:pt x="7169" y="15925"/>
                </a:cubicBezTo>
                <a:cubicBezTo>
                  <a:pt x="7064" y="15935"/>
                  <a:pt x="6968" y="15919"/>
                  <a:pt x="6871" y="15900"/>
                </a:cubicBezTo>
                <a:cubicBezTo>
                  <a:pt x="6812" y="15888"/>
                  <a:pt x="6754" y="15891"/>
                  <a:pt x="6697" y="15875"/>
                </a:cubicBezTo>
                <a:cubicBezTo>
                  <a:pt x="6641" y="15859"/>
                  <a:pt x="6582" y="15841"/>
                  <a:pt x="6524" y="15825"/>
                </a:cubicBezTo>
                <a:cubicBezTo>
                  <a:pt x="6449" y="15805"/>
                  <a:pt x="6379" y="15811"/>
                  <a:pt x="6300" y="15801"/>
                </a:cubicBezTo>
                <a:cubicBezTo>
                  <a:pt x="6185" y="15787"/>
                  <a:pt x="6069" y="15761"/>
                  <a:pt x="5953" y="15751"/>
                </a:cubicBezTo>
                <a:cubicBezTo>
                  <a:pt x="5830" y="15741"/>
                  <a:pt x="5704" y="15729"/>
                  <a:pt x="5581" y="15726"/>
                </a:cubicBezTo>
                <a:cubicBezTo>
                  <a:pt x="5183" y="15717"/>
                  <a:pt x="4782" y="15729"/>
                  <a:pt x="4390" y="15751"/>
                </a:cubicBezTo>
                <a:cubicBezTo>
                  <a:pt x="4249" y="15759"/>
                  <a:pt x="4107" y="15767"/>
                  <a:pt x="3969" y="15776"/>
                </a:cubicBezTo>
                <a:cubicBezTo>
                  <a:pt x="3850" y="15783"/>
                  <a:pt x="3740" y="15798"/>
                  <a:pt x="3621" y="15801"/>
                </a:cubicBezTo>
                <a:cubicBezTo>
                  <a:pt x="3438" y="15805"/>
                  <a:pt x="3258" y="15839"/>
                  <a:pt x="3076" y="15850"/>
                </a:cubicBezTo>
                <a:cubicBezTo>
                  <a:pt x="2916" y="15859"/>
                  <a:pt x="2762" y="15887"/>
                  <a:pt x="2604" y="15900"/>
                </a:cubicBezTo>
                <a:cubicBezTo>
                  <a:pt x="2490" y="15910"/>
                  <a:pt x="2370" y="15909"/>
                  <a:pt x="2257" y="15925"/>
                </a:cubicBezTo>
                <a:cubicBezTo>
                  <a:pt x="2209" y="15948"/>
                  <a:pt x="2195" y="15956"/>
                  <a:pt x="2158" y="15949"/>
                </a:cubicBezTo>
              </a:path>
              <a:path w="9402" h="5780">
                <a:moveTo>
                  <a:pt x="7317" y="11137"/>
                </a:moveTo>
                <a:cubicBezTo>
                  <a:pt x="7317" y="11092"/>
                  <a:pt x="7337" y="11079"/>
                  <a:pt x="7342" y="11038"/>
                </a:cubicBezTo>
                <a:cubicBezTo>
                  <a:pt x="7348" y="10984"/>
                  <a:pt x="7330" y="10965"/>
                  <a:pt x="7317" y="10914"/>
                </a:cubicBezTo>
                <a:cubicBezTo>
                  <a:pt x="7271" y="10732"/>
                  <a:pt x="7323" y="10503"/>
                  <a:pt x="7293" y="10319"/>
                </a:cubicBezTo>
                <a:cubicBezTo>
                  <a:pt x="7284" y="10261"/>
                  <a:pt x="7281" y="10221"/>
                  <a:pt x="7268" y="10170"/>
                </a:cubicBezTo>
              </a:path>
              <a:path w="9402" h="5780">
                <a:moveTo>
                  <a:pt x="7466" y="11038"/>
                </a:moveTo>
                <a:cubicBezTo>
                  <a:pt x="7414" y="11038"/>
                  <a:pt x="7381" y="11020"/>
                  <a:pt x="7342" y="11013"/>
                </a:cubicBezTo>
                <a:cubicBezTo>
                  <a:pt x="7285" y="11003"/>
                  <a:pt x="7224" y="10997"/>
                  <a:pt x="7169" y="10988"/>
                </a:cubicBezTo>
                <a:cubicBezTo>
                  <a:pt x="7090" y="10975"/>
                  <a:pt x="7020" y="10925"/>
                  <a:pt x="6945" y="10889"/>
                </a:cubicBezTo>
                <a:cubicBezTo>
                  <a:pt x="6898" y="10866"/>
                  <a:pt x="6873" y="10857"/>
                  <a:pt x="6821" y="10840"/>
                </a:cubicBezTo>
                <a:cubicBezTo>
                  <a:pt x="6737" y="10812"/>
                  <a:pt x="6658" y="10768"/>
                  <a:pt x="6573" y="10740"/>
                </a:cubicBezTo>
                <a:cubicBezTo>
                  <a:pt x="6505" y="10718"/>
                  <a:pt x="6441" y="10708"/>
                  <a:pt x="6375" y="10691"/>
                </a:cubicBezTo>
                <a:cubicBezTo>
                  <a:pt x="6304" y="10672"/>
                  <a:pt x="6226" y="10620"/>
                  <a:pt x="6152" y="10592"/>
                </a:cubicBezTo>
                <a:cubicBezTo>
                  <a:pt x="6042" y="10551"/>
                  <a:pt x="5932" y="10526"/>
                  <a:pt x="5829" y="10468"/>
                </a:cubicBezTo>
                <a:cubicBezTo>
                  <a:pt x="5752" y="10425"/>
                  <a:pt x="5671" y="10358"/>
                  <a:pt x="5581" y="10344"/>
                </a:cubicBezTo>
                <a:cubicBezTo>
                  <a:pt x="5447" y="10323"/>
                  <a:pt x="5312" y="10304"/>
                  <a:pt x="5184" y="10269"/>
                </a:cubicBezTo>
                <a:cubicBezTo>
                  <a:pt x="5135" y="10244"/>
                  <a:pt x="5118" y="10236"/>
                  <a:pt x="5085" y="10220"/>
                </a:cubicBezTo>
              </a:path>
              <a:path w="9402" h="5780">
                <a:moveTo>
                  <a:pt x="7863" y="12030"/>
                </a:moveTo>
                <a:cubicBezTo>
                  <a:pt x="7845" y="11925"/>
                  <a:pt x="7844" y="11997"/>
                  <a:pt x="7962" y="12080"/>
                </a:cubicBezTo>
                <a:cubicBezTo>
                  <a:pt x="8040" y="12135"/>
                  <a:pt x="8203" y="12271"/>
                  <a:pt x="8136" y="12204"/>
                </a:cubicBezTo>
                <a:cubicBezTo>
                  <a:pt x="8032" y="12100"/>
                  <a:pt x="7920" y="12007"/>
                  <a:pt x="7813" y="11906"/>
                </a:cubicBezTo>
                <a:cubicBezTo>
                  <a:pt x="7805" y="11898"/>
                  <a:pt x="7797" y="11889"/>
                  <a:pt x="7789" y="11881"/>
                </a:cubicBezTo>
                <a:cubicBezTo>
                  <a:pt x="7689" y="11977"/>
                  <a:pt x="7936" y="12060"/>
                  <a:pt x="8037" y="12154"/>
                </a:cubicBezTo>
                <a:cubicBezTo>
                  <a:pt x="8053" y="12162"/>
                  <a:pt x="8070" y="12171"/>
                  <a:pt x="8086" y="12179"/>
                </a:cubicBezTo>
                <a:cubicBezTo>
                  <a:pt x="7980" y="12118"/>
                  <a:pt x="7921" y="11995"/>
                  <a:pt x="7813" y="11931"/>
                </a:cubicBezTo>
                <a:cubicBezTo>
                  <a:pt x="7702" y="11865"/>
                  <a:pt x="8014" y="12094"/>
                  <a:pt x="8111" y="12179"/>
                </a:cubicBezTo>
              </a:path>
              <a:path w="9402" h="5780">
                <a:moveTo>
                  <a:pt x="8806" y="11881"/>
                </a:moveTo>
                <a:cubicBezTo>
                  <a:pt x="9046" y="11807"/>
                  <a:pt x="9286" y="11736"/>
                  <a:pt x="9525" y="11658"/>
                </a:cubicBezTo>
                <a:cubicBezTo>
                  <a:pt x="9621" y="11627"/>
                  <a:pt x="9679" y="11581"/>
                  <a:pt x="9748" y="11609"/>
                </a:cubicBezTo>
              </a:path>
              <a:path w="9402" h="5780">
                <a:moveTo>
                  <a:pt x="9897" y="11187"/>
                </a:moveTo>
                <a:cubicBezTo>
                  <a:pt x="9929" y="11267"/>
                  <a:pt x="9957" y="11350"/>
                  <a:pt x="9971" y="11435"/>
                </a:cubicBezTo>
                <a:cubicBezTo>
                  <a:pt x="10100" y="11387"/>
                  <a:pt x="10228" y="11307"/>
                  <a:pt x="10344" y="11261"/>
                </a:cubicBezTo>
              </a:path>
              <a:path w="9402" h="5780">
                <a:moveTo>
                  <a:pt x="10120" y="11137"/>
                </a:moveTo>
                <a:cubicBezTo>
                  <a:pt x="10164" y="11310"/>
                  <a:pt x="10099" y="11762"/>
                  <a:pt x="10244" y="11658"/>
                </a:cubicBezTo>
                <a:cubicBezTo>
                  <a:pt x="10261" y="11633"/>
                  <a:pt x="10277" y="11609"/>
                  <a:pt x="10294" y="11584"/>
                </a:cubicBezTo>
              </a:path>
              <a:path w="9402" h="5780">
                <a:moveTo>
                  <a:pt x="10418" y="11112"/>
                </a:moveTo>
                <a:cubicBezTo>
                  <a:pt x="10458" y="11252"/>
                  <a:pt x="10625" y="11158"/>
                  <a:pt x="10716" y="11286"/>
                </a:cubicBezTo>
                <a:cubicBezTo>
                  <a:pt x="10846" y="11469"/>
                  <a:pt x="10668" y="11542"/>
                  <a:pt x="10542" y="11534"/>
                </a:cubicBezTo>
              </a:path>
              <a:path w="9402" h="5780">
                <a:moveTo>
                  <a:pt x="10914" y="10542"/>
                </a:moveTo>
                <a:cubicBezTo>
                  <a:pt x="10884" y="10564"/>
                  <a:pt x="10812" y="10729"/>
                  <a:pt x="10914" y="10740"/>
                </a:cubicBezTo>
                <a:cubicBezTo>
                  <a:pt x="11046" y="10755"/>
                  <a:pt x="11123" y="10620"/>
                  <a:pt x="10939" y="10592"/>
                </a:cubicBezTo>
              </a:path>
              <a:path w="9402" h="5780">
                <a:moveTo>
                  <a:pt x="8905" y="11757"/>
                </a:moveTo>
                <a:cubicBezTo>
                  <a:pt x="8882" y="11848"/>
                  <a:pt x="8778" y="11916"/>
                  <a:pt x="8731" y="12005"/>
                </a:cubicBezTo>
                <a:cubicBezTo>
                  <a:pt x="8731" y="12013"/>
                  <a:pt x="8731" y="12022"/>
                  <a:pt x="8731" y="12030"/>
                </a:cubicBezTo>
                <a:cubicBezTo>
                  <a:pt x="8865" y="12056"/>
                  <a:pt x="8991" y="12080"/>
                  <a:pt x="9128" y="12080"/>
                </a:cubicBezTo>
              </a:path>
              <a:path w="9402" h="5780">
                <a:moveTo>
                  <a:pt x="5904" y="11485"/>
                </a:moveTo>
                <a:cubicBezTo>
                  <a:pt x="5917" y="11429"/>
                  <a:pt x="5918" y="11444"/>
                  <a:pt x="5978" y="11435"/>
                </a:cubicBezTo>
                <a:cubicBezTo>
                  <a:pt x="6009" y="11489"/>
                  <a:pt x="6082" y="11631"/>
                  <a:pt x="6003" y="11683"/>
                </a:cubicBezTo>
                <a:cubicBezTo>
                  <a:pt x="6003" y="11675"/>
                  <a:pt x="6003" y="11666"/>
                  <a:pt x="6003" y="11658"/>
                </a:cubicBezTo>
                <a:cubicBezTo>
                  <a:pt x="6131" y="11629"/>
                  <a:pt x="6213" y="11702"/>
                  <a:pt x="6176" y="11857"/>
                </a:cubicBezTo>
                <a:cubicBezTo>
                  <a:pt x="6142" y="11998"/>
                  <a:pt x="6032" y="11957"/>
                  <a:pt x="5978" y="11881"/>
                </a:cubicBezTo>
              </a:path>
              <a:path w="9402" h="5780">
                <a:moveTo>
                  <a:pt x="6176" y="11509"/>
                </a:moveTo>
                <a:cubicBezTo>
                  <a:pt x="6194" y="11638"/>
                  <a:pt x="6268" y="11557"/>
                  <a:pt x="6375" y="11584"/>
                </a:cubicBezTo>
                <a:cubicBezTo>
                  <a:pt x="6465" y="11607"/>
                  <a:pt x="6423" y="11771"/>
                  <a:pt x="6375" y="11807"/>
                </a:cubicBezTo>
                <a:cubicBezTo>
                  <a:pt x="6330" y="11807"/>
                  <a:pt x="6317" y="11810"/>
                  <a:pt x="6300" y="11782"/>
                </a:cubicBezTo>
              </a:path>
              <a:path w="9402" h="5780">
                <a:moveTo>
                  <a:pt x="6152" y="11485"/>
                </a:moveTo>
                <a:cubicBezTo>
                  <a:pt x="6177" y="11434"/>
                  <a:pt x="6244" y="11350"/>
                  <a:pt x="6300" y="11311"/>
                </a:cubicBezTo>
                <a:cubicBezTo>
                  <a:pt x="6317" y="11303"/>
                  <a:pt x="6333" y="11294"/>
                  <a:pt x="6350" y="11286"/>
                </a:cubicBezTo>
              </a:path>
              <a:path w="9402" h="5780">
                <a:moveTo>
                  <a:pt x="6548" y="11112"/>
                </a:moveTo>
                <a:cubicBezTo>
                  <a:pt x="6548" y="11166"/>
                  <a:pt x="6562" y="11192"/>
                  <a:pt x="6573" y="11237"/>
                </a:cubicBezTo>
                <a:cubicBezTo>
                  <a:pt x="6630" y="11221"/>
                  <a:pt x="6755" y="11095"/>
                  <a:pt x="6598" y="11112"/>
                </a:cubicBezTo>
                <a:cubicBezTo>
                  <a:pt x="6581" y="11120"/>
                  <a:pt x="6565" y="11129"/>
                  <a:pt x="6548" y="11137"/>
                </a:cubicBezTo>
              </a:path>
              <a:path w="9402" h="5780">
                <a:moveTo>
                  <a:pt x="3076" y="14213"/>
                </a:moveTo>
                <a:cubicBezTo>
                  <a:pt x="3076" y="14403"/>
                  <a:pt x="3061" y="14945"/>
                  <a:pt x="3101" y="14759"/>
                </a:cubicBezTo>
                <a:cubicBezTo>
                  <a:pt x="3101" y="14734"/>
                  <a:pt x="3101" y="14709"/>
                  <a:pt x="3101" y="1468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84200" y="4187880"/>
            <a:ext cx="81000" cy="169920"/>
          </a:xfrm>
          <a:custGeom>
            <a:avLst/>
            <a:gdLst/>
            <a:ahLst/>
            <a:rect l="l" t="t" r="r" b="b"/>
            <a:pathLst>
              <a:path w="224" h="473">
                <a:moveTo>
                  <a:pt x="3845" y="11633"/>
                </a:moveTo>
                <a:cubicBezTo>
                  <a:pt x="3919" y="11764"/>
                  <a:pt x="3980" y="11912"/>
                  <a:pt x="4043" y="12055"/>
                </a:cubicBezTo>
                <a:cubicBezTo>
                  <a:pt x="4051" y="12072"/>
                  <a:pt x="4060" y="12088"/>
                  <a:pt x="4068" y="1210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2000" y="3724200"/>
            <a:ext cx="760320" cy="1035000"/>
          </a:xfrm>
          <a:custGeom>
            <a:avLst/>
            <a:gdLst/>
            <a:ahLst/>
            <a:rect l="l" t="t" r="r" b="b"/>
            <a:pathLst>
              <a:path w="2109" h="2878">
                <a:moveTo>
                  <a:pt x="3051" y="10964"/>
                </a:moveTo>
                <a:cubicBezTo>
                  <a:pt x="3111" y="11128"/>
                  <a:pt x="3178" y="11323"/>
                  <a:pt x="3249" y="11485"/>
                </a:cubicBezTo>
                <a:cubicBezTo>
                  <a:pt x="3295" y="11530"/>
                  <a:pt x="3304" y="11508"/>
                  <a:pt x="3274" y="11385"/>
                </a:cubicBezTo>
              </a:path>
              <a:path w="2109" h="2878">
                <a:moveTo>
                  <a:pt x="3423" y="10790"/>
                </a:moveTo>
                <a:cubicBezTo>
                  <a:pt x="3399" y="10874"/>
                  <a:pt x="3381" y="10951"/>
                  <a:pt x="3373" y="11038"/>
                </a:cubicBezTo>
                <a:cubicBezTo>
                  <a:pt x="3498" y="11088"/>
                  <a:pt x="3662" y="11105"/>
                  <a:pt x="3646" y="11286"/>
                </a:cubicBezTo>
                <a:cubicBezTo>
                  <a:pt x="3630" y="11311"/>
                  <a:pt x="3613" y="11336"/>
                  <a:pt x="3597" y="11361"/>
                </a:cubicBezTo>
                <a:cubicBezTo>
                  <a:pt x="3456" y="11312"/>
                  <a:pt x="3497" y="11105"/>
                  <a:pt x="3497" y="10939"/>
                </a:cubicBezTo>
                <a:cubicBezTo>
                  <a:pt x="3497" y="10931"/>
                  <a:pt x="3497" y="10922"/>
                  <a:pt x="3497" y="10914"/>
                </a:cubicBezTo>
              </a:path>
              <a:path w="2109" h="2878">
                <a:moveTo>
                  <a:pt x="3721" y="10716"/>
                </a:moveTo>
                <a:cubicBezTo>
                  <a:pt x="3738" y="10925"/>
                  <a:pt x="3733" y="11053"/>
                  <a:pt x="3919" y="11162"/>
                </a:cubicBezTo>
                <a:cubicBezTo>
                  <a:pt x="3971" y="11007"/>
                  <a:pt x="4026" y="10771"/>
                  <a:pt x="3795" y="10716"/>
                </a:cubicBezTo>
                <a:cubicBezTo>
                  <a:pt x="3713" y="10743"/>
                  <a:pt x="3686" y="10759"/>
                  <a:pt x="3696" y="10840"/>
                </a:cubicBezTo>
              </a:path>
              <a:path w="2109" h="2878">
                <a:moveTo>
                  <a:pt x="2977" y="12254"/>
                </a:moveTo>
                <a:cubicBezTo>
                  <a:pt x="3074" y="12163"/>
                  <a:pt x="3168" y="12085"/>
                  <a:pt x="3274" y="12005"/>
                </a:cubicBezTo>
              </a:path>
              <a:path w="2109" h="2878">
                <a:moveTo>
                  <a:pt x="3721" y="11708"/>
                </a:moveTo>
                <a:cubicBezTo>
                  <a:pt x="3762" y="11765"/>
                  <a:pt x="3793" y="11861"/>
                  <a:pt x="3870" y="11881"/>
                </a:cubicBezTo>
                <a:cubicBezTo>
                  <a:pt x="4047" y="11927"/>
                  <a:pt x="3976" y="11722"/>
                  <a:pt x="3944" y="11658"/>
                </a:cubicBezTo>
              </a:path>
              <a:path w="2109" h="2878">
                <a:moveTo>
                  <a:pt x="4068" y="11733"/>
                </a:moveTo>
                <a:cubicBezTo>
                  <a:pt x="4185" y="11783"/>
                  <a:pt x="4256" y="11782"/>
                  <a:pt x="4390" y="11782"/>
                </a:cubicBezTo>
                <a:cubicBezTo>
                  <a:pt x="4446" y="11948"/>
                  <a:pt x="4394" y="11954"/>
                  <a:pt x="4242" y="11981"/>
                </a:cubicBezTo>
              </a:path>
              <a:path w="2109" h="2878">
                <a:moveTo>
                  <a:pt x="4018" y="11658"/>
                </a:moveTo>
                <a:cubicBezTo>
                  <a:pt x="4044" y="11626"/>
                  <a:pt x="4268" y="11359"/>
                  <a:pt x="4316" y="11385"/>
                </a:cubicBezTo>
                <a:cubicBezTo>
                  <a:pt x="4324" y="11410"/>
                  <a:pt x="4333" y="11435"/>
                  <a:pt x="4341" y="11460"/>
                </a:cubicBezTo>
              </a:path>
              <a:path w="2109" h="2878">
                <a:moveTo>
                  <a:pt x="3249" y="12725"/>
                </a:moveTo>
                <a:cubicBezTo>
                  <a:pt x="3485" y="12626"/>
                  <a:pt x="3731" y="12501"/>
                  <a:pt x="3969" y="12402"/>
                </a:cubicBezTo>
                <a:cubicBezTo>
                  <a:pt x="4318" y="12257"/>
                  <a:pt x="4679" y="12081"/>
                  <a:pt x="5035" y="11956"/>
                </a:cubicBezTo>
                <a:cubicBezTo>
                  <a:pt x="5043" y="11956"/>
                  <a:pt x="5052" y="11956"/>
                  <a:pt x="5060" y="11956"/>
                </a:cubicBezTo>
              </a:path>
              <a:path w="2109" h="2878">
                <a:moveTo>
                  <a:pt x="3101" y="10889"/>
                </a:moveTo>
                <a:cubicBezTo>
                  <a:pt x="3246" y="10937"/>
                  <a:pt x="3393" y="11041"/>
                  <a:pt x="3522" y="11137"/>
                </a:cubicBezTo>
                <a:cubicBezTo>
                  <a:pt x="3545" y="11160"/>
                  <a:pt x="3549" y="11168"/>
                  <a:pt x="3572" y="11162"/>
                </a:cubicBezTo>
              </a:path>
              <a:path w="2109" h="2878">
                <a:moveTo>
                  <a:pt x="2977" y="10468"/>
                </a:moveTo>
                <a:cubicBezTo>
                  <a:pt x="2923" y="10468"/>
                  <a:pt x="3045" y="10417"/>
                  <a:pt x="3076" y="10393"/>
                </a:cubicBezTo>
                <a:cubicBezTo>
                  <a:pt x="3096" y="10378"/>
                  <a:pt x="3145" y="10347"/>
                  <a:pt x="3150" y="10344"/>
                </a:cubicBezTo>
                <a:cubicBezTo>
                  <a:pt x="3158" y="10344"/>
                  <a:pt x="3167" y="10344"/>
                  <a:pt x="3175" y="10344"/>
                </a:cubicBezTo>
                <a:cubicBezTo>
                  <a:pt x="3198" y="10476"/>
                  <a:pt x="3249" y="10606"/>
                  <a:pt x="3274" y="10740"/>
                </a:cubicBezTo>
                <a:cubicBezTo>
                  <a:pt x="3274" y="10765"/>
                  <a:pt x="3274" y="10773"/>
                  <a:pt x="3274" y="10790"/>
                </a:cubicBezTo>
              </a:path>
              <a:path w="2109" h="2878">
                <a:moveTo>
                  <a:pt x="3473" y="10468"/>
                </a:moveTo>
                <a:cubicBezTo>
                  <a:pt x="3529" y="10544"/>
                  <a:pt x="3585" y="10620"/>
                  <a:pt x="3646" y="10691"/>
                </a:cubicBezTo>
              </a:path>
              <a:path w="2109" h="2878">
                <a:moveTo>
                  <a:pt x="4812" y="12328"/>
                </a:moveTo>
                <a:cubicBezTo>
                  <a:pt x="4760" y="12349"/>
                  <a:pt x="4696" y="12431"/>
                  <a:pt x="4663" y="12452"/>
                </a:cubicBezTo>
                <a:cubicBezTo>
                  <a:pt x="4621" y="12478"/>
                  <a:pt x="4652" y="12525"/>
                  <a:pt x="4688" y="12576"/>
                </a:cubicBezTo>
                <a:cubicBezTo>
                  <a:pt x="4711" y="12599"/>
                  <a:pt x="4719" y="12603"/>
                  <a:pt x="4713" y="12626"/>
                </a:cubicBezTo>
                <a:cubicBezTo>
                  <a:pt x="4762" y="12544"/>
                  <a:pt x="4868" y="12484"/>
                  <a:pt x="4961" y="12576"/>
                </a:cubicBezTo>
                <a:cubicBezTo>
                  <a:pt x="5062" y="12677"/>
                  <a:pt x="4916" y="12759"/>
                  <a:pt x="4837" y="12774"/>
                </a:cubicBezTo>
                <a:cubicBezTo>
                  <a:pt x="4820" y="12774"/>
                  <a:pt x="4804" y="12774"/>
                  <a:pt x="4787" y="12774"/>
                </a:cubicBezTo>
              </a:path>
              <a:path w="2109" h="2878">
                <a:moveTo>
                  <a:pt x="4142" y="12725"/>
                </a:moveTo>
                <a:cubicBezTo>
                  <a:pt x="4142" y="12640"/>
                  <a:pt x="4153" y="12611"/>
                  <a:pt x="4242" y="12601"/>
                </a:cubicBezTo>
                <a:cubicBezTo>
                  <a:pt x="4357" y="12588"/>
                  <a:pt x="4346" y="12722"/>
                  <a:pt x="4316" y="12799"/>
                </a:cubicBezTo>
                <a:cubicBezTo>
                  <a:pt x="4293" y="12822"/>
                  <a:pt x="4289" y="12830"/>
                  <a:pt x="4266" y="12824"/>
                </a:cubicBezTo>
                <a:cubicBezTo>
                  <a:pt x="4331" y="12737"/>
                  <a:pt x="4417" y="12753"/>
                  <a:pt x="4465" y="12849"/>
                </a:cubicBezTo>
                <a:cubicBezTo>
                  <a:pt x="4513" y="12944"/>
                  <a:pt x="4451" y="12963"/>
                  <a:pt x="4390" y="13022"/>
                </a:cubicBezTo>
              </a:path>
              <a:path w="2109" h="2878">
                <a:moveTo>
                  <a:pt x="3795" y="12898"/>
                </a:moveTo>
                <a:cubicBezTo>
                  <a:pt x="3770" y="12898"/>
                  <a:pt x="3762" y="12898"/>
                  <a:pt x="3746" y="12898"/>
                </a:cubicBezTo>
                <a:cubicBezTo>
                  <a:pt x="3860" y="12956"/>
                  <a:pt x="3914" y="13092"/>
                  <a:pt x="3994" y="13196"/>
                </a:cubicBezTo>
                <a:cubicBezTo>
                  <a:pt x="4002" y="13204"/>
                  <a:pt x="4010" y="13213"/>
                  <a:pt x="4018" y="1322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62080" y="5313240"/>
            <a:ext cx="393840" cy="312840"/>
          </a:xfrm>
          <a:custGeom>
            <a:avLst/>
            <a:gdLst/>
            <a:ahLst/>
            <a:rect l="l" t="t" r="r" b="b"/>
            <a:pathLst>
              <a:path w="1092" h="869">
                <a:moveTo>
                  <a:pt x="6077" y="15081"/>
                </a:moveTo>
                <a:cubicBezTo>
                  <a:pt x="6077" y="14991"/>
                  <a:pt x="6087" y="14995"/>
                  <a:pt x="6003" y="14932"/>
                </a:cubicBezTo>
                <a:cubicBezTo>
                  <a:pt x="5929" y="14877"/>
                  <a:pt x="5764" y="14826"/>
                  <a:pt x="5730" y="14957"/>
                </a:cubicBezTo>
                <a:cubicBezTo>
                  <a:pt x="5704" y="15057"/>
                  <a:pt x="5747" y="15164"/>
                  <a:pt x="5779" y="15255"/>
                </a:cubicBezTo>
                <a:cubicBezTo>
                  <a:pt x="5885" y="15167"/>
                  <a:pt x="5914" y="15094"/>
                  <a:pt x="5978" y="14982"/>
                </a:cubicBezTo>
                <a:cubicBezTo>
                  <a:pt x="5997" y="15173"/>
                  <a:pt x="6022" y="15360"/>
                  <a:pt x="6028" y="15553"/>
                </a:cubicBezTo>
                <a:cubicBezTo>
                  <a:pt x="6028" y="15577"/>
                  <a:pt x="6028" y="15585"/>
                  <a:pt x="6052" y="15577"/>
                </a:cubicBezTo>
              </a:path>
              <a:path w="1092" h="869">
                <a:moveTo>
                  <a:pt x="6276" y="14982"/>
                </a:moveTo>
                <a:cubicBezTo>
                  <a:pt x="6225" y="15141"/>
                  <a:pt x="6162" y="15413"/>
                  <a:pt x="6251" y="15577"/>
                </a:cubicBezTo>
                <a:cubicBezTo>
                  <a:pt x="6276" y="15594"/>
                  <a:pt x="6300" y="15610"/>
                  <a:pt x="6325" y="15627"/>
                </a:cubicBezTo>
                <a:cubicBezTo>
                  <a:pt x="6530" y="15499"/>
                  <a:pt x="6621" y="15366"/>
                  <a:pt x="6499" y="15106"/>
                </a:cubicBezTo>
                <a:cubicBezTo>
                  <a:pt x="6425" y="14949"/>
                  <a:pt x="6326" y="15003"/>
                  <a:pt x="6226" y="15056"/>
                </a:cubicBezTo>
              </a:path>
              <a:path w="1092" h="869">
                <a:moveTo>
                  <a:pt x="6697" y="14808"/>
                </a:moveTo>
                <a:cubicBezTo>
                  <a:pt x="6620" y="14900"/>
                  <a:pt x="6612" y="14986"/>
                  <a:pt x="6648" y="15106"/>
                </a:cubicBezTo>
                <a:cubicBezTo>
                  <a:pt x="6695" y="15063"/>
                  <a:pt x="6947" y="14810"/>
                  <a:pt x="6772" y="14759"/>
                </a:cubicBezTo>
                <a:cubicBezTo>
                  <a:pt x="6687" y="14787"/>
                  <a:pt x="6657" y="14805"/>
                  <a:pt x="6648" y="1488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0160" y="4938840"/>
            <a:ext cx="696960" cy="482400"/>
          </a:xfrm>
          <a:custGeom>
            <a:avLst/>
            <a:gdLst/>
            <a:ahLst/>
            <a:rect l="l" t="t" r="r" b="b"/>
            <a:pathLst>
              <a:path w="1936" h="1340">
                <a:moveTo>
                  <a:pt x="2307" y="14610"/>
                </a:moveTo>
                <a:cubicBezTo>
                  <a:pt x="2388" y="14610"/>
                  <a:pt x="2452" y="14884"/>
                  <a:pt x="2505" y="14982"/>
                </a:cubicBezTo>
                <a:cubicBezTo>
                  <a:pt x="2547" y="15024"/>
                  <a:pt x="2554" y="15032"/>
                  <a:pt x="2580" y="15056"/>
                </a:cubicBezTo>
                <a:cubicBezTo>
                  <a:pt x="2654" y="14972"/>
                  <a:pt x="2711" y="14897"/>
                  <a:pt x="2778" y="14808"/>
                </a:cubicBezTo>
              </a:path>
              <a:path w="1936" h="1340">
                <a:moveTo>
                  <a:pt x="2555" y="14808"/>
                </a:moveTo>
                <a:cubicBezTo>
                  <a:pt x="2567" y="14689"/>
                  <a:pt x="2613" y="14620"/>
                  <a:pt x="2604" y="14511"/>
                </a:cubicBezTo>
              </a:path>
              <a:path w="1936" h="1340">
                <a:moveTo>
                  <a:pt x="2356" y="14536"/>
                </a:moveTo>
                <a:cubicBezTo>
                  <a:pt x="2424" y="14377"/>
                  <a:pt x="2470" y="14287"/>
                  <a:pt x="2629" y="14238"/>
                </a:cubicBezTo>
              </a:path>
              <a:path w="1936" h="1340">
                <a:moveTo>
                  <a:pt x="2952" y="14511"/>
                </a:moveTo>
                <a:cubicBezTo>
                  <a:pt x="2999" y="14545"/>
                  <a:pt x="3206" y="14697"/>
                  <a:pt x="3274" y="14635"/>
                </a:cubicBezTo>
                <a:cubicBezTo>
                  <a:pt x="3274" y="14618"/>
                  <a:pt x="3274" y="14602"/>
                  <a:pt x="3274" y="14585"/>
                </a:cubicBezTo>
              </a:path>
              <a:path w="1936" h="1340">
                <a:moveTo>
                  <a:pt x="3175" y="13965"/>
                </a:moveTo>
                <a:cubicBezTo>
                  <a:pt x="3280" y="14161"/>
                  <a:pt x="3377" y="14353"/>
                  <a:pt x="3473" y="14560"/>
                </a:cubicBezTo>
                <a:cubicBezTo>
                  <a:pt x="3495" y="14583"/>
                  <a:pt x="3503" y="14588"/>
                  <a:pt x="3497" y="14610"/>
                </a:cubicBezTo>
              </a:path>
              <a:path w="1936" h="1340">
                <a:moveTo>
                  <a:pt x="4142" y="13965"/>
                </a:moveTo>
                <a:cubicBezTo>
                  <a:pt x="4189" y="14058"/>
                  <a:pt x="4202" y="14085"/>
                  <a:pt x="4242" y="14139"/>
                </a:cubicBezTo>
              </a:path>
              <a:path w="1936" h="1340">
                <a:moveTo>
                  <a:pt x="3969" y="13742"/>
                </a:moveTo>
                <a:cubicBezTo>
                  <a:pt x="3969" y="13734"/>
                  <a:pt x="3969" y="13725"/>
                  <a:pt x="3969" y="13717"/>
                </a:cubicBezTo>
              </a:path>
              <a:path w="1936" h="1340">
                <a:moveTo>
                  <a:pt x="3969" y="13717"/>
                </a:moveTo>
                <a:lnTo>
                  <a:pt x="3969" y="13717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795920"/>
            <a:ext cx="1125720" cy="606240"/>
          </a:xfrm>
          <a:custGeom>
            <a:avLst/>
            <a:gdLst/>
            <a:ahLst/>
            <a:rect l="l" t="t" r="r" b="b"/>
            <a:pathLst>
              <a:path w="3126" h="1688">
                <a:moveTo>
                  <a:pt x="3299" y="14436"/>
                </a:moveTo>
                <a:cubicBezTo>
                  <a:pt x="3379" y="14333"/>
                  <a:pt x="3449" y="14178"/>
                  <a:pt x="3597" y="14163"/>
                </a:cubicBezTo>
                <a:cubicBezTo>
                  <a:pt x="3621" y="14163"/>
                  <a:pt x="3629" y="14163"/>
                  <a:pt x="3621" y="14188"/>
                </a:cubicBezTo>
                <a:cubicBezTo>
                  <a:pt x="3576" y="14158"/>
                  <a:pt x="3472" y="14093"/>
                  <a:pt x="3448" y="14163"/>
                </a:cubicBezTo>
                <a:cubicBezTo>
                  <a:pt x="3404" y="14290"/>
                  <a:pt x="3489" y="14550"/>
                  <a:pt x="3671" y="14486"/>
                </a:cubicBezTo>
                <a:cubicBezTo>
                  <a:pt x="3763" y="14396"/>
                  <a:pt x="3791" y="14348"/>
                  <a:pt x="3770" y="14238"/>
                </a:cubicBezTo>
              </a:path>
              <a:path w="3126" h="1688">
                <a:moveTo>
                  <a:pt x="3746" y="14064"/>
                </a:moveTo>
                <a:cubicBezTo>
                  <a:pt x="3774" y="14131"/>
                  <a:pt x="3820" y="14182"/>
                  <a:pt x="3870" y="14238"/>
                </a:cubicBezTo>
                <a:cubicBezTo>
                  <a:pt x="3870" y="14310"/>
                  <a:pt x="3770" y="14065"/>
                  <a:pt x="3770" y="14064"/>
                </a:cubicBezTo>
                <a:cubicBezTo>
                  <a:pt x="3741" y="13933"/>
                  <a:pt x="3819" y="13925"/>
                  <a:pt x="3919" y="13891"/>
                </a:cubicBezTo>
                <a:cubicBezTo>
                  <a:pt x="3944" y="13883"/>
                  <a:pt x="3969" y="13874"/>
                  <a:pt x="3994" y="13866"/>
                </a:cubicBezTo>
              </a:path>
              <a:path w="3126" h="1688">
                <a:moveTo>
                  <a:pt x="4415" y="13742"/>
                </a:moveTo>
                <a:cubicBezTo>
                  <a:pt x="4375" y="13928"/>
                  <a:pt x="4375" y="13982"/>
                  <a:pt x="4539" y="14064"/>
                </a:cubicBezTo>
                <a:cubicBezTo>
                  <a:pt x="4638" y="13929"/>
                  <a:pt x="4691" y="13793"/>
                  <a:pt x="4490" y="13717"/>
                </a:cubicBezTo>
                <a:cubicBezTo>
                  <a:pt x="4432" y="13717"/>
                  <a:pt x="4423" y="13717"/>
                  <a:pt x="4390" y="13717"/>
                </a:cubicBezTo>
              </a:path>
              <a:path w="3126" h="1688">
                <a:moveTo>
                  <a:pt x="4862" y="13767"/>
                </a:moveTo>
                <a:cubicBezTo>
                  <a:pt x="4822" y="13883"/>
                  <a:pt x="4738" y="13520"/>
                  <a:pt x="4738" y="13519"/>
                </a:cubicBezTo>
                <a:cubicBezTo>
                  <a:pt x="4713" y="13356"/>
                  <a:pt x="4708" y="13367"/>
                  <a:pt x="4812" y="13320"/>
                </a:cubicBezTo>
              </a:path>
              <a:path w="3126" h="1688">
                <a:moveTo>
                  <a:pt x="4465" y="14660"/>
                </a:moveTo>
                <a:cubicBezTo>
                  <a:pt x="4396" y="14591"/>
                  <a:pt x="4343" y="14597"/>
                  <a:pt x="4242" y="14585"/>
                </a:cubicBezTo>
                <a:cubicBezTo>
                  <a:pt x="4127" y="14765"/>
                  <a:pt x="4194" y="14844"/>
                  <a:pt x="4316" y="15007"/>
                </a:cubicBezTo>
                <a:cubicBezTo>
                  <a:pt x="4454" y="14869"/>
                  <a:pt x="4439" y="14821"/>
                  <a:pt x="4415" y="14610"/>
                </a:cubicBezTo>
                <a:cubicBezTo>
                  <a:pt x="4465" y="14670"/>
                  <a:pt x="4582" y="14786"/>
                  <a:pt x="4614" y="14684"/>
                </a:cubicBezTo>
                <a:cubicBezTo>
                  <a:pt x="4655" y="14553"/>
                  <a:pt x="4625" y="14495"/>
                  <a:pt x="4713" y="14635"/>
                </a:cubicBezTo>
                <a:cubicBezTo>
                  <a:pt x="4685" y="14539"/>
                  <a:pt x="4581" y="14388"/>
                  <a:pt x="4738" y="14337"/>
                </a:cubicBezTo>
                <a:cubicBezTo>
                  <a:pt x="4873" y="14293"/>
                  <a:pt x="4928" y="14396"/>
                  <a:pt x="5011" y="14436"/>
                </a:cubicBezTo>
              </a:path>
              <a:path w="3126" h="1688">
                <a:moveTo>
                  <a:pt x="4986" y="14114"/>
                </a:moveTo>
                <a:cubicBezTo>
                  <a:pt x="4989" y="14155"/>
                  <a:pt x="5047" y="14662"/>
                  <a:pt x="5184" y="14436"/>
                </a:cubicBezTo>
                <a:cubicBezTo>
                  <a:pt x="5256" y="14317"/>
                  <a:pt x="5182" y="14235"/>
                  <a:pt x="5110" y="14163"/>
                </a:cubicBezTo>
                <a:cubicBezTo>
                  <a:pt x="5334" y="14285"/>
                  <a:pt x="5531" y="14388"/>
                  <a:pt x="5507" y="14684"/>
                </a:cubicBezTo>
                <a:cubicBezTo>
                  <a:pt x="5483" y="14981"/>
                  <a:pt x="5361" y="14938"/>
                  <a:pt x="5209" y="14858"/>
                </a:cubicBezTo>
              </a:path>
              <a:path w="3126" h="1688">
                <a:moveTo>
                  <a:pt x="5358" y="13767"/>
                </a:moveTo>
                <a:cubicBezTo>
                  <a:pt x="5499" y="13916"/>
                  <a:pt x="5616" y="14067"/>
                  <a:pt x="5730" y="14238"/>
                </a:cubicBezTo>
                <a:cubicBezTo>
                  <a:pt x="5730" y="14163"/>
                  <a:pt x="5741" y="14120"/>
                  <a:pt x="5755" y="14039"/>
                </a:cubicBezTo>
              </a:path>
              <a:path w="3126" h="1688">
                <a:moveTo>
                  <a:pt x="5755" y="13990"/>
                </a:moveTo>
                <a:cubicBezTo>
                  <a:pt x="5800" y="13936"/>
                  <a:pt x="5899" y="13867"/>
                  <a:pt x="5978" y="13841"/>
                </a:cubicBezTo>
                <a:cubicBezTo>
                  <a:pt x="5951" y="13828"/>
                  <a:pt x="5767" y="13645"/>
                  <a:pt x="5730" y="13742"/>
                </a:cubicBezTo>
                <a:cubicBezTo>
                  <a:pt x="5676" y="13884"/>
                  <a:pt x="5770" y="14027"/>
                  <a:pt x="5829" y="14139"/>
                </a:cubicBezTo>
                <a:cubicBezTo>
                  <a:pt x="6059" y="14107"/>
                  <a:pt x="6083" y="13878"/>
                  <a:pt x="6152" y="13643"/>
                </a:cubicBezTo>
              </a:path>
              <a:path w="3126" h="1688">
                <a:moveTo>
                  <a:pt x="6077" y="13593"/>
                </a:moveTo>
                <a:cubicBezTo>
                  <a:pt x="6069" y="13626"/>
                  <a:pt x="6060" y="13659"/>
                  <a:pt x="6052" y="13692"/>
                </a:cubicBezTo>
                <a:cubicBezTo>
                  <a:pt x="6160" y="13757"/>
                  <a:pt x="6235" y="13625"/>
                  <a:pt x="6350" y="13643"/>
                </a:cubicBezTo>
                <a:cubicBezTo>
                  <a:pt x="6375" y="13659"/>
                  <a:pt x="6399" y="13676"/>
                  <a:pt x="6424" y="13692"/>
                </a:cubicBezTo>
                <a:cubicBezTo>
                  <a:pt x="6397" y="13910"/>
                  <a:pt x="6343" y="13928"/>
                  <a:pt x="6127" y="1391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87760" y="5268960"/>
            <a:ext cx="1009440" cy="482400"/>
          </a:xfrm>
          <a:custGeom>
            <a:avLst/>
            <a:gdLst/>
            <a:ahLst/>
            <a:rect l="l" t="t" r="r" b="b"/>
            <a:pathLst>
              <a:path w="2804" h="1340">
                <a:moveTo>
                  <a:pt x="7466" y="14833"/>
                </a:moveTo>
                <a:cubicBezTo>
                  <a:pt x="7522" y="14789"/>
                  <a:pt x="7551" y="14787"/>
                  <a:pt x="7665" y="14784"/>
                </a:cubicBezTo>
                <a:cubicBezTo>
                  <a:pt x="7745" y="14782"/>
                  <a:pt x="7995" y="14784"/>
                  <a:pt x="7739" y="14784"/>
                </a:cubicBezTo>
                <a:cubicBezTo>
                  <a:pt x="7647" y="14784"/>
                  <a:pt x="7374" y="14765"/>
                  <a:pt x="7466" y="14759"/>
                </a:cubicBezTo>
                <a:cubicBezTo>
                  <a:pt x="7632" y="14748"/>
                  <a:pt x="7796" y="14721"/>
                  <a:pt x="7962" y="14709"/>
                </a:cubicBezTo>
                <a:cubicBezTo>
                  <a:pt x="8003" y="14709"/>
                  <a:pt x="8045" y="14709"/>
                  <a:pt x="8086" y="14709"/>
                </a:cubicBezTo>
                <a:cubicBezTo>
                  <a:pt x="7928" y="14733"/>
                  <a:pt x="7680" y="14692"/>
                  <a:pt x="7541" y="14784"/>
                </a:cubicBezTo>
                <a:cubicBezTo>
                  <a:pt x="7369" y="14898"/>
                  <a:pt x="7931" y="14658"/>
                  <a:pt x="8136" y="14635"/>
                </a:cubicBezTo>
                <a:cubicBezTo>
                  <a:pt x="8228" y="14625"/>
                  <a:pt x="8424" y="14618"/>
                  <a:pt x="8483" y="14660"/>
                </a:cubicBezTo>
                <a:cubicBezTo>
                  <a:pt x="8547" y="14706"/>
                  <a:pt x="8538" y="14842"/>
                  <a:pt x="8533" y="14932"/>
                </a:cubicBezTo>
                <a:cubicBezTo>
                  <a:pt x="8520" y="15158"/>
                  <a:pt x="8483" y="15375"/>
                  <a:pt x="8483" y="15602"/>
                </a:cubicBezTo>
                <a:cubicBezTo>
                  <a:pt x="8483" y="15527"/>
                  <a:pt x="8497" y="15503"/>
                  <a:pt x="8508" y="15429"/>
                </a:cubicBezTo>
                <a:cubicBezTo>
                  <a:pt x="8541" y="15192"/>
                  <a:pt x="8548" y="14948"/>
                  <a:pt x="8558" y="14709"/>
                </a:cubicBezTo>
                <a:cubicBezTo>
                  <a:pt x="8558" y="14701"/>
                  <a:pt x="8558" y="14692"/>
                  <a:pt x="8558" y="14684"/>
                </a:cubicBezTo>
                <a:cubicBezTo>
                  <a:pt x="8558" y="15048"/>
                  <a:pt x="8558" y="15412"/>
                  <a:pt x="8558" y="15776"/>
                </a:cubicBezTo>
                <a:cubicBezTo>
                  <a:pt x="8541" y="15584"/>
                  <a:pt x="8528" y="15423"/>
                  <a:pt x="8533" y="15230"/>
                </a:cubicBezTo>
                <a:cubicBezTo>
                  <a:pt x="8536" y="15122"/>
                  <a:pt x="8506" y="14608"/>
                  <a:pt x="8558" y="15106"/>
                </a:cubicBezTo>
                <a:cubicBezTo>
                  <a:pt x="8581" y="15371"/>
                  <a:pt x="8590" y="15453"/>
                  <a:pt x="8558" y="15627"/>
                </a:cubicBezTo>
                <a:cubicBezTo>
                  <a:pt x="8558" y="15701"/>
                  <a:pt x="8558" y="15875"/>
                  <a:pt x="8558" y="15801"/>
                </a:cubicBezTo>
                <a:cubicBezTo>
                  <a:pt x="8558" y="15518"/>
                  <a:pt x="8565" y="15239"/>
                  <a:pt x="8582" y="14957"/>
                </a:cubicBezTo>
                <a:cubicBezTo>
                  <a:pt x="8592" y="14792"/>
                  <a:pt x="8633" y="14824"/>
                  <a:pt x="8483" y="14808"/>
                </a:cubicBezTo>
                <a:cubicBezTo>
                  <a:pt x="8267" y="14785"/>
                  <a:pt x="8056" y="14784"/>
                  <a:pt x="7838" y="14784"/>
                </a:cubicBezTo>
                <a:cubicBezTo>
                  <a:pt x="7797" y="14797"/>
                  <a:pt x="7805" y="14795"/>
                  <a:pt x="7764" y="14808"/>
                </a:cubicBezTo>
                <a:cubicBezTo>
                  <a:pt x="7945" y="14792"/>
                  <a:pt x="8178" y="14740"/>
                  <a:pt x="8359" y="14784"/>
                </a:cubicBezTo>
                <a:cubicBezTo>
                  <a:pt x="8587" y="14839"/>
                  <a:pt x="7899" y="14874"/>
                  <a:pt x="7665" y="14858"/>
                </a:cubicBezTo>
                <a:cubicBezTo>
                  <a:pt x="7591" y="14839"/>
                  <a:pt x="7584" y="14831"/>
                  <a:pt x="7541" y="14833"/>
                </a:cubicBezTo>
                <a:cubicBezTo>
                  <a:pt x="7723" y="14824"/>
                  <a:pt x="7904" y="14803"/>
                  <a:pt x="8086" y="14784"/>
                </a:cubicBezTo>
                <a:cubicBezTo>
                  <a:pt x="8236" y="14769"/>
                  <a:pt x="8483" y="14695"/>
                  <a:pt x="8632" y="14759"/>
                </a:cubicBezTo>
                <a:cubicBezTo>
                  <a:pt x="8695" y="14786"/>
                  <a:pt x="8745" y="14991"/>
                  <a:pt x="8756" y="15056"/>
                </a:cubicBezTo>
                <a:cubicBezTo>
                  <a:pt x="8801" y="15317"/>
                  <a:pt x="8781" y="15587"/>
                  <a:pt x="8781" y="15850"/>
                </a:cubicBezTo>
                <a:cubicBezTo>
                  <a:pt x="8781" y="15900"/>
                  <a:pt x="8801" y="15933"/>
                  <a:pt x="8806" y="15949"/>
                </a:cubicBezTo>
                <a:cubicBezTo>
                  <a:pt x="8806" y="15957"/>
                  <a:pt x="8806" y="15966"/>
                  <a:pt x="8806" y="15974"/>
                </a:cubicBezTo>
              </a:path>
              <a:path w="2804" h="1340">
                <a:moveTo>
                  <a:pt x="9327" y="15280"/>
                </a:moveTo>
                <a:cubicBezTo>
                  <a:pt x="9266" y="15209"/>
                  <a:pt x="9160" y="15113"/>
                  <a:pt x="9054" y="15180"/>
                </a:cubicBezTo>
                <a:cubicBezTo>
                  <a:pt x="8916" y="15267"/>
                  <a:pt x="8967" y="15398"/>
                  <a:pt x="8979" y="15528"/>
                </a:cubicBezTo>
                <a:cubicBezTo>
                  <a:pt x="9161" y="15505"/>
                  <a:pt x="9224" y="15465"/>
                  <a:pt x="9277" y="15280"/>
                </a:cubicBezTo>
                <a:cubicBezTo>
                  <a:pt x="9277" y="15272"/>
                  <a:pt x="9277" y="15263"/>
                  <a:pt x="9277" y="15255"/>
                </a:cubicBezTo>
                <a:cubicBezTo>
                  <a:pt x="9301" y="15397"/>
                  <a:pt x="9353" y="15565"/>
                  <a:pt x="9401" y="15701"/>
                </a:cubicBezTo>
                <a:cubicBezTo>
                  <a:pt x="9409" y="15709"/>
                  <a:pt x="9418" y="15718"/>
                  <a:pt x="9426" y="15726"/>
                </a:cubicBezTo>
              </a:path>
              <a:path w="2804" h="1340">
                <a:moveTo>
                  <a:pt x="9699" y="15156"/>
                </a:moveTo>
                <a:cubicBezTo>
                  <a:pt x="9622" y="15277"/>
                  <a:pt x="9564" y="15453"/>
                  <a:pt x="9599" y="15602"/>
                </a:cubicBezTo>
                <a:cubicBezTo>
                  <a:pt x="9616" y="15627"/>
                  <a:pt x="9632" y="15652"/>
                  <a:pt x="9649" y="15677"/>
                </a:cubicBezTo>
                <a:cubicBezTo>
                  <a:pt x="9820" y="15665"/>
                  <a:pt x="9949" y="15641"/>
                  <a:pt x="9872" y="15429"/>
                </a:cubicBezTo>
                <a:cubicBezTo>
                  <a:pt x="9847" y="15360"/>
                  <a:pt x="9742" y="15164"/>
                  <a:pt x="9649" y="15230"/>
                </a:cubicBezTo>
                <a:cubicBezTo>
                  <a:pt x="9632" y="15247"/>
                  <a:pt x="9616" y="15263"/>
                  <a:pt x="9599" y="15280"/>
                </a:cubicBezTo>
              </a:path>
              <a:path w="2804" h="1340">
                <a:moveTo>
                  <a:pt x="10071" y="15156"/>
                </a:moveTo>
                <a:cubicBezTo>
                  <a:pt x="10027" y="15210"/>
                  <a:pt x="10008" y="15259"/>
                  <a:pt x="9996" y="15329"/>
                </a:cubicBezTo>
                <a:cubicBezTo>
                  <a:pt x="10148" y="15338"/>
                  <a:pt x="10149" y="15332"/>
                  <a:pt x="10269" y="15230"/>
                </a:cubicBezTo>
                <a:cubicBezTo>
                  <a:pt x="10200" y="15150"/>
                  <a:pt x="10202" y="15163"/>
                  <a:pt x="10096" y="1518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8880" y="5322960"/>
            <a:ext cx="741240" cy="384120"/>
          </a:xfrm>
          <a:custGeom>
            <a:avLst/>
            <a:gdLst/>
            <a:ahLst/>
            <a:rect l="l" t="t" r="r" b="b"/>
            <a:pathLst>
              <a:path w="2060" h="1067">
                <a:moveTo>
                  <a:pt x="16942" y="15106"/>
                </a:moveTo>
                <a:cubicBezTo>
                  <a:pt x="16965" y="15060"/>
                  <a:pt x="17024" y="15037"/>
                  <a:pt x="17066" y="15007"/>
                </a:cubicBezTo>
                <a:cubicBezTo>
                  <a:pt x="17099" y="14984"/>
                  <a:pt x="17132" y="14956"/>
                  <a:pt x="17140" y="14932"/>
                </a:cubicBezTo>
                <a:cubicBezTo>
                  <a:pt x="17022" y="15050"/>
                  <a:pt x="16945" y="15154"/>
                  <a:pt x="16867" y="15304"/>
                </a:cubicBezTo>
                <a:cubicBezTo>
                  <a:pt x="16788" y="15456"/>
                  <a:pt x="16754" y="15606"/>
                  <a:pt x="16743" y="15776"/>
                </a:cubicBezTo>
                <a:cubicBezTo>
                  <a:pt x="16743" y="15801"/>
                  <a:pt x="16743" y="15809"/>
                  <a:pt x="16743" y="15825"/>
                </a:cubicBezTo>
                <a:cubicBezTo>
                  <a:pt x="16773" y="15885"/>
                  <a:pt x="16768" y="15777"/>
                  <a:pt x="16768" y="15751"/>
                </a:cubicBezTo>
                <a:cubicBezTo>
                  <a:pt x="16768" y="15611"/>
                  <a:pt x="16837" y="15452"/>
                  <a:pt x="16892" y="15329"/>
                </a:cubicBezTo>
                <a:cubicBezTo>
                  <a:pt x="16938" y="15226"/>
                  <a:pt x="17021" y="15039"/>
                  <a:pt x="17140" y="15007"/>
                </a:cubicBezTo>
                <a:cubicBezTo>
                  <a:pt x="17148" y="15007"/>
                  <a:pt x="17157" y="15007"/>
                  <a:pt x="17165" y="15007"/>
                </a:cubicBezTo>
                <a:cubicBezTo>
                  <a:pt x="17134" y="15022"/>
                  <a:pt x="17012" y="15102"/>
                  <a:pt x="16991" y="15131"/>
                </a:cubicBezTo>
                <a:cubicBezTo>
                  <a:pt x="16991" y="15139"/>
                  <a:pt x="16991" y="15148"/>
                  <a:pt x="16991" y="15156"/>
                </a:cubicBezTo>
              </a:path>
              <a:path w="2060" h="1067">
                <a:moveTo>
                  <a:pt x="16644" y="15354"/>
                </a:moveTo>
                <a:cubicBezTo>
                  <a:pt x="16774" y="15354"/>
                  <a:pt x="16913" y="15384"/>
                  <a:pt x="17041" y="15404"/>
                </a:cubicBezTo>
                <a:cubicBezTo>
                  <a:pt x="17118" y="15423"/>
                  <a:pt x="17135" y="15416"/>
                  <a:pt x="17165" y="15453"/>
                </a:cubicBezTo>
                <a:cubicBezTo>
                  <a:pt x="16983" y="15438"/>
                  <a:pt x="16801" y="15422"/>
                  <a:pt x="16619" y="15404"/>
                </a:cubicBezTo>
                <a:cubicBezTo>
                  <a:pt x="16611" y="15404"/>
                  <a:pt x="16602" y="15404"/>
                  <a:pt x="16594" y="15404"/>
                </a:cubicBezTo>
                <a:cubicBezTo>
                  <a:pt x="16700" y="15446"/>
                  <a:pt x="16811" y="15464"/>
                  <a:pt x="16917" y="15503"/>
                </a:cubicBezTo>
                <a:cubicBezTo>
                  <a:pt x="16869" y="15497"/>
                  <a:pt x="16571" y="15418"/>
                  <a:pt x="16570" y="15503"/>
                </a:cubicBezTo>
                <a:cubicBezTo>
                  <a:pt x="16570" y="15504"/>
                  <a:pt x="16783" y="15525"/>
                  <a:pt x="16818" y="15528"/>
                </a:cubicBezTo>
              </a:path>
              <a:path w="2060" h="1067">
                <a:moveTo>
                  <a:pt x="15205" y="15032"/>
                </a:moveTo>
                <a:cubicBezTo>
                  <a:pt x="15188" y="15128"/>
                  <a:pt x="15155" y="15195"/>
                  <a:pt x="15106" y="15280"/>
                </a:cubicBezTo>
                <a:cubicBezTo>
                  <a:pt x="15202" y="15256"/>
                  <a:pt x="15370" y="15265"/>
                  <a:pt x="15453" y="15230"/>
                </a:cubicBezTo>
                <a:cubicBezTo>
                  <a:pt x="15453" y="15222"/>
                  <a:pt x="15453" y="15213"/>
                  <a:pt x="15453" y="15205"/>
                </a:cubicBezTo>
              </a:path>
              <a:path w="2060" h="1067">
                <a:moveTo>
                  <a:pt x="15404" y="14784"/>
                </a:moveTo>
                <a:cubicBezTo>
                  <a:pt x="15417" y="14992"/>
                  <a:pt x="15429" y="15195"/>
                  <a:pt x="15429" y="15404"/>
                </a:cubicBezTo>
                <a:cubicBezTo>
                  <a:pt x="15429" y="15454"/>
                  <a:pt x="15429" y="15503"/>
                  <a:pt x="15429" y="15453"/>
                </a:cubicBezTo>
              </a:path>
              <a:path w="2060" h="1067">
                <a:moveTo>
                  <a:pt x="15925" y="14784"/>
                </a:moveTo>
                <a:cubicBezTo>
                  <a:pt x="15903" y="14796"/>
                  <a:pt x="15716" y="14878"/>
                  <a:pt x="15701" y="14908"/>
                </a:cubicBezTo>
                <a:cubicBezTo>
                  <a:pt x="15683" y="14943"/>
                  <a:pt x="15661" y="15037"/>
                  <a:pt x="15652" y="15081"/>
                </a:cubicBezTo>
                <a:cubicBezTo>
                  <a:pt x="15795" y="15088"/>
                  <a:pt x="16032" y="15063"/>
                  <a:pt x="16049" y="15255"/>
                </a:cubicBezTo>
                <a:cubicBezTo>
                  <a:pt x="16061" y="15394"/>
                  <a:pt x="15806" y="15522"/>
                  <a:pt x="15701" y="15429"/>
                </a:cubicBezTo>
                <a:cubicBezTo>
                  <a:pt x="15701" y="15404"/>
                  <a:pt x="15701" y="15379"/>
                  <a:pt x="15701" y="15354"/>
                </a:cubicBezTo>
              </a:path>
              <a:path w="2060" h="1067">
                <a:moveTo>
                  <a:pt x="16173" y="14883"/>
                </a:moveTo>
                <a:cubicBezTo>
                  <a:pt x="16166" y="14949"/>
                  <a:pt x="16158" y="15004"/>
                  <a:pt x="16173" y="15056"/>
                </a:cubicBezTo>
                <a:cubicBezTo>
                  <a:pt x="16194" y="15049"/>
                  <a:pt x="16418" y="14894"/>
                  <a:pt x="16321" y="14858"/>
                </a:cubicBezTo>
                <a:cubicBezTo>
                  <a:pt x="16288" y="14858"/>
                  <a:pt x="16255" y="14858"/>
                  <a:pt x="16222" y="1485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67360" y="5616720"/>
            <a:ext cx="1490760" cy="920520"/>
          </a:xfrm>
          <a:custGeom>
            <a:avLst/>
            <a:gdLst/>
            <a:ahLst/>
            <a:rect l="l" t="t" r="r" b="b"/>
            <a:pathLst>
              <a:path w="4143" h="2556">
                <a:moveTo>
                  <a:pt x="19199" y="15900"/>
                </a:moveTo>
                <a:cubicBezTo>
                  <a:pt x="19160" y="15861"/>
                  <a:pt x="19225" y="15865"/>
                  <a:pt x="19149" y="15850"/>
                </a:cubicBezTo>
                <a:cubicBezTo>
                  <a:pt x="19117" y="15844"/>
                  <a:pt x="19133" y="15850"/>
                  <a:pt x="19100" y="15850"/>
                </a:cubicBezTo>
                <a:cubicBezTo>
                  <a:pt x="19196" y="15850"/>
                  <a:pt x="19284" y="15833"/>
                  <a:pt x="19372" y="15825"/>
                </a:cubicBezTo>
                <a:cubicBezTo>
                  <a:pt x="19504" y="15813"/>
                  <a:pt x="19639" y="15814"/>
                  <a:pt x="19769" y="15801"/>
                </a:cubicBezTo>
                <a:cubicBezTo>
                  <a:pt x="19900" y="15787"/>
                  <a:pt x="20035" y="15779"/>
                  <a:pt x="20166" y="15776"/>
                </a:cubicBezTo>
                <a:cubicBezTo>
                  <a:pt x="20392" y="15770"/>
                  <a:pt x="20613" y="15767"/>
                  <a:pt x="20836" y="15751"/>
                </a:cubicBezTo>
                <a:cubicBezTo>
                  <a:pt x="21005" y="15739"/>
                  <a:pt x="21163" y="15752"/>
                  <a:pt x="21332" y="15726"/>
                </a:cubicBezTo>
                <a:cubicBezTo>
                  <a:pt x="21533" y="15695"/>
                  <a:pt x="21748" y="15665"/>
                  <a:pt x="21952" y="15652"/>
                </a:cubicBezTo>
                <a:cubicBezTo>
                  <a:pt x="22143" y="15640"/>
                  <a:pt x="22333" y="15616"/>
                  <a:pt x="22523" y="15602"/>
                </a:cubicBezTo>
                <a:cubicBezTo>
                  <a:pt x="22703" y="15588"/>
                  <a:pt x="23094" y="15602"/>
                  <a:pt x="23192" y="15602"/>
                </a:cubicBezTo>
              </a:path>
              <a:path w="4143" h="2556">
                <a:moveTo>
                  <a:pt x="19124" y="15925"/>
                </a:moveTo>
                <a:cubicBezTo>
                  <a:pt x="19124" y="15897"/>
                  <a:pt x="19122" y="15886"/>
                  <a:pt x="19100" y="15875"/>
                </a:cubicBezTo>
                <a:cubicBezTo>
                  <a:pt x="19127" y="15893"/>
                  <a:pt x="19136" y="15898"/>
                  <a:pt x="19174" y="15925"/>
                </a:cubicBezTo>
                <a:cubicBezTo>
                  <a:pt x="19200" y="15944"/>
                  <a:pt x="19213" y="15943"/>
                  <a:pt x="19248" y="15974"/>
                </a:cubicBezTo>
                <a:cubicBezTo>
                  <a:pt x="19260" y="15985"/>
                  <a:pt x="19291" y="16029"/>
                  <a:pt x="19323" y="16024"/>
                </a:cubicBezTo>
                <a:cubicBezTo>
                  <a:pt x="19364" y="16018"/>
                  <a:pt x="19349" y="15986"/>
                  <a:pt x="19372" y="15974"/>
                </a:cubicBezTo>
                <a:cubicBezTo>
                  <a:pt x="19408" y="15991"/>
                  <a:pt x="19415" y="15998"/>
                  <a:pt x="19472" y="16024"/>
                </a:cubicBezTo>
                <a:cubicBezTo>
                  <a:pt x="19551" y="16060"/>
                  <a:pt x="19616" y="16095"/>
                  <a:pt x="19695" y="16148"/>
                </a:cubicBezTo>
                <a:cubicBezTo>
                  <a:pt x="19781" y="16206"/>
                  <a:pt x="19860" y="16260"/>
                  <a:pt x="19943" y="16321"/>
                </a:cubicBezTo>
                <a:cubicBezTo>
                  <a:pt x="20015" y="16374"/>
                  <a:pt x="20090" y="16421"/>
                  <a:pt x="20166" y="16470"/>
                </a:cubicBezTo>
                <a:cubicBezTo>
                  <a:pt x="20219" y="16504"/>
                  <a:pt x="20253" y="16560"/>
                  <a:pt x="20290" y="16594"/>
                </a:cubicBezTo>
                <a:cubicBezTo>
                  <a:pt x="20347" y="16645"/>
                  <a:pt x="20418" y="16689"/>
                  <a:pt x="20464" y="16743"/>
                </a:cubicBezTo>
                <a:cubicBezTo>
                  <a:pt x="20544" y="16837"/>
                  <a:pt x="20546" y="16849"/>
                  <a:pt x="20638" y="16917"/>
                </a:cubicBezTo>
                <a:cubicBezTo>
                  <a:pt x="20697" y="16960"/>
                  <a:pt x="20783" y="16998"/>
                  <a:pt x="20836" y="17041"/>
                </a:cubicBezTo>
                <a:cubicBezTo>
                  <a:pt x="20901" y="17093"/>
                  <a:pt x="20963" y="17183"/>
                  <a:pt x="21034" y="17239"/>
                </a:cubicBezTo>
                <a:cubicBezTo>
                  <a:pt x="21105" y="17295"/>
                  <a:pt x="21191" y="17330"/>
                  <a:pt x="21258" y="17388"/>
                </a:cubicBezTo>
                <a:cubicBezTo>
                  <a:pt x="21334" y="17454"/>
                  <a:pt x="21399" y="17503"/>
                  <a:pt x="21481" y="17562"/>
                </a:cubicBezTo>
                <a:cubicBezTo>
                  <a:pt x="21538" y="17603"/>
                  <a:pt x="21596" y="17648"/>
                  <a:pt x="21654" y="17686"/>
                </a:cubicBezTo>
                <a:cubicBezTo>
                  <a:pt x="21723" y="17732"/>
                  <a:pt x="21786" y="17785"/>
                  <a:pt x="21853" y="17835"/>
                </a:cubicBezTo>
                <a:cubicBezTo>
                  <a:pt x="21914" y="17881"/>
                  <a:pt x="21990" y="17912"/>
                  <a:pt x="22051" y="17959"/>
                </a:cubicBezTo>
                <a:cubicBezTo>
                  <a:pt x="22096" y="17993"/>
                  <a:pt x="22163" y="18042"/>
                  <a:pt x="22200" y="18083"/>
                </a:cubicBezTo>
                <a:cubicBezTo>
                  <a:pt x="22245" y="18132"/>
                  <a:pt x="22231" y="18135"/>
                  <a:pt x="22275" y="18157"/>
                </a:cubicBezTo>
                <a:cubicBezTo>
                  <a:pt x="22299" y="18157"/>
                  <a:pt x="22308" y="18157"/>
                  <a:pt x="22324" y="1815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9760" y="3017880"/>
            <a:ext cx="1447560" cy="1214280"/>
          </a:xfrm>
          <a:custGeom>
            <a:avLst/>
            <a:gdLst/>
            <a:ahLst/>
            <a:rect l="l" t="t" r="r" b="b"/>
            <a:pathLst>
              <a:path w="4019" h="3374">
                <a:moveTo>
                  <a:pt x="18554" y="8384"/>
                </a:moveTo>
                <a:cubicBezTo>
                  <a:pt x="18522" y="8657"/>
                  <a:pt x="18180" y="9220"/>
                  <a:pt x="18455" y="9203"/>
                </a:cubicBezTo>
                <a:cubicBezTo>
                  <a:pt x="18488" y="9162"/>
                  <a:pt x="18521" y="9120"/>
                  <a:pt x="18554" y="9079"/>
                </a:cubicBezTo>
              </a:path>
              <a:path w="4019" h="3374">
                <a:moveTo>
                  <a:pt x="19050" y="8533"/>
                </a:moveTo>
                <a:cubicBezTo>
                  <a:pt x="18896" y="8807"/>
                  <a:pt x="19092" y="8683"/>
                  <a:pt x="19174" y="8930"/>
                </a:cubicBezTo>
                <a:cubicBezTo>
                  <a:pt x="19241" y="9131"/>
                  <a:pt x="19105" y="9170"/>
                  <a:pt x="18976" y="9227"/>
                </a:cubicBezTo>
                <a:cubicBezTo>
                  <a:pt x="18946" y="8981"/>
                  <a:pt x="19248" y="8836"/>
                  <a:pt x="19248" y="8607"/>
                </a:cubicBezTo>
                <a:cubicBezTo>
                  <a:pt x="19223" y="8607"/>
                  <a:pt x="19199" y="8607"/>
                  <a:pt x="19174" y="8607"/>
                </a:cubicBezTo>
              </a:path>
              <a:path w="4019" h="3374">
                <a:moveTo>
                  <a:pt x="19695" y="8434"/>
                </a:moveTo>
                <a:cubicBezTo>
                  <a:pt x="19508" y="8740"/>
                  <a:pt x="19338" y="8928"/>
                  <a:pt x="19596" y="9203"/>
                </a:cubicBezTo>
                <a:cubicBezTo>
                  <a:pt x="19800" y="9100"/>
                  <a:pt x="20090" y="8866"/>
                  <a:pt x="19869" y="8582"/>
                </a:cubicBezTo>
                <a:cubicBezTo>
                  <a:pt x="19716" y="8506"/>
                  <a:pt x="19661" y="8483"/>
                  <a:pt x="19546" y="8558"/>
                </a:cubicBezTo>
              </a:path>
              <a:path w="4019" h="3374">
                <a:moveTo>
                  <a:pt x="19100" y="9872"/>
                </a:moveTo>
                <a:cubicBezTo>
                  <a:pt x="19170" y="9744"/>
                  <a:pt x="19185" y="9722"/>
                  <a:pt x="19100" y="9599"/>
                </a:cubicBezTo>
                <a:cubicBezTo>
                  <a:pt x="18918" y="9680"/>
                  <a:pt x="18802" y="9743"/>
                  <a:pt x="18802" y="9947"/>
                </a:cubicBezTo>
                <a:cubicBezTo>
                  <a:pt x="19027" y="9911"/>
                  <a:pt x="19084" y="9882"/>
                  <a:pt x="19224" y="9699"/>
                </a:cubicBezTo>
                <a:cubicBezTo>
                  <a:pt x="19193" y="9850"/>
                  <a:pt x="19176" y="10012"/>
                  <a:pt x="19149" y="10170"/>
                </a:cubicBezTo>
                <a:cubicBezTo>
                  <a:pt x="19116" y="10359"/>
                  <a:pt x="19088" y="10392"/>
                  <a:pt x="19199" y="10220"/>
                </a:cubicBezTo>
              </a:path>
              <a:path w="4019" h="3374">
                <a:moveTo>
                  <a:pt x="19596" y="9699"/>
                </a:moveTo>
                <a:cubicBezTo>
                  <a:pt x="19497" y="9958"/>
                  <a:pt x="19413" y="10084"/>
                  <a:pt x="19596" y="10294"/>
                </a:cubicBezTo>
                <a:cubicBezTo>
                  <a:pt x="19741" y="10239"/>
                  <a:pt x="20145" y="9967"/>
                  <a:pt x="19893" y="9748"/>
                </a:cubicBezTo>
                <a:cubicBezTo>
                  <a:pt x="19728" y="9724"/>
                  <a:pt x="19678" y="9714"/>
                  <a:pt x="19571" y="9748"/>
                </a:cubicBezTo>
              </a:path>
              <a:path w="4019" h="3374">
                <a:moveTo>
                  <a:pt x="16917" y="10616"/>
                </a:moveTo>
                <a:cubicBezTo>
                  <a:pt x="17105" y="10599"/>
                  <a:pt x="17298" y="10573"/>
                  <a:pt x="17487" y="10567"/>
                </a:cubicBezTo>
                <a:cubicBezTo>
                  <a:pt x="18107" y="10549"/>
                  <a:pt x="18728" y="10561"/>
                  <a:pt x="19348" y="10542"/>
                </a:cubicBezTo>
                <a:cubicBezTo>
                  <a:pt x="19579" y="10535"/>
                  <a:pt x="19965" y="10520"/>
                  <a:pt x="20166" y="10542"/>
                </a:cubicBezTo>
                <a:cubicBezTo>
                  <a:pt x="20174" y="10542"/>
                  <a:pt x="20183" y="10542"/>
                  <a:pt x="20191" y="10542"/>
                </a:cubicBezTo>
              </a:path>
              <a:path w="4019" h="3374">
                <a:moveTo>
                  <a:pt x="19298" y="11162"/>
                </a:moveTo>
                <a:cubicBezTo>
                  <a:pt x="19369" y="11138"/>
                  <a:pt x="19318" y="11013"/>
                  <a:pt x="19273" y="10964"/>
                </a:cubicBezTo>
                <a:cubicBezTo>
                  <a:pt x="19150" y="10829"/>
                  <a:pt x="18911" y="11053"/>
                  <a:pt x="18901" y="11187"/>
                </a:cubicBezTo>
                <a:cubicBezTo>
                  <a:pt x="18882" y="11454"/>
                  <a:pt x="19180" y="11203"/>
                  <a:pt x="19224" y="11162"/>
                </a:cubicBezTo>
                <a:cubicBezTo>
                  <a:pt x="19268" y="11121"/>
                  <a:pt x="19286" y="11122"/>
                  <a:pt x="19298" y="11088"/>
                </a:cubicBezTo>
                <a:cubicBezTo>
                  <a:pt x="19320" y="11240"/>
                  <a:pt x="19273" y="11417"/>
                  <a:pt x="19248" y="11584"/>
                </a:cubicBezTo>
                <a:cubicBezTo>
                  <a:pt x="19231" y="11691"/>
                  <a:pt x="19223" y="11699"/>
                  <a:pt x="19224" y="11757"/>
                </a:cubicBezTo>
              </a:path>
              <a:path w="4019" h="3374">
                <a:moveTo>
                  <a:pt x="19745" y="11088"/>
                </a:moveTo>
                <a:cubicBezTo>
                  <a:pt x="19634" y="11355"/>
                  <a:pt x="19574" y="11480"/>
                  <a:pt x="19670" y="11757"/>
                </a:cubicBezTo>
                <a:cubicBezTo>
                  <a:pt x="19915" y="11716"/>
                  <a:pt x="20110" y="11623"/>
                  <a:pt x="20042" y="11311"/>
                </a:cubicBezTo>
                <a:cubicBezTo>
                  <a:pt x="20008" y="11155"/>
                  <a:pt x="19863" y="11111"/>
                  <a:pt x="19745" y="11162"/>
                </a:cubicBezTo>
              </a:path>
              <a:path w="4019" h="3374">
                <a:moveTo>
                  <a:pt x="20340" y="11435"/>
                </a:moveTo>
                <a:cubicBezTo>
                  <a:pt x="20522" y="11435"/>
                  <a:pt x="20681" y="11383"/>
                  <a:pt x="20861" y="11361"/>
                </a:cubicBezTo>
                <a:cubicBezTo>
                  <a:pt x="20886" y="11361"/>
                  <a:pt x="20910" y="11361"/>
                  <a:pt x="20935" y="1136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43880" y="3867120"/>
            <a:ext cx="920520" cy="357120"/>
          </a:xfrm>
          <a:custGeom>
            <a:avLst/>
            <a:gdLst/>
            <a:ahLst/>
            <a:rect l="l" t="t" r="r" b="b"/>
            <a:pathLst>
              <a:path w="2556" h="994">
                <a:moveTo>
                  <a:pt x="21233" y="11137"/>
                </a:moveTo>
                <a:cubicBezTo>
                  <a:pt x="21281" y="11040"/>
                  <a:pt x="21359" y="10988"/>
                  <a:pt x="21456" y="10939"/>
                </a:cubicBezTo>
                <a:cubicBezTo>
                  <a:pt x="21496" y="10919"/>
                  <a:pt x="21503" y="10910"/>
                  <a:pt x="21530" y="10914"/>
                </a:cubicBezTo>
                <a:cubicBezTo>
                  <a:pt x="21544" y="11148"/>
                  <a:pt x="21428" y="11316"/>
                  <a:pt x="21332" y="11534"/>
                </a:cubicBezTo>
                <a:cubicBezTo>
                  <a:pt x="21287" y="11644"/>
                  <a:pt x="21279" y="11673"/>
                  <a:pt x="21233" y="11733"/>
                </a:cubicBezTo>
                <a:cubicBezTo>
                  <a:pt x="21286" y="11669"/>
                  <a:pt x="21330" y="11568"/>
                  <a:pt x="21431" y="11584"/>
                </a:cubicBezTo>
                <a:cubicBezTo>
                  <a:pt x="21537" y="11601"/>
                  <a:pt x="21582" y="11663"/>
                  <a:pt x="21704" y="11609"/>
                </a:cubicBezTo>
                <a:cubicBezTo>
                  <a:pt x="21712" y="11601"/>
                  <a:pt x="21721" y="11592"/>
                  <a:pt x="21729" y="11584"/>
                </a:cubicBezTo>
              </a:path>
              <a:path w="2556" h="994">
                <a:moveTo>
                  <a:pt x="22051" y="11212"/>
                </a:moveTo>
                <a:cubicBezTo>
                  <a:pt x="22119" y="11204"/>
                  <a:pt x="22193" y="11164"/>
                  <a:pt x="22225" y="11212"/>
                </a:cubicBezTo>
              </a:path>
              <a:path w="2556" h="994">
                <a:moveTo>
                  <a:pt x="22101" y="11410"/>
                </a:moveTo>
                <a:cubicBezTo>
                  <a:pt x="22228" y="11410"/>
                  <a:pt x="22282" y="11404"/>
                  <a:pt x="22399" y="11361"/>
                </a:cubicBezTo>
              </a:path>
              <a:path w="2556" h="994">
                <a:moveTo>
                  <a:pt x="22746" y="11088"/>
                </a:moveTo>
                <a:cubicBezTo>
                  <a:pt x="22690" y="11143"/>
                  <a:pt x="22665" y="11141"/>
                  <a:pt x="22671" y="11187"/>
                </a:cubicBezTo>
                <a:cubicBezTo>
                  <a:pt x="22810" y="11170"/>
                  <a:pt x="22954" y="11158"/>
                  <a:pt x="23093" y="11187"/>
                </a:cubicBezTo>
                <a:cubicBezTo>
                  <a:pt x="23157" y="11219"/>
                  <a:pt x="23178" y="11212"/>
                  <a:pt x="23168" y="11112"/>
                </a:cubicBezTo>
              </a:path>
              <a:path w="2556" h="994">
                <a:moveTo>
                  <a:pt x="23044" y="10740"/>
                </a:moveTo>
                <a:cubicBezTo>
                  <a:pt x="23044" y="11016"/>
                  <a:pt x="23045" y="11286"/>
                  <a:pt x="23019" y="11559"/>
                </a:cubicBezTo>
                <a:cubicBezTo>
                  <a:pt x="23019" y="11567"/>
                  <a:pt x="23019" y="11576"/>
                  <a:pt x="23019" y="11584"/>
                </a:cubicBezTo>
              </a:path>
              <a:path w="2556" h="994">
                <a:moveTo>
                  <a:pt x="23639" y="10740"/>
                </a:moveTo>
                <a:cubicBezTo>
                  <a:pt x="23553" y="10772"/>
                  <a:pt x="23396" y="10784"/>
                  <a:pt x="23366" y="10889"/>
                </a:cubicBezTo>
                <a:cubicBezTo>
                  <a:pt x="23343" y="11001"/>
                  <a:pt x="23342" y="11032"/>
                  <a:pt x="23292" y="11088"/>
                </a:cubicBezTo>
                <a:cubicBezTo>
                  <a:pt x="23440" y="11063"/>
                  <a:pt x="23668" y="10973"/>
                  <a:pt x="23788" y="11137"/>
                </a:cubicBezTo>
                <a:cubicBezTo>
                  <a:pt x="23939" y="11343"/>
                  <a:pt x="23424" y="11494"/>
                  <a:pt x="23316" y="11410"/>
                </a:cubicBezTo>
                <a:cubicBezTo>
                  <a:pt x="23300" y="11352"/>
                  <a:pt x="23283" y="11295"/>
                  <a:pt x="23267" y="1123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4160" y="4143240"/>
            <a:ext cx="71640" cy="169920"/>
          </a:xfrm>
          <a:custGeom>
            <a:avLst/>
            <a:gdLst/>
            <a:ahLst/>
            <a:rect l="l" t="t" r="r" b="b"/>
            <a:pathLst>
              <a:path w="200" h="473">
                <a:moveTo>
                  <a:pt x="5705" y="11509"/>
                </a:moveTo>
                <a:cubicBezTo>
                  <a:pt x="5739" y="11662"/>
                  <a:pt x="5799" y="11819"/>
                  <a:pt x="5879" y="11956"/>
                </a:cubicBezTo>
                <a:cubicBezTo>
                  <a:pt x="5887" y="11964"/>
                  <a:pt x="5896" y="11973"/>
                  <a:pt x="5904" y="1198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l whether the angle measures are those of a triangl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so, classify the triangle as acute, right, obtuse or equiangula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90°, 35°, 56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75°, 60°, 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120°, 23°, 37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100°, 25°, 3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85960" y="1874880"/>
            <a:ext cx="4448160" cy="420480"/>
          </a:xfrm>
          <a:custGeom>
            <a:avLst/>
            <a:gdLst/>
            <a:ahLst/>
            <a:rect l="l" t="t" r="r" b="b"/>
            <a:pathLst>
              <a:path w="12354" h="1167">
                <a:moveTo>
                  <a:pt x="4961" y="5432"/>
                </a:moveTo>
                <a:cubicBezTo>
                  <a:pt x="5068" y="5400"/>
                  <a:pt x="5174" y="5352"/>
                  <a:pt x="5283" y="5333"/>
                </a:cubicBezTo>
              </a:path>
              <a:path w="12354" h="1167">
                <a:moveTo>
                  <a:pt x="6970" y="5383"/>
                </a:moveTo>
                <a:cubicBezTo>
                  <a:pt x="7070" y="5363"/>
                  <a:pt x="7167" y="5342"/>
                  <a:pt x="7268" y="5333"/>
                </a:cubicBezTo>
              </a:path>
              <a:path w="12354" h="1167">
                <a:moveTo>
                  <a:pt x="10269" y="5581"/>
                </a:moveTo>
                <a:cubicBezTo>
                  <a:pt x="10358" y="5565"/>
                  <a:pt x="10453" y="5544"/>
                  <a:pt x="10542" y="5531"/>
                </a:cubicBezTo>
              </a:path>
              <a:path w="12354" h="1167">
                <a:moveTo>
                  <a:pt x="14064" y="5209"/>
                </a:moveTo>
                <a:cubicBezTo>
                  <a:pt x="13967" y="5602"/>
                  <a:pt x="13870" y="5990"/>
                  <a:pt x="13742" y="6375"/>
                </a:cubicBezTo>
              </a:path>
              <a:path w="12354" h="1167">
                <a:moveTo>
                  <a:pt x="16768" y="5457"/>
                </a:moveTo>
                <a:cubicBezTo>
                  <a:pt x="17038" y="5334"/>
                  <a:pt x="17126" y="5294"/>
                  <a:pt x="17314" y="523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65200" y="1258920"/>
            <a:ext cx="1704960" cy="733320"/>
          </a:xfrm>
          <a:custGeom>
            <a:avLst/>
            <a:gdLst/>
            <a:ahLst/>
            <a:rect l="l" t="t" r="r" b="b"/>
            <a:pathLst>
              <a:path w="4739" h="2035">
                <a:moveTo>
                  <a:pt x="5159" y="5209"/>
                </a:moveTo>
                <a:cubicBezTo>
                  <a:pt x="5137" y="5186"/>
                  <a:pt x="5132" y="5178"/>
                  <a:pt x="5110" y="5184"/>
                </a:cubicBezTo>
                <a:cubicBezTo>
                  <a:pt x="5110" y="5302"/>
                  <a:pt x="5127" y="5397"/>
                  <a:pt x="5110" y="5507"/>
                </a:cubicBezTo>
              </a:path>
              <a:path w="4739" h="2035">
                <a:moveTo>
                  <a:pt x="7020" y="5184"/>
                </a:moveTo>
                <a:cubicBezTo>
                  <a:pt x="7020" y="5285"/>
                  <a:pt x="7041" y="5381"/>
                  <a:pt x="7045" y="5482"/>
                </a:cubicBezTo>
                <a:cubicBezTo>
                  <a:pt x="7045" y="5498"/>
                  <a:pt x="7045" y="5515"/>
                  <a:pt x="7045" y="5531"/>
                </a:cubicBezTo>
              </a:path>
              <a:path w="4739" h="2035">
                <a:moveTo>
                  <a:pt x="4093" y="4936"/>
                </a:moveTo>
                <a:cubicBezTo>
                  <a:pt x="4093" y="4934"/>
                  <a:pt x="4071" y="4895"/>
                  <a:pt x="4068" y="4862"/>
                </a:cubicBezTo>
                <a:cubicBezTo>
                  <a:pt x="4056" y="4744"/>
                  <a:pt x="4073" y="4649"/>
                  <a:pt x="4118" y="4539"/>
                </a:cubicBezTo>
                <a:cubicBezTo>
                  <a:pt x="4189" y="4366"/>
                  <a:pt x="4312" y="4264"/>
                  <a:pt x="4465" y="4167"/>
                </a:cubicBezTo>
                <a:cubicBezTo>
                  <a:pt x="4619" y="4069"/>
                  <a:pt x="4802" y="3905"/>
                  <a:pt x="4986" y="3870"/>
                </a:cubicBezTo>
                <a:cubicBezTo>
                  <a:pt x="5105" y="3848"/>
                  <a:pt x="5177" y="3917"/>
                  <a:pt x="5259" y="3994"/>
                </a:cubicBezTo>
                <a:cubicBezTo>
                  <a:pt x="5344" y="4073"/>
                  <a:pt x="5379" y="4168"/>
                  <a:pt x="5432" y="4266"/>
                </a:cubicBezTo>
                <a:cubicBezTo>
                  <a:pt x="5461" y="4320"/>
                  <a:pt x="5478" y="4363"/>
                  <a:pt x="5507" y="4415"/>
                </a:cubicBezTo>
                <a:cubicBezTo>
                  <a:pt x="5527" y="4451"/>
                  <a:pt x="5565" y="4475"/>
                  <a:pt x="5581" y="4490"/>
                </a:cubicBezTo>
                <a:cubicBezTo>
                  <a:pt x="5643" y="4547"/>
                  <a:pt x="5753" y="4609"/>
                  <a:pt x="5804" y="4663"/>
                </a:cubicBezTo>
                <a:cubicBezTo>
                  <a:pt x="5817" y="4676"/>
                  <a:pt x="5816" y="4700"/>
                  <a:pt x="5829" y="4713"/>
                </a:cubicBezTo>
                <a:cubicBezTo>
                  <a:pt x="5829" y="4414"/>
                  <a:pt x="5841" y="4204"/>
                  <a:pt x="6127" y="4043"/>
                </a:cubicBezTo>
                <a:cubicBezTo>
                  <a:pt x="6349" y="3919"/>
                  <a:pt x="6585" y="3790"/>
                  <a:pt x="6821" y="3696"/>
                </a:cubicBezTo>
                <a:cubicBezTo>
                  <a:pt x="7009" y="3621"/>
                  <a:pt x="7219" y="3524"/>
                  <a:pt x="7417" y="3497"/>
                </a:cubicBezTo>
                <a:cubicBezTo>
                  <a:pt x="7558" y="3478"/>
                  <a:pt x="7701" y="3511"/>
                  <a:pt x="7838" y="3522"/>
                </a:cubicBezTo>
                <a:cubicBezTo>
                  <a:pt x="7941" y="3530"/>
                  <a:pt x="8052" y="3584"/>
                  <a:pt x="8111" y="3671"/>
                </a:cubicBezTo>
                <a:cubicBezTo>
                  <a:pt x="8157" y="3739"/>
                  <a:pt x="8185" y="3841"/>
                  <a:pt x="8210" y="3919"/>
                </a:cubicBezTo>
                <a:cubicBezTo>
                  <a:pt x="8254" y="4056"/>
                  <a:pt x="8296" y="4169"/>
                  <a:pt x="8359" y="4291"/>
                </a:cubicBezTo>
                <a:cubicBezTo>
                  <a:pt x="8390" y="4352"/>
                  <a:pt x="8420" y="4410"/>
                  <a:pt x="8458" y="4465"/>
                </a:cubicBezTo>
                <a:cubicBezTo>
                  <a:pt x="8504" y="4531"/>
                  <a:pt x="8544" y="4591"/>
                  <a:pt x="8582" y="4663"/>
                </a:cubicBezTo>
                <a:cubicBezTo>
                  <a:pt x="8628" y="4750"/>
                  <a:pt x="8682" y="4786"/>
                  <a:pt x="8731" y="4862"/>
                </a:cubicBezTo>
                <a:cubicBezTo>
                  <a:pt x="8757" y="4903"/>
                  <a:pt x="8789" y="4940"/>
                  <a:pt x="8806" y="496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54280" y="1857240"/>
            <a:ext cx="687600" cy="1258920"/>
          </a:xfrm>
          <a:custGeom>
            <a:avLst/>
            <a:gdLst/>
            <a:ahLst/>
            <a:rect l="l" t="t" r="r" b="b"/>
            <a:pathLst>
              <a:path w="1911" h="3499">
                <a:moveTo>
                  <a:pt x="10170" y="5407"/>
                </a:moveTo>
                <a:cubicBezTo>
                  <a:pt x="10299" y="5377"/>
                  <a:pt x="10409" y="5358"/>
                  <a:pt x="10542" y="5358"/>
                </a:cubicBezTo>
                <a:cubicBezTo>
                  <a:pt x="10534" y="5358"/>
                  <a:pt x="10525" y="5358"/>
                  <a:pt x="10517" y="5358"/>
                </a:cubicBezTo>
              </a:path>
              <a:path w="1911" h="3499">
                <a:moveTo>
                  <a:pt x="10914" y="5259"/>
                </a:moveTo>
                <a:cubicBezTo>
                  <a:pt x="11082" y="5393"/>
                  <a:pt x="11059" y="5726"/>
                  <a:pt x="11088" y="5928"/>
                </a:cubicBezTo>
                <a:cubicBezTo>
                  <a:pt x="11114" y="6108"/>
                  <a:pt x="11077" y="6203"/>
                  <a:pt x="11162" y="5978"/>
                </a:cubicBezTo>
              </a:path>
              <a:path w="1911" h="3499">
                <a:moveTo>
                  <a:pt x="11609" y="5159"/>
                </a:moveTo>
                <a:cubicBezTo>
                  <a:pt x="11541" y="5214"/>
                  <a:pt x="11400" y="5322"/>
                  <a:pt x="11435" y="5432"/>
                </a:cubicBezTo>
                <a:cubicBezTo>
                  <a:pt x="11492" y="5611"/>
                  <a:pt x="11731" y="5548"/>
                  <a:pt x="11782" y="5730"/>
                </a:cubicBezTo>
                <a:cubicBezTo>
                  <a:pt x="11782" y="5854"/>
                  <a:pt x="11782" y="5895"/>
                  <a:pt x="11683" y="5928"/>
                </a:cubicBezTo>
                <a:cubicBezTo>
                  <a:pt x="11519" y="5731"/>
                  <a:pt x="11630" y="5513"/>
                  <a:pt x="11658" y="5259"/>
                </a:cubicBezTo>
                <a:cubicBezTo>
                  <a:pt x="11658" y="5242"/>
                  <a:pt x="11658" y="5226"/>
                  <a:pt x="11658" y="5209"/>
                </a:cubicBezTo>
              </a:path>
              <a:path w="1911" h="3499">
                <a:moveTo>
                  <a:pt x="9872" y="8409"/>
                </a:moveTo>
                <a:cubicBezTo>
                  <a:pt x="9937" y="8487"/>
                  <a:pt x="9990" y="8570"/>
                  <a:pt x="10046" y="8657"/>
                </a:cubicBezTo>
                <a:cubicBezTo>
                  <a:pt x="10125" y="8359"/>
                  <a:pt x="10176" y="8084"/>
                  <a:pt x="10344" y="7813"/>
                </a:cubicBezTo>
                <a:cubicBezTo>
                  <a:pt x="10450" y="7642"/>
                  <a:pt x="10520" y="7553"/>
                  <a:pt x="10641" y="764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0000" y="1677960"/>
            <a:ext cx="52200" cy="90360"/>
          </a:xfrm>
          <a:custGeom>
            <a:avLst/>
            <a:gdLst/>
            <a:ahLst/>
            <a:rect l="l" t="t" r="r" b="b"/>
            <a:pathLst>
              <a:path w="149" h="249">
                <a:moveTo>
                  <a:pt x="12998" y="4663"/>
                </a:moveTo>
                <a:cubicBezTo>
                  <a:pt x="13009" y="4746"/>
                  <a:pt x="13035" y="4828"/>
                  <a:pt x="13047" y="4911"/>
                </a:cubicBezTo>
                <a:cubicBezTo>
                  <a:pt x="13160" y="4833"/>
                  <a:pt x="13192" y="4756"/>
                  <a:pt x="13047" y="471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4000" y="1847880"/>
            <a:ext cx="554040" cy="376200"/>
          </a:xfrm>
          <a:custGeom>
            <a:avLst/>
            <a:gdLst/>
            <a:ahLst/>
            <a:rect l="l" t="t" r="r" b="b"/>
            <a:pathLst>
              <a:path w="1539" h="1042">
                <a:moveTo>
                  <a:pt x="15677" y="5333"/>
                </a:moveTo>
                <a:cubicBezTo>
                  <a:pt x="15677" y="5582"/>
                  <a:pt x="15754" y="5827"/>
                  <a:pt x="15776" y="6077"/>
                </a:cubicBezTo>
                <a:cubicBezTo>
                  <a:pt x="15776" y="6155"/>
                  <a:pt x="15791" y="6202"/>
                  <a:pt x="15751" y="6152"/>
                </a:cubicBezTo>
              </a:path>
              <a:path w="1539" h="1042">
                <a:moveTo>
                  <a:pt x="15652" y="5432"/>
                </a:moveTo>
                <a:cubicBezTo>
                  <a:pt x="15861" y="5611"/>
                  <a:pt x="16068" y="5801"/>
                  <a:pt x="16297" y="5953"/>
                </a:cubicBezTo>
                <a:cubicBezTo>
                  <a:pt x="16215" y="5743"/>
                  <a:pt x="16134" y="5526"/>
                  <a:pt x="16073" y="5308"/>
                </a:cubicBezTo>
                <a:cubicBezTo>
                  <a:pt x="16073" y="5268"/>
                  <a:pt x="16084" y="5270"/>
                  <a:pt x="16123" y="5333"/>
                </a:cubicBezTo>
              </a:path>
              <a:path w="1539" h="1042">
                <a:moveTo>
                  <a:pt x="16594" y="5507"/>
                </a:moveTo>
                <a:cubicBezTo>
                  <a:pt x="16482" y="5646"/>
                  <a:pt x="16471" y="5769"/>
                  <a:pt x="16545" y="5928"/>
                </a:cubicBezTo>
                <a:cubicBezTo>
                  <a:pt x="16672" y="5790"/>
                  <a:pt x="16757" y="5585"/>
                  <a:pt x="16545" y="5457"/>
                </a:cubicBezTo>
                <a:cubicBezTo>
                  <a:pt x="16469" y="5457"/>
                  <a:pt x="16444" y="5456"/>
                  <a:pt x="16495" y="5383"/>
                </a:cubicBezTo>
              </a:path>
              <a:path w="1539" h="1042">
                <a:moveTo>
                  <a:pt x="16768" y="5135"/>
                </a:moveTo>
                <a:cubicBezTo>
                  <a:pt x="16831" y="5371"/>
                  <a:pt x="16858" y="5695"/>
                  <a:pt x="16991" y="5879"/>
                </a:cubicBezTo>
                <a:cubicBezTo>
                  <a:pt x="17090" y="5813"/>
                  <a:pt x="17135" y="5776"/>
                  <a:pt x="17190" y="570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3240" y="1758960"/>
            <a:ext cx="561960" cy="438120"/>
          </a:xfrm>
          <a:custGeom>
            <a:avLst/>
            <a:gdLst/>
            <a:ahLst/>
            <a:rect l="l" t="t" r="r" b="b"/>
            <a:pathLst>
              <a:path w="1564" h="1216">
                <a:moveTo>
                  <a:pt x="18256" y="5407"/>
                </a:moveTo>
                <a:cubicBezTo>
                  <a:pt x="18264" y="5399"/>
                  <a:pt x="18273" y="5391"/>
                  <a:pt x="18281" y="5383"/>
                </a:cubicBezTo>
                <a:cubicBezTo>
                  <a:pt x="18121" y="5222"/>
                  <a:pt x="18050" y="5319"/>
                  <a:pt x="18008" y="5556"/>
                </a:cubicBezTo>
                <a:cubicBezTo>
                  <a:pt x="18008" y="5740"/>
                  <a:pt x="17980" y="5787"/>
                  <a:pt x="18083" y="5854"/>
                </a:cubicBezTo>
                <a:cubicBezTo>
                  <a:pt x="18159" y="5723"/>
                  <a:pt x="18070" y="5381"/>
                  <a:pt x="18182" y="5482"/>
                </a:cubicBezTo>
                <a:cubicBezTo>
                  <a:pt x="18286" y="5575"/>
                  <a:pt x="18380" y="5680"/>
                  <a:pt x="18479" y="5779"/>
                </a:cubicBezTo>
              </a:path>
              <a:path w="1564" h="1216">
                <a:moveTo>
                  <a:pt x="19050" y="5060"/>
                </a:moveTo>
                <a:cubicBezTo>
                  <a:pt x="19050" y="5336"/>
                  <a:pt x="19048" y="5606"/>
                  <a:pt x="19025" y="5879"/>
                </a:cubicBezTo>
                <a:cubicBezTo>
                  <a:pt x="19066" y="5582"/>
                  <a:pt x="19083" y="5284"/>
                  <a:pt x="19100" y="4986"/>
                </a:cubicBezTo>
                <a:cubicBezTo>
                  <a:pt x="19100" y="4953"/>
                  <a:pt x="19100" y="4920"/>
                  <a:pt x="19100" y="4887"/>
                </a:cubicBezTo>
                <a:cubicBezTo>
                  <a:pt x="19222" y="5025"/>
                  <a:pt x="19311" y="5197"/>
                  <a:pt x="19397" y="5383"/>
                </a:cubicBezTo>
                <a:cubicBezTo>
                  <a:pt x="19464" y="5529"/>
                  <a:pt x="19521" y="5681"/>
                  <a:pt x="19571" y="5829"/>
                </a:cubicBezTo>
                <a:cubicBezTo>
                  <a:pt x="19370" y="5917"/>
                  <a:pt x="19179" y="6027"/>
                  <a:pt x="18976" y="610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3080" y="5392800"/>
            <a:ext cx="2044800" cy="716040"/>
          </a:xfrm>
          <a:custGeom>
            <a:avLst/>
            <a:gdLst/>
            <a:ahLst/>
            <a:rect l="l" t="t" r="r" b="b"/>
            <a:pathLst>
              <a:path w="5682" h="1985">
                <a:moveTo>
                  <a:pt x="15776" y="15677"/>
                </a:moveTo>
                <a:cubicBezTo>
                  <a:pt x="15776" y="15790"/>
                  <a:pt x="15786" y="15825"/>
                  <a:pt x="15701" y="15850"/>
                </a:cubicBezTo>
              </a:path>
              <a:path w="5682" h="1985">
                <a:moveTo>
                  <a:pt x="15701" y="15677"/>
                </a:moveTo>
                <a:cubicBezTo>
                  <a:pt x="15942" y="15650"/>
                  <a:pt x="16033" y="15639"/>
                  <a:pt x="16197" y="15602"/>
                </a:cubicBezTo>
              </a:path>
              <a:path w="5682" h="1985">
                <a:moveTo>
                  <a:pt x="16892" y="16594"/>
                </a:moveTo>
                <a:cubicBezTo>
                  <a:pt x="16822" y="16758"/>
                  <a:pt x="16801" y="16806"/>
                  <a:pt x="16768" y="16917"/>
                </a:cubicBezTo>
                <a:cubicBezTo>
                  <a:pt x="16971" y="17017"/>
                  <a:pt x="17140" y="16901"/>
                  <a:pt x="17214" y="16669"/>
                </a:cubicBezTo>
                <a:cubicBezTo>
                  <a:pt x="17263" y="16518"/>
                  <a:pt x="17196" y="16481"/>
                  <a:pt x="17090" y="16446"/>
                </a:cubicBezTo>
              </a:path>
              <a:path w="5682" h="1985">
                <a:moveTo>
                  <a:pt x="15776" y="15329"/>
                </a:moveTo>
                <a:cubicBezTo>
                  <a:pt x="15763" y="15432"/>
                  <a:pt x="15746" y="15538"/>
                  <a:pt x="15701" y="15627"/>
                </a:cubicBezTo>
              </a:path>
              <a:path w="5682" h="1985">
                <a:moveTo>
                  <a:pt x="19794" y="15304"/>
                </a:moveTo>
                <a:cubicBezTo>
                  <a:pt x="20087" y="15225"/>
                  <a:pt x="20197" y="15192"/>
                  <a:pt x="20389" y="15106"/>
                </a:cubicBezTo>
              </a:path>
              <a:path w="5682" h="1985">
                <a:moveTo>
                  <a:pt x="20960" y="15156"/>
                </a:moveTo>
                <a:cubicBezTo>
                  <a:pt x="21158" y="15071"/>
                  <a:pt x="21240" y="15036"/>
                  <a:pt x="21382" y="1498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0160" y="5572080"/>
            <a:ext cx="884160" cy="544680"/>
          </a:xfrm>
          <a:custGeom>
            <a:avLst/>
            <a:gdLst/>
            <a:ahLst/>
            <a:rect l="l" t="t" r="r" b="b"/>
            <a:pathLst>
              <a:path w="2457" h="1514">
                <a:moveTo>
                  <a:pt x="17090" y="15627"/>
                </a:moveTo>
                <a:cubicBezTo>
                  <a:pt x="17074" y="15677"/>
                  <a:pt x="17057" y="15726"/>
                  <a:pt x="17041" y="15776"/>
                </a:cubicBezTo>
                <a:cubicBezTo>
                  <a:pt x="17248" y="15956"/>
                  <a:pt x="17320" y="15902"/>
                  <a:pt x="17462" y="15677"/>
                </a:cubicBezTo>
                <a:cubicBezTo>
                  <a:pt x="17359" y="15547"/>
                  <a:pt x="17319" y="15508"/>
                  <a:pt x="17190" y="15602"/>
                </a:cubicBezTo>
              </a:path>
              <a:path w="2457" h="1514">
                <a:moveTo>
                  <a:pt x="15304" y="16222"/>
                </a:moveTo>
                <a:cubicBezTo>
                  <a:pt x="15938" y="16132"/>
                  <a:pt x="16572" y="16045"/>
                  <a:pt x="17214" y="16049"/>
                </a:cubicBezTo>
                <a:cubicBezTo>
                  <a:pt x="17406" y="16050"/>
                  <a:pt x="17678" y="16084"/>
                  <a:pt x="17487" y="16098"/>
                </a:cubicBezTo>
              </a:path>
              <a:path w="2457" h="1514">
                <a:moveTo>
                  <a:pt x="15825" y="16619"/>
                </a:moveTo>
                <a:cubicBezTo>
                  <a:pt x="15808" y="16724"/>
                  <a:pt x="15684" y="17059"/>
                  <a:pt x="15825" y="16917"/>
                </a:cubicBezTo>
              </a:path>
              <a:path w="2457" h="1514">
                <a:moveTo>
                  <a:pt x="17661" y="16247"/>
                </a:moveTo>
                <a:cubicBezTo>
                  <a:pt x="17609" y="16314"/>
                  <a:pt x="17596" y="16336"/>
                  <a:pt x="17587" y="16421"/>
                </a:cubicBezTo>
                <a:cubicBezTo>
                  <a:pt x="17753" y="16393"/>
                  <a:pt x="17803" y="16338"/>
                  <a:pt x="17661" y="16247"/>
                </a:cubicBezTo>
              </a:path>
              <a:path w="2457" h="1514">
                <a:moveTo>
                  <a:pt x="16545" y="15478"/>
                </a:moveTo>
                <a:cubicBezTo>
                  <a:pt x="16499" y="15615"/>
                  <a:pt x="16438" y="15768"/>
                  <a:pt x="16470" y="15900"/>
                </a:cubicBezTo>
                <a:cubicBezTo>
                  <a:pt x="16525" y="15890"/>
                  <a:pt x="16853" y="15815"/>
                  <a:pt x="16743" y="15677"/>
                </a:cubicBezTo>
                <a:cubicBezTo>
                  <a:pt x="16727" y="15677"/>
                  <a:pt x="16710" y="15677"/>
                  <a:pt x="16694" y="15677"/>
                </a:cubicBezTo>
                <a:cubicBezTo>
                  <a:pt x="16611" y="15789"/>
                  <a:pt x="16594" y="15860"/>
                  <a:pt x="16594" y="15999"/>
                </a:cubicBezTo>
              </a:path>
              <a:path w="2457" h="1514">
                <a:moveTo>
                  <a:pt x="16321" y="16470"/>
                </a:moveTo>
                <a:cubicBezTo>
                  <a:pt x="16293" y="16387"/>
                  <a:pt x="16239" y="16509"/>
                  <a:pt x="16222" y="16545"/>
                </a:cubicBezTo>
                <a:cubicBezTo>
                  <a:pt x="16163" y="16674"/>
                  <a:pt x="16148" y="16778"/>
                  <a:pt x="16148" y="16917"/>
                </a:cubicBezTo>
                <a:cubicBezTo>
                  <a:pt x="16279" y="16961"/>
                  <a:pt x="16337" y="16928"/>
                  <a:pt x="16421" y="16818"/>
                </a:cubicBezTo>
                <a:cubicBezTo>
                  <a:pt x="16472" y="16752"/>
                  <a:pt x="16470" y="16756"/>
                  <a:pt x="16470" y="16694"/>
                </a:cubicBezTo>
                <a:cubicBezTo>
                  <a:pt x="16392" y="16694"/>
                  <a:pt x="16311" y="16749"/>
                  <a:pt x="16272" y="16818"/>
                </a:cubicBezTo>
                <a:cubicBezTo>
                  <a:pt x="16257" y="16844"/>
                  <a:pt x="16272" y="16935"/>
                  <a:pt x="16272" y="16966"/>
                </a:cubicBezTo>
              </a:path>
              <a:path w="2457" h="1514">
                <a:moveTo>
                  <a:pt x="15776" y="16421"/>
                </a:moveTo>
                <a:cubicBezTo>
                  <a:pt x="15776" y="16388"/>
                  <a:pt x="15776" y="16338"/>
                  <a:pt x="15776" y="16371"/>
                </a:cubicBezTo>
                <a:cubicBezTo>
                  <a:pt x="15821" y="16522"/>
                  <a:pt x="15794" y="16680"/>
                  <a:pt x="15776" y="16842"/>
                </a:cubicBezTo>
                <a:cubicBezTo>
                  <a:pt x="15776" y="16850"/>
                  <a:pt x="15776" y="16859"/>
                  <a:pt x="15776" y="1686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24800" y="5295960"/>
            <a:ext cx="490320" cy="517320"/>
          </a:xfrm>
          <a:custGeom>
            <a:avLst/>
            <a:gdLst/>
            <a:ahLst/>
            <a:rect l="l" t="t" r="r" b="b"/>
            <a:pathLst>
              <a:path w="1365" h="1440">
                <a:moveTo>
                  <a:pt x="18802" y="15602"/>
                </a:moveTo>
                <a:cubicBezTo>
                  <a:pt x="18787" y="15796"/>
                  <a:pt x="18773" y="15976"/>
                  <a:pt x="18678" y="16148"/>
                </a:cubicBezTo>
                <a:cubicBezTo>
                  <a:pt x="18678" y="15891"/>
                  <a:pt x="18686" y="15656"/>
                  <a:pt x="18728" y="15404"/>
                </a:cubicBezTo>
                <a:cubicBezTo>
                  <a:pt x="18834" y="15609"/>
                  <a:pt x="18935" y="15817"/>
                  <a:pt x="19075" y="15999"/>
                </a:cubicBezTo>
                <a:cubicBezTo>
                  <a:pt x="19129" y="15771"/>
                  <a:pt x="18891" y="15334"/>
                  <a:pt x="19124" y="15304"/>
                </a:cubicBezTo>
                <a:cubicBezTo>
                  <a:pt x="19149" y="15329"/>
                  <a:pt x="19174" y="15354"/>
                  <a:pt x="19199" y="15379"/>
                </a:cubicBezTo>
              </a:path>
              <a:path w="1365" h="1440">
                <a:moveTo>
                  <a:pt x="19521" y="15205"/>
                </a:moveTo>
                <a:cubicBezTo>
                  <a:pt x="19382" y="15441"/>
                  <a:pt x="19324" y="15484"/>
                  <a:pt x="19372" y="15751"/>
                </a:cubicBezTo>
                <a:cubicBezTo>
                  <a:pt x="19602" y="15594"/>
                  <a:pt x="19683" y="15435"/>
                  <a:pt x="19422" y="15230"/>
                </a:cubicBezTo>
                <a:cubicBezTo>
                  <a:pt x="19397" y="15222"/>
                  <a:pt x="19373" y="15213"/>
                  <a:pt x="19348" y="15205"/>
                </a:cubicBezTo>
              </a:path>
              <a:path w="1365" h="1440">
                <a:moveTo>
                  <a:pt x="20017" y="14709"/>
                </a:moveTo>
                <a:cubicBezTo>
                  <a:pt x="20017" y="14994"/>
                  <a:pt x="19962" y="15386"/>
                  <a:pt x="20042" y="1565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45240" y="5072040"/>
            <a:ext cx="608040" cy="465120"/>
          </a:xfrm>
          <a:custGeom>
            <a:avLst/>
            <a:gdLst/>
            <a:ahLst/>
            <a:rect l="l" t="t" r="r" b="b"/>
            <a:pathLst>
              <a:path w="1688" h="1291">
                <a:moveTo>
                  <a:pt x="20960" y="15056"/>
                </a:moveTo>
                <a:cubicBezTo>
                  <a:pt x="20960" y="15238"/>
                  <a:pt x="20960" y="15271"/>
                  <a:pt x="20960" y="15379"/>
                </a:cubicBezTo>
                <a:cubicBezTo>
                  <a:pt x="21007" y="15143"/>
                  <a:pt x="21043" y="14916"/>
                  <a:pt x="21158" y="14709"/>
                </a:cubicBezTo>
                <a:cubicBezTo>
                  <a:pt x="21267" y="14877"/>
                  <a:pt x="21291" y="15062"/>
                  <a:pt x="21307" y="15280"/>
                </a:cubicBezTo>
              </a:path>
              <a:path w="1688" h="1291">
                <a:moveTo>
                  <a:pt x="22051" y="14312"/>
                </a:moveTo>
                <a:cubicBezTo>
                  <a:pt x="22051" y="14552"/>
                  <a:pt x="22060" y="14794"/>
                  <a:pt x="22027" y="15032"/>
                </a:cubicBezTo>
                <a:cubicBezTo>
                  <a:pt x="22027" y="15015"/>
                  <a:pt x="22027" y="14999"/>
                  <a:pt x="22027" y="14982"/>
                </a:cubicBezTo>
                <a:cubicBezTo>
                  <a:pt x="22076" y="14693"/>
                  <a:pt x="22136" y="14404"/>
                  <a:pt x="22175" y="14114"/>
                </a:cubicBezTo>
                <a:cubicBezTo>
                  <a:pt x="22175" y="14106"/>
                  <a:pt x="22175" y="14097"/>
                  <a:pt x="22175" y="14089"/>
                </a:cubicBezTo>
                <a:cubicBezTo>
                  <a:pt x="22304" y="14282"/>
                  <a:pt x="22405" y="14527"/>
                  <a:pt x="22523" y="14734"/>
                </a:cubicBezTo>
                <a:cubicBezTo>
                  <a:pt x="22598" y="14866"/>
                  <a:pt x="22609" y="14881"/>
                  <a:pt x="22647" y="14957"/>
                </a:cubicBezTo>
                <a:cubicBezTo>
                  <a:pt x="22422" y="14957"/>
                  <a:pt x="22200" y="14945"/>
                  <a:pt x="21977" y="14982"/>
                </a:cubicBezTo>
                <a:cubicBezTo>
                  <a:pt x="21952" y="14990"/>
                  <a:pt x="21928" y="14999"/>
                  <a:pt x="21903" y="1500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95840" y="5197320"/>
            <a:ext cx="231480" cy="330480"/>
          </a:xfrm>
          <a:custGeom>
            <a:avLst/>
            <a:gdLst/>
            <a:ahLst/>
            <a:rect l="l" t="t" r="r" b="b"/>
            <a:pathLst>
              <a:path w="646" h="919">
                <a:moveTo>
                  <a:pt x="10616" y="14486"/>
                </a:moveTo>
                <a:cubicBezTo>
                  <a:pt x="10828" y="14697"/>
                  <a:pt x="10971" y="14951"/>
                  <a:pt x="11088" y="15230"/>
                </a:cubicBezTo>
                <a:cubicBezTo>
                  <a:pt x="11109" y="15279"/>
                  <a:pt x="11116" y="15342"/>
                  <a:pt x="11137" y="15280"/>
                </a:cubicBezTo>
              </a:path>
              <a:path w="646" h="919">
                <a:moveTo>
                  <a:pt x="11187" y="14436"/>
                </a:moveTo>
                <a:cubicBezTo>
                  <a:pt x="10987" y="14756"/>
                  <a:pt x="10785" y="15066"/>
                  <a:pt x="10542" y="1535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6280" y="5268960"/>
            <a:ext cx="536760" cy="187200"/>
          </a:xfrm>
          <a:custGeom>
            <a:avLst/>
            <a:gdLst/>
            <a:ahLst/>
            <a:rect l="l" t="t" r="r" b="b"/>
            <a:pathLst>
              <a:path w="1490" h="522">
                <a:moveTo>
                  <a:pt x="16173" y="14635"/>
                </a:moveTo>
                <a:cubicBezTo>
                  <a:pt x="16158" y="14817"/>
                  <a:pt x="16130" y="14986"/>
                  <a:pt x="16073" y="15156"/>
                </a:cubicBezTo>
              </a:path>
              <a:path w="1490" h="522">
                <a:moveTo>
                  <a:pt x="16470" y="14784"/>
                </a:moveTo>
                <a:cubicBezTo>
                  <a:pt x="16448" y="14940"/>
                  <a:pt x="16430" y="14984"/>
                  <a:pt x="16520" y="15056"/>
                </a:cubicBezTo>
                <a:cubicBezTo>
                  <a:pt x="16612" y="15030"/>
                  <a:pt x="17104" y="14787"/>
                  <a:pt x="16743" y="14684"/>
                </a:cubicBezTo>
                <a:cubicBezTo>
                  <a:pt x="16619" y="14702"/>
                  <a:pt x="16562" y="14660"/>
                  <a:pt x="16570" y="14734"/>
                </a:cubicBezTo>
              </a:path>
              <a:path w="1490" h="522">
                <a:moveTo>
                  <a:pt x="17214" y="14709"/>
                </a:moveTo>
                <a:cubicBezTo>
                  <a:pt x="17150" y="14903"/>
                  <a:pt x="17109" y="14952"/>
                  <a:pt x="17214" y="15056"/>
                </a:cubicBezTo>
                <a:cubicBezTo>
                  <a:pt x="17345" y="15046"/>
                  <a:pt x="17844" y="14804"/>
                  <a:pt x="17438" y="14684"/>
                </a:cubicBezTo>
                <a:cubicBezTo>
                  <a:pt x="17372" y="14692"/>
                  <a:pt x="17305" y="14701"/>
                  <a:pt x="17239" y="1470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72080" y="4483080"/>
            <a:ext cx="972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15478" y="12452"/>
                </a:moveTo>
                <a:cubicBezTo>
                  <a:pt x="15499" y="12544"/>
                  <a:pt x="15505" y="12585"/>
                  <a:pt x="15478" y="1267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1000" y="4510080"/>
            <a:ext cx="581040" cy="428760"/>
          </a:xfrm>
          <a:custGeom>
            <a:avLst/>
            <a:gdLst/>
            <a:ahLst/>
            <a:rect l="l" t="t" r="r" b="b"/>
            <a:pathLst>
              <a:path w="1613" h="1192">
                <a:moveTo>
                  <a:pt x="13146" y="12774"/>
                </a:moveTo>
                <a:cubicBezTo>
                  <a:pt x="13162" y="12765"/>
                  <a:pt x="13318" y="12673"/>
                  <a:pt x="13320" y="12700"/>
                </a:cubicBezTo>
                <a:cubicBezTo>
                  <a:pt x="13296" y="12771"/>
                  <a:pt x="13289" y="12794"/>
                  <a:pt x="13246" y="12824"/>
                </a:cubicBezTo>
                <a:cubicBezTo>
                  <a:pt x="13246" y="12832"/>
                  <a:pt x="13246" y="12841"/>
                  <a:pt x="13246" y="12849"/>
                </a:cubicBezTo>
                <a:cubicBezTo>
                  <a:pt x="13316" y="12792"/>
                  <a:pt x="13430" y="12794"/>
                  <a:pt x="13395" y="12923"/>
                </a:cubicBezTo>
                <a:cubicBezTo>
                  <a:pt x="13369" y="13020"/>
                  <a:pt x="13210" y="13128"/>
                  <a:pt x="13246" y="12948"/>
                </a:cubicBezTo>
              </a:path>
              <a:path w="1613" h="1192">
                <a:moveTo>
                  <a:pt x="13519" y="12601"/>
                </a:moveTo>
                <a:cubicBezTo>
                  <a:pt x="13592" y="12586"/>
                  <a:pt x="13669" y="12550"/>
                  <a:pt x="13742" y="12526"/>
                </a:cubicBezTo>
                <a:cubicBezTo>
                  <a:pt x="13777" y="12653"/>
                  <a:pt x="13781" y="12822"/>
                  <a:pt x="13717" y="12948"/>
                </a:cubicBezTo>
                <a:cubicBezTo>
                  <a:pt x="13692" y="12948"/>
                  <a:pt x="13684" y="12948"/>
                  <a:pt x="13717" y="12948"/>
                </a:cubicBezTo>
              </a:path>
              <a:path w="1613" h="1192">
                <a:moveTo>
                  <a:pt x="12477" y="13345"/>
                </a:moveTo>
                <a:cubicBezTo>
                  <a:pt x="12822" y="13246"/>
                  <a:pt x="13187" y="13150"/>
                  <a:pt x="13543" y="13097"/>
                </a:cubicBezTo>
                <a:cubicBezTo>
                  <a:pt x="13718" y="13071"/>
                  <a:pt x="13911" y="13058"/>
                  <a:pt x="14089" y="13047"/>
                </a:cubicBezTo>
              </a:path>
              <a:path w="1613" h="1192">
                <a:moveTo>
                  <a:pt x="13320" y="13320"/>
                </a:moveTo>
                <a:cubicBezTo>
                  <a:pt x="13260" y="13280"/>
                  <a:pt x="13251" y="13491"/>
                  <a:pt x="13246" y="13543"/>
                </a:cubicBezTo>
                <a:cubicBezTo>
                  <a:pt x="13246" y="13642"/>
                  <a:pt x="13246" y="13659"/>
                  <a:pt x="13246" y="13717"/>
                </a:cubicBezTo>
                <a:cubicBezTo>
                  <a:pt x="13393" y="13680"/>
                  <a:pt x="13447" y="13641"/>
                  <a:pt x="13519" y="13519"/>
                </a:cubicBezTo>
                <a:cubicBezTo>
                  <a:pt x="13463" y="13512"/>
                  <a:pt x="13240" y="13654"/>
                  <a:pt x="13320" y="13717"/>
                </a:cubicBezTo>
                <a:cubicBezTo>
                  <a:pt x="13345" y="13709"/>
                  <a:pt x="13370" y="13700"/>
                  <a:pt x="13395" y="13692"/>
                </a:cubicBezTo>
              </a:path>
              <a:path w="1613" h="1192">
                <a:moveTo>
                  <a:pt x="13791" y="13271"/>
                </a:moveTo>
                <a:cubicBezTo>
                  <a:pt x="13687" y="13334"/>
                  <a:pt x="13678" y="13449"/>
                  <a:pt x="13667" y="13568"/>
                </a:cubicBezTo>
                <a:cubicBezTo>
                  <a:pt x="13667" y="13576"/>
                  <a:pt x="13667" y="13585"/>
                  <a:pt x="13667" y="13593"/>
                </a:cubicBezTo>
                <a:cubicBezTo>
                  <a:pt x="13824" y="13566"/>
                  <a:pt x="13996" y="13527"/>
                  <a:pt x="13915" y="13320"/>
                </a:cubicBezTo>
                <a:cubicBezTo>
                  <a:pt x="13858" y="13263"/>
                  <a:pt x="13831" y="13250"/>
                  <a:pt x="13767" y="1329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37160" y="4537080"/>
            <a:ext cx="669960" cy="365040"/>
          </a:xfrm>
          <a:custGeom>
            <a:avLst/>
            <a:gdLst/>
            <a:ahLst/>
            <a:rect l="l" t="t" r="r" b="b"/>
            <a:pathLst>
              <a:path w="1861" h="1018">
                <a:moveTo>
                  <a:pt x="15379" y="12973"/>
                </a:moveTo>
                <a:cubicBezTo>
                  <a:pt x="15904" y="12835"/>
                  <a:pt x="16430" y="12713"/>
                  <a:pt x="16966" y="12626"/>
                </a:cubicBezTo>
                <a:cubicBezTo>
                  <a:pt x="17090" y="12608"/>
                  <a:pt x="17098" y="12600"/>
                  <a:pt x="17165" y="12601"/>
                </a:cubicBezTo>
              </a:path>
              <a:path w="1861" h="1018">
                <a:moveTo>
                  <a:pt x="15825" y="13122"/>
                </a:moveTo>
                <a:cubicBezTo>
                  <a:pt x="15797" y="13289"/>
                  <a:pt x="15762" y="13452"/>
                  <a:pt x="15726" y="13618"/>
                </a:cubicBezTo>
              </a:path>
              <a:path w="1861" h="1018">
                <a:moveTo>
                  <a:pt x="16346" y="13022"/>
                </a:moveTo>
                <a:cubicBezTo>
                  <a:pt x="16149" y="13210"/>
                  <a:pt x="16099" y="13208"/>
                  <a:pt x="16321" y="13345"/>
                </a:cubicBezTo>
                <a:cubicBezTo>
                  <a:pt x="16412" y="13412"/>
                  <a:pt x="16451" y="13427"/>
                  <a:pt x="16371" y="13494"/>
                </a:cubicBezTo>
                <a:cubicBezTo>
                  <a:pt x="16346" y="13510"/>
                  <a:pt x="16322" y="13527"/>
                  <a:pt x="16297" y="13543"/>
                </a:cubicBezTo>
                <a:cubicBezTo>
                  <a:pt x="16177" y="13398"/>
                  <a:pt x="16228" y="13250"/>
                  <a:pt x="16371" y="13097"/>
                </a:cubicBezTo>
                <a:cubicBezTo>
                  <a:pt x="16396" y="13080"/>
                  <a:pt x="16421" y="13064"/>
                  <a:pt x="16446" y="13047"/>
                </a:cubicBezTo>
              </a:path>
              <a:path w="1861" h="1018">
                <a:moveTo>
                  <a:pt x="16694" y="13072"/>
                </a:moveTo>
                <a:cubicBezTo>
                  <a:pt x="16651" y="13217"/>
                  <a:pt x="16624" y="13299"/>
                  <a:pt x="16644" y="13444"/>
                </a:cubicBezTo>
                <a:cubicBezTo>
                  <a:pt x="16837" y="13396"/>
                  <a:pt x="16940" y="13273"/>
                  <a:pt x="16867" y="13047"/>
                </a:cubicBezTo>
                <a:cubicBezTo>
                  <a:pt x="16838" y="12957"/>
                  <a:pt x="16753" y="13014"/>
                  <a:pt x="16694" y="13022"/>
                </a:cubicBezTo>
              </a:path>
              <a:path w="1861" h="1018">
                <a:moveTo>
                  <a:pt x="17165" y="12874"/>
                </a:moveTo>
                <a:cubicBezTo>
                  <a:pt x="17135" y="12903"/>
                  <a:pt x="17123" y="12917"/>
                  <a:pt x="17115" y="12948"/>
                </a:cubicBezTo>
                <a:cubicBezTo>
                  <a:pt x="17240" y="12927"/>
                  <a:pt x="17257" y="12929"/>
                  <a:pt x="17165" y="1284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7240" y="3098880"/>
            <a:ext cx="1955880" cy="1411200"/>
          </a:xfrm>
          <a:custGeom>
            <a:avLst/>
            <a:gdLst/>
            <a:ahLst/>
            <a:rect l="l" t="t" r="r" b="b"/>
            <a:pathLst>
              <a:path w="5433" h="3920">
                <a:moveTo>
                  <a:pt x="11658" y="8607"/>
                </a:moveTo>
                <a:cubicBezTo>
                  <a:pt x="11701" y="8701"/>
                  <a:pt x="11765" y="8777"/>
                  <a:pt x="11782" y="8880"/>
                </a:cubicBezTo>
              </a:path>
              <a:path w="5433" h="3920">
                <a:moveTo>
                  <a:pt x="16793" y="12179"/>
                </a:moveTo>
                <a:cubicBezTo>
                  <a:pt x="16723" y="12379"/>
                  <a:pt x="16673" y="12381"/>
                  <a:pt x="16793" y="12526"/>
                </a:cubicBezTo>
                <a:cubicBezTo>
                  <a:pt x="16986" y="12411"/>
                  <a:pt x="17080" y="12339"/>
                  <a:pt x="17066" y="12105"/>
                </a:cubicBezTo>
                <a:cubicBezTo>
                  <a:pt x="16918" y="12134"/>
                  <a:pt x="16855" y="12154"/>
                  <a:pt x="16768" y="1222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59200" y="3581280"/>
            <a:ext cx="536760" cy="392400"/>
          </a:xfrm>
          <a:custGeom>
            <a:avLst/>
            <a:gdLst/>
            <a:ahLst/>
            <a:rect l="l" t="t" r="r" b="b"/>
            <a:pathLst>
              <a:path w="1489" h="1092">
                <a:moveTo>
                  <a:pt x="14163" y="10269"/>
                </a:moveTo>
                <a:cubicBezTo>
                  <a:pt x="14153" y="10381"/>
                  <a:pt x="14152" y="10455"/>
                  <a:pt x="14163" y="10567"/>
                </a:cubicBezTo>
                <a:cubicBezTo>
                  <a:pt x="14280" y="10558"/>
                  <a:pt x="14503" y="10403"/>
                  <a:pt x="14337" y="10244"/>
                </a:cubicBezTo>
                <a:cubicBezTo>
                  <a:pt x="14230" y="10218"/>
                  <a:pt x="14189" y="10208"/>
                  <a:pt x="14114" y="10195"/>
                </a:cubicBezTo>
              </a:path>
              <a:path w="1489" h="1092">
                <a:moveTo>
                  <a:pt x="13618" y="10294"/>
                </a:moveTo>
                <a:cubicBezTo>
                  <a:pt x="13557" y="10378"/>
                  <a:pt x="13519" y="10466"/>
                  <a:pt x="13494" y="10567"/>
                </a:cubicBezTo>
                <a:cubicBezTo>
                  <a:pt x="13611" y="10587"/>
                  <a:pt x="13724" y="10597"/>
                  <a:pt x="13841" y="10616"/>
                </a:cubicBezTo>
                <a:cubicBezTo>
                  <a:pt x="13796" y="10689"/>
                  <a:pt x="13576" y="10804"/>
                  <a:pt x="13593" y="10592"/>
                </a:cubicBezTo>
                <a:cubicBezTo>
                  <a:pt x="13600" y="10504"/>
                  <a:pt x="13643" y="10491"/>
                  <a:pt x="13643" y="10418"/>
                </a:cubicBezTo>
              </a:path>
              <a:path w="1489" h="1092">
                <a:moveTo>
                  <a:pt x="13221" y="10666"/>
                </a:moveTo>
                <a:cubicBezTo>
                  <a:pt x="13263" y="10779"/>
                  <a:pt x="13313" y="10926"/>
                  <a:pt x="13370" y="11038"/>
                </a:cubicBezTo>
                <a:cubicBezTo>
                  <a:pt x="13370" y="11030"/>
                  <a:pt x="13370" y="11021"/>
                  <a:pt x="13370" y="11013"/>
                </a:cubicBezTo>
              </a:path>
              <a:path w="1489" h="1092">
                <a:moveTo>
                  <a:pt x="14585" y="9947"/>
                </a:moveTo>
                <a:cubicBezTo>
                  <a:pt x="14548" y="10039"/>
                  <a:pt x="14546" y="10075"/>
                  <a:pt x="14560" y="10170"/>
                </a:cubicBezTo>
                <a:cubicBezTo>
                  <a:pt x="14618" y="10157"/>
                  <a:pt x="14825" y="9999"/>
                  <a:pt x="14660" y="9971"/>
                </a:cubicBezTo>
                <a:cubicBezTo>
                  <a:pt x="14619" y="9979"/>
                  <a:pt x="14577" y="9988"/>
                  <a:pt x="14536" y="999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106880"/>
            <a:ext cx="536400" cy="447480"/>
          </a:xfrm>
          <a:custGeom>
            <a:avLst/>
            <a:gdLst/>
            <a:ahLst/>
            <a:rect l="l" t="t" r="r" b="b"/>
            <a:pathLst>
              <a:path w="1490" h="1241">
                <a:moveTo>
                  <a:pt x="15726" y="11658"/>
                </a:moveTo>
                <a:cubicBezTo>
                  <a:pt x="15754" y="11800"/>
                  <a:pt x="15720" y="11932"/>
                  <a:pt x="15701" y="12080"/>
                </a:cubicBezTo>
                <a:cubicBezTo>
                  <a:pt x="15701" y="12134"/>
                  <a:pt x="15714" y="12116"/>
                  <a:pt x="15751" y="12005"/>
                </a:cubicBezTo>
              </a:path>
              <a:path w="1490" h="1241">
                <a:moveTo>
                  <a:pt x="15949" y="11658"/>
                </a:moveTo>
                <a:cubicBezTo>
                  <a:pt x="16145" y="11616"/>
                  <a:pt x="16328" y="11577"/>
                  <a:pt x="16173" y="11832"/>
                </a:cubicBezTo>
                <a:cubicBezTo>
                  <a:pt x="16148" y="11865"/>
                  <a:pt x="16123" y="11898"/>
                  <a:pt x="16098" y="11931"/>
                </a:cubicBezTo>
                <a:cubicBezTo>
                  <a:pt x="16090" y="11939"/>
                  <a:pt x="16081" y="11948"/>
                  <a:pt x="16073" y="11956"/>
                </a:cubicBezTo>
                <a:cubicBezTo>
                  <a:pt x="16242" y="11956"/>
                  <a:pt x="16307" y="11921"/>
                  <a:pt x="16446" y="11832"/>
                </a:cubicBezTo>
              </a:path>
              <a:path w="1490" h="1241">
                <a:moveTo>
                  <a:pt x="16694" y="11410"/>
                </a:moveTo>
                <a:cubicBezTo>
                  <a:pt x="16607" y="11583"/>
                  <a:pt x="16595" y="11683"/>
                  <a:pt x="16644" y="11857"/>
                </a:cubicBezTo>
                <a:cubicBezTo>
                  <a:pt x="16766" y="11821"/>
                  <a:pt x="17081" y="11633"/>
                  <a:pt x="16917" y="11435"/>
                </a:cubicBezTo>
                <a:cubicBezTo>
                  <a:pt x="16786" y="11435"/>
                  <a:pt x="16729" y="11455"/>
                  <a:pt x="16669" y="11559"/>
                </a:cubicBezTo>
              </a:path>
              <a:path w="1490" h="1241">
                <a:moveTo>
                  <a:pt x="15453" y="12601"/>
                </a:moveTo>
                <a:cubicBezTo>
                  <a:pt x="15627" y="12551"/>
                  <a:pt x="15685" y="12534"/>
                  <a:pt x="15801" y="12502"/>
                </a:cubicBezTo>
              </a:path>
              <a:path w="1490" h="1241">
                <a:moveTo>
                  <a:pt x="16247" y="12204"/>
                </a:moveTo>
                <a:cubicBezTo>
                  <a:pt x="16247" y="12314"/>
                  <a:pt x="16165" y="12419"/>
                  <a:pt x="16197" y="12526"/>
                </a:cubicBezTo>
                <a:cubicBezTo>
                  <a:pt x="16249" y="12700"/>
                  <a:pt x="16504" y="12551"/>
                  <a:pt x="16545" y="12452"/>
                </a:cubicBezTo>
                <a:cubicBezTo>
                  <a:pt x="16545" y="12419"/>
                  <a:pt x="16545" y="12386"/>
                  <a:pt x="16545" y="12353"/>
                </a:cubicBezTo>
                <a:cubicBezTo>
                  <a:pt x="16503" y="12368"/>
                  <a:pt x="16278" y="12624"/>
                  <a:pt x="16421" y="12650"/>
                </a:cubicBezTo>
                <a:cubicBezTo>
                  <a:pt x="16454" y="12634"/>
                  <a:pt x="16487" y="12617"/>
                  <a:pt x="16520" y="1260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18000" y="3402000"/>
            <a:ext cx="679320" cy="2189160"/>
          </a:xfrm>
          <a:custGeom>
            <a:avLst/>
            <a:gdLst/>
            <a:ahLst/>
            <a:rect l="l" t="t" r="r" b="b"/>
            <a:pathLst>
              <a:path w="1886" h="6078">
                <a:moveTo>
                  <a:pt x="13246" y="9748"/>
                </a:moveTo>
                <a:cubicBezTo>
                  <a:pt x="13276" y="9898"/>
                  <a:pt x="13311" y="10046"/>
                  <a:pt x="13345" y="10195"/>
                </a:cubicBezTo>
              </a:path>
              <a:path w="1886" h="6078">
                <a:moveTo>
                  <a:pt x="13568" y="9674"/>
                </a:moveTo>
                <a:cubicBezTo>
                  <a:pt x="13681" y="9592"/>
                  <a:pt x="13793" y="9519"/>
                  <a:pt x="13915" y="9451"/>
                </a:cubicBezTo>
              </a:path>
              <a:path w="1886" h="6078">
                <a:moveTo>
                  <a:pt x="12551" y="10889"/>
                </a:moveTo>
                <a:cubicBezTo>
                  <a:pt x="13036" y="10573"/>
                  <a:pt x="13526" y="10313"/>
                  <a:pt x="14064" y="10096"/>
                </a:cubicBezTo>
                <a:cubicBezTo>
                  <a:pt x="14277" y="10018"/>
                  <a:pt x="14304" y="9985"/>
                  <a:pt x="14436" y="9996"/>
                </a:cubicBezTo>
              </a:path>
              <a:path w="1886" h="6078">
                <a:moveTo>
                  <a:pt x="12675" y="12998"/>
                </a:moveTo>
                <a:cubicBezTo>
                  <a:pt x="12799" y="12948"/>
                  <a:pt x="12840" y="12931"/>
                  <a:pt x="12923" y="12898"/>
                </a:cubicBezTo>
              </a:path>
              <a:path w="1886" h="6078">
                <a:moveTo>
                  <a:pt x="13593" y="14808"/>
                </a:moveTo>
                <a:cubicBezTo>
                  <a:pt x="13725" y="14783"/>
                  <a:pt x="13858" y="14753"/>
                  <a:pt x="13990" y="14734"/>
                </a:cubicBezTo>
              </a:path>
              <a:path w="1886" h="6078">
                <a:moveTo>
                  <a:pt x="13395" y="15528"/>
                </a:moveTo>
                <a:cubicBezTo>
                  <a:pt x="13490" y="15504"/>
                  <a:pt x="13742" y="15410"/>
                  <a:pt x="13742" y="1552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54360" y="1866960"/>
            <a:ext cx="589320" cy="365040"/>
          </a:xfrm>
          <a:custGeom>
            <a:avLst/>
            <a:gdLst/>
            <a:ahLst/>
            <a:rect l="l" t="t" r="r" b="b"/>
            <a:pathLst>
              <a:path w="1639" h="1018">
                <a:moveTo>
                  <a:pt x="12874" y="5209"/>
                </a:moveTo>
                <a:cubicBezTo>
                  <a:pt x="12874" y="5065"/>
                  <a:pt x="12919" y="5440"/>
                  <a:pt x="12948" y="5581"/>
                </a:cubicBezTo>
                <a:cubicBezTo>
                  <a:pt x="12976" y="5718"/>
                  <a:pt x="12998" y="5745"/>
                  <a:pt x="12998" y="5854"/>
                </a:cubicBezTo>
              </a:path>
              <a:path w="1639" h="1018">
                <a:moveTo>
                  <a:pt x="12650" y="6176"/>
                </a:moveTo>
                <a:cubicBezTo>
                  <a:pt x="12811" y="6131"/>
                  <a:pt x="12979" y="6094"/>
                  <a:pt x="13146" y="6077"/>
                </a:cubicBezTo>
                <a:cubicBezTo>
                  <a:pt x="13171" y="6077"/>
                  <a:pt x="13196" y="6077"/>
                  <a:pt x="13221" y="6077"/>
                </a:cubicBezTo>
                <a:cubicBezTo>
                  <a:pt x="13054" y="6101"/>
                  <a:pt x="12890" y="6142"/>
                  <a:pt x="12725" y="6176"/>
                </a:cubicBezTo>
                <a:cubicBezTo>
                  <a:pt x="12600" y="6201"/>
                  <a:pt x="12926" y="6141"/>
                  <a:pt x="13047" y="6102"/>
                </a:cubicBezTo>
                <a:cubicBezTo>
                  <a:pt x="13301" y="6020"/>
                  <a:pt x="13053" y="6103"/>
                  <a:pt x="12948" y="6176"/>
                </a:cubicBezTo>
                <a:cubicBezTo>
                  <a:pt x="12861" y="6236"/>
                  <a:pt x="13080" y="6131"/>
                  <a:pt x="13171" y="6077"/>
                </a:cubicBezTo>
              </a:path>
              <a:path w="1639" h="1018">
                <a:moveTo>
                  <a:pt x="13543" y="5259"/>
                </a:moveTo>
                <a:cubicBezTo>
                  <a:pt x="13783" y="5520"/>
                  <a:pt x="14035" y="5780"/>
                  <a:pt x="14263" y="6052"/>
                </a:cubicBezTo>
                <a:cubicBezTo>
                  <a:pt x="14283" y="6093"/>
                  <a:pt x="14292" y="6120"/>
                  <a:pt x="14288" y="607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70240" y="2724120"/>
            <a:ext cx="830520" cy="1017720"/>
          </a:xfrm>
          <a:custGeom>
            <a:avLst/>
            <a:gdLst/>
            <a:ahLst/>
            <a:rect l="l" t="t" r="r" b="b"/>
            <a:pathLst>
              <a:path w="2308" h="2829">
                <a:moveTo>
                  <a:pt x="11881" y="7789"/>
                </a:moveTo>
                <a:cubicBezTo>
                  <a:pt x="11940" y="7745"/>
                  <a:pt x="12055" y="7713"/>
                  <a:pt x="12129" y="7689"/>
                </a:cubicBezTo>
                <a:cubicBezTo>
                  <a:pt x="12203" y="7671"/>
                  <a:pt x="12237" y="7637"/>
                  <a:pt x="12229" y="7689"/>
                </a:cubicBezTo>
                <a:cubicBezTo>
                  <a:pt x="12259" y="7839"/>
                  <a:pt x="12222" y="8043"/>
                  <a:pt x="12204" y="8210"/>
                </a:cubicBezTo>
                <a:cubicBezTo>
                  <a:pt x="12203" y="8218"/>
                  <a:pt x="12204" y="8302"/>
                  <a:pt x="12204" y="8235"/>
                </a:cubicBezTo>
              </a:path>
              <a:path w="2308" h="2829">
                <a:moveTo>
                  <a:pt x="12650" y="7590"/>
                </a:moveTo>
                <a:cubicBezTo>
                  <a:pt x="12637" y="7551"/>
                  <a:pt x="12579" y="7587"/>
                  <a:pt x="12526" y="7640"/>
                </a:cubicBezTo>
                <a:cubicBezTo>
                  <a:pt x="12494" y="7672"/>
                  <a:pt x="12488" y="7738"/>
                  <a:pt x="12502" y="7813"/>
                </a:cubicBezTo>
                <a:cubicBezTo>
                  <a:pt x="12510" y="7830"/>
                  <a:pt x="12518" y="7846"/>
                  <a:pt x="12526" y="7863"/>
                </a:cubicBezTo>
                <a:cubicBezTo>
                  <a:pt x="12637" y="7841"/>
                  <a:pt x="12695" y="7723"/>
                  <a:pt x="12824" y="7739"/>
                </a:cubicBezTo>
                <a:cubicBezTo>
                  <a:pt x="13045" y="7765"/>
                  <a:pt x="12794" y="8026"/>
                  <a:pt x="12725" y="8062"/>
                </a:cubicBezTo>
                <a:cubicBezTo>
                  <a:pt x="12708" y="8062"/>
                  <a:pt x="12692" y="8062"/>
                  <a:pt x="12675" y="8062"/>
                </a:cubicBezTo>
              </a:path>
              <a:path w="2308" h="2829">
                <a:moveTo>
                  <a:pt x="12353" y="8384"/>
                </a:moveTo>
                <a:cubicBezTo>
                  <a:pt x="12353" y="8530"/>
                  <a:pt x="12329" y="8690"/>
                  <a:pt x="12378" y="8830"/>
                </a:cubicBezTo>
                <a:cubicBezTo>
                  <a:pt x="12394" y="8855"/>
                  <a:pt x="12411" y="8880"/>
                  <a:pt x="12427" y="8905"/>
                </a:cubicBezTo>
                <a:cubicBezTo>
                  <a:pt x="12637" y="8856"/>
                  <a:pt x="12706" y="8792"/>
                  <a:pt x="12650" y="8582"/>
                </a:cubicBezTo>
                <a:cubicBezTo>
                  <a:pt x="12593" y="8601"/>
                  <a:pt x="12355" y="8760"/>
                  <a:pt x="12502" y="8855"/>
                </a:cubicBezTo>
                <a:cubicBezTo>
                  <a:pt x="12527" y="8855"/>
                  <a:pt x="12551" y="8855"/>
                  <a:pt x="12576" y="8855"/>
                </a:cubicBezTo>
              </a:path>
              <a:path w="2308" h="2829">
                <a:moveTo>
                  <a:pt x="12874" y="8310"/>
                </a:moveTo>
                <a:cubicBezTo>
                  <a:pt x="12825" y="8358"/>
                  <a:pt x="12824" y="8364"/>
                  <a:pt x="12824" y="8434"/>
                </a:cubicBezTo>
                <a:cubicBezTo>
                  <a:pt x="12824" y="8589"/>
                  <a:pt x="12828" y="8626"/>
                  <a:pt x="12923" y="8731"/>
                </a:cubicBezTo>
                <a:cubicBezTo>
                  <a:pt x="13046" y="8665"/>
                  <a:pt x="13217" y="8541"/>
                  <a:pt x="13072" y="8384"/>
                </a:cubicBezTo>
                <a:cubicBezTo>
                  <a:pt x="12979" y="8284"/>
                  <a:pt x="12907" y="8360"/>
                  <a:pt x="12824" y="8409"/>
                </a:cubicBezTo>
              </a:path>
              <a:path w="2308" h="2829">
                <a:moveTo>
                  <a:pt x="11584" y="8781"/>
                </a:moveTo>
                <a:cubicBezTo>
                  <a:pt x="11733" y="8731"/>
                  <a:pt x="11858" y="8671"/>
                  <a:pt x="12005" y="8682"/>
                </a:cubicBezTo>
              </a:path>
              <a:path w="2308" h="2829">
                <a:moveTo>
                  <a:pt x="11782" y="9227"/>
                </a:moveTo>
                <a:cubicBezTo>
                  <a:pt x="12227" y="9082"/>
                  <a:pt x="12672" y="8908"/>
                  <a:pt x="13122" y="8781"/>
                </a:cubicBezTo>
                <a:cubicBezTo>
                  <a:pt x="13412" y="8699"/>
                  <a:pt x="13200" y="8774"/>
                  <a:pt x="13295" y="8731"/>
                </a:cubicBezTo>
              </a:path>
              <a:path w="2308" h="2829">
                <a:moveTo>
                  <a:pt x="13370" y="9004"/>
                </a:moveTo>
                <a:cubicBezTo>
                  <a:pt x="13328" y="9011"/>
                  <a:pt x="13187" y="9047"/>
                  <a:pt x="13171" y="9079"/>
                </a:cubicBezTo>
                <a:cubicBezTo>
                  <a:pt x="13147" y="9126"/>
                  <a:pt x="13171" y="9222"/>
                  <a:pt x="13171" y="9277"/>
                </a:cubicBezTo>
                <a:cubicBezTo>
                  <a:pt x="13292" y="9277"/>
                  <a:pt x="13307" y="9162"/>
                  <a:pt x="13444" y="9178"/>
                </a:cubicBezTo>
                <a:cubicBezTo>
                  <a:pt x="13670" y="9204"/>
                  <a:pt x="13452" y="9422"/>
                  <a:pt x="13370" y="9451"/>
                </a:cubicBezTo>
                <a:cubicBezTo>
                  <a:pt x="13245" y="9471"/>
                  <a:pt x="13218" y="9487"/>
                  <a:pt x="13146" y="9451"/>
                </a:cubicBezTo>
              </a:path>
              <a:path w="2308" h="2829">
                <a:moveTo>
                  <a:pt x="12502" y="9426"/>
                </a:moveTo>
                <a:cubicBezTo>
                  <a:pt x="12544" y="9564"/>
                  <a:pt x="12492" y="9964"/>
                  <a:pt x="12576" y="9847"/>
                </a:cubicBezTo>
                <a:cubicBezTo>
                  <a:pt x="12593" y="9806"/>
                  <a:pt x="12609" y="9764"/>
                  <a:pt x="12626" y="9723"/>
                </a:cubicBezTo>
              </a:path>
              <a:path w="2308" h="2829">
                <a:moveTo>
                  <a:pt x="12675" y="9277"/>
                </a:moveTo>
                <a:cubicBezTo>
                  <a:pt x="12792" y="9197"/>
                  <a:pt x="12776" y="9179"/>
                  <a:pt x="12898" y="9252"/>
                </a:cubicBezTo>
                <a:cubicBezTo>
                  <a:pt x="12865" y="9358"/>
                  <a:pt x="12855" y="9406"/>
                  <a:pt x="12774" y="9475"/>
                </a:cubicBezTo>
                <a:cubicBezTo>
                  <a:pt x="12802" y="9434"/>
                  <a:pt x="12951" y="9378"/>
                  <a:pt x="12973" y="9500"/>
                </a:cubicBezTo>
                <a:cubicBezTo>
                  <a:pt x="13005" y="9681"/>
                  <a:pt x="12815" y="9709"/>
                  <a:pt x="12700" y="9674"/>
                </a:cubicBezTo>
              </a:path>
              <a:path w="2308" h="2829">
                <a:moveTo>
                  <a:pt x="12601" y="10120"/>
                </a:moveTo>
                <a:cubicBezTo>
                  <a:pt x="12624" y="10203"/>
                  <a:pt x="12647" y="10311"/>
                  <a:pt x="12675" y="10393"/>
                </a:cubicBezTo>
                <a:cubicBezTo>
                  <a:pt x="12675" y="10385"/>
                  <a:pt x="12675" y="10376"/>
                  <a:pt x="12675" y="10368"/>
                </a:cubicBezTo>
              </a:path>
              <a:path w="2308" h="2829">
                <a:moveTo>
                  <a:pt x="12601" y="10344"/>
                </a:moveTo>
                <a:cubicBezTo>
                  <a:pt x="12705" y="10270"/>
                  <a:pt x="12803" y="10202"/>
                  <a:pt x="12898" y="10120"/>
                </a:cubicBezTo>
              </a:path>
              <a:path w="2308" h="2829">
                <a:moveTo>
                  <a:pt x="13072" y="9872"/>
                </a:moveTo>
                <a:cubicBezTo>
                  <a:pt x="13086" y="9912"/>
                  <a:pt x="13131" y="10046"/>
                  <a:pt x="13196" y="10046"/>
                </a:cubicBezTo>
                <a:cubicBezTo>
                  <a:pt x="13274" y="10020"/>
                  <a:pt x="13301" y="10009"/>
                  <a:pt x="13320" y="9947"/>
                </a:cubicBezTo>
              </a:path>
              <a:path w="2308" h="2829">
                <a:moveTo>
                  <a:pt x="13568" y="9699"/>
                </a:moveTo>
                <a:cubicBezTo>
                  <a:pt x="13521" y="9790"/>
                  <a:pt x="13722" y="9742"/>
                  <a:pt x="13791" y="9773"/>
                </a:cubicBezTo>
                <a:cubicBezTo>
                  <a:pt x="14058" y="9895"/>
                  <a:pt x="13724" y="9939"/>
                  <a:pt x="13643" y="9947"/>
                </a:cubicBezTo>
              </a:path>
              <a:path w="2308" h="2829">
                <a:moveTo>
                  <a:pt x="12601" y="8954"/>
                </a:moveTo>
                <a:cubicBezTo>
                  <a:pt x="12601" y="9034"/>
                  <a:pt x="12639" y="9101"/>
                  <a:pt x="12650" y="9178"/>
                </a:cubicBezTo>
                <a:cubicBezTo>
                  <a:pt x="12650" y="9203"/>
                  <a:pt x="12650" y="9227"/>
                  <a:pt x="12650" y="925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00680" y="4062240"/>
            <a:ext cx="965160" cy="652680"/>
          </a:xfrm>
          <a:custGeom>
            <a:avLst/>
            <a:gdLst/>
            <a:ahLst/>
            <a:rect l="l" t="t" r="r" b="b"/>
            <a:pathLst>
              <a:path w="2680" h="1812">
                <a:moveTo>
                  <a:pt x="12998" y="12204"/>
                </a:moveTo>
                <a:cubicBezTo>
                  <a:pt x="12998" y="12107"/>
                  <a:pt x="13106" y="12036"/>
                  <a:pt x="13196" y="12105"/>
                </a:cubicBezTo>
                <a:cubicBezTo>
                  <a:pt x="13365" y="12235"/>
                  <a:pt x="13197" y="12502"/>
                  <a:pt x="13047" y="12551"/>
                </a:cubicBezTo>
                <a:cubicBezTo>
                  <a:pt x="13039" y="12543"/>
                  <a:pt x="13030" y="12534"/>
                  <a:pt x="13022" y="12526"/>
                </a:cubicBezTo>
                <a:cubicBezTo>
                  <a:pt x="13068" y="12360"/>
                  <a:pt x="13120" y="12418"/>
                  <a:pt x="13271" y="12452"/>
                </a:cubicBezTo>
                <a:cubicBezTo>
                  <a:pt x="13304" y="12452"/>
                  <a:pt x="13312" y="12443"/>
                  <a:pt x="13295" y="12402"/>
                </a:cubicBezTo>
              </a:path>
              <a:path w="2680" h="1812">
                <a:moveTo>
                  <a:pt x="13395" y="12055"/>
                </a:moveTo>
                <a:cubicBezTo>
                  <a:pt x="13472" y="12000"/>
                  <a:pt x="13544" y="11926"/>
                  <a:pt x="13568" y="12005"/>
                </a:cubicBezTo>
                <a:cubicBezTo>
                  <a:pt x="13591" y="12082"/>
                  <a:pt x="13608" y="12097"/>
                  <a:pt x="13543" y="12129"/>
                </a:cubicBezTo>
                <a:cubicBezTo>
                  <a:pt x="13613" y="12115"/>
                  <a:pt x="13785" y="12038"/>
                  <a:pt x="13791" y="12179"/>
                </a:cubicBezTo>
                <a:cubicBezTo>
                  <a:pt x="13796" y="12286"/>
                  <a:pt x="13622" y="12321"/>
                  <a:pt x="13568" y="12303"/>
                </a:cubicBezTo>
              </a:path>
              <a:path w="2680" h="1812">
                <a:moveTo>
                  <a:pt x="12700" y="12824"/>
                </a:moveTo>
                <a:cubicBezTo>
                  <a:pt x="12715" y="12907"/>
                  <a:pt x="12765" y="13054"/>
                  <a:pt x="12700" y="13097"/>
                </a:cubicBezTo>
              </a:path>
              <a:path w="2680" h="1812">
                <a:moveTo>
                  <a:pt x="11112" y="12005"/>
                </a:moveTo>
                <a:cubicBezTo>
                  <a:pt x="11143" y="12122"/>
                  <a:pt x="11176" y="12238"/>
                  <a:pt x="11212" y="12353"/>
                </a:cubicBezTo>
                <a:cubicBezTo>
                  <a:pt x="11506" y="11979"/>
                  <a:pt x="11801" y="11632"/>
                  <a:pt x="12129" y="1128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64000" y="5330880"/>
            <a:ext cx="465120" cy="687240"/>
          </a:xfrm>
          <a:custGeom>
            <a:avLst/>
            <a:gdLst/>
            <a:ahLst/>
            <a:rect l="l" t="t" r="r" b="b"/>
            <a:pathLst>
              <a:path w="1291" h="1911">
                <a:moveTo>
                  <a:pt x="12998" y="14932"/>
                </a:moveTo>
                <a:cubicBezTo>
                  <a:pt x="13058" y="14772"/>
                  <a:pt x="13176" y="14822"/>
                  <a:pt x="13320" y="14858"/>
                </a:cubicBezTo>
                <a:cubicBezTo>
                  <a:pt x="13281" y="15021"/>
                  <a:pt x="13126" y="15352"/>
                  <a:pt x="12874" y="15280"/>
                </a:cubicBezTo>
                <a:cubicBezTo>
                  <a:pt x="12874" y="15255"/>
                  <a:pt x="12874" y="15230"/>
                  <a:pt x="12874" y="15205"/>
                </a:cubicBezTo>
                <a:cubicBezTo>
                  <a:pt x="13033" y="15166"/>
                  <a:pt x="13088" y="15143"/>
                  <a:pt x="13221" y="15255"/>
                </a:cubicBezTo>
              </a:path>
              <a:path w="1291" h="1911">
                <a:moveTo>
                  <a:pt x="13494" y="14858"/>
                </a:moveTo>
                <a:cubicBezTo>
                  <a:pt x="13469" y="14908"/>
                  <a:pt x="13461" y="14924"/>
                  <a:pt x="13444" y="14957"/>
                </a:cubicBezTo>
                <a:cubicBezTo>
                  <a:pt x="13532" y="15007"/>
                  <a:pt x="13609" y="15019"/>
                  <a:pt x="13667" y="15106"/>
                </a:cubicBezTo>
                <a:cubicBezTo>
                  <a:pt x="13621" y="15213"/>
                  <a:pt x="13611" y="15170"/>
                  <a:pt x="13494" y="15131"/>
                </a:cubicBezTo>
              </a:path>
              <a:path w="1291" h="1911">
                <a:moveTo>
                  <a:pt x="12849" y="15577"/>
                </a:moveTo>
                <a:cubicBezTo>
                  <a:pt x="12953" y="15548"/>
                  <a:pt x="13007" y="15528"/>
                  <a:pt x="13122" y="15528"/>
                </a:cubicBezTo>
                <a:cubicBezTo>
                  <a:pt x="13065" y="15641"/>
                  <a:pt x="13068" y="15642"/>
                  <a:pt x="12948" y="15701"/>
                </a:cubicBezTo>
                <a:cubicBezTo>
                  <a:pt x="13008" y="15713"/>
                  <a:pt x="13144" y="15728"/>
                  <a:pt x="13097" y="15825"/>
                </a:cubicBezTo>
                <a:cubicBezTo>
                  <a:pt x="13034" y="15956"/>
                  <a:pt x="12905" y="15915"/>
                  <a:pt x="12799" y="15900"/>
                </a:cubicBezTo>
              </a:path>
              <a:path w="1291" h="1911">
                <a:moveTo>
                  <a:pt x="13419" y="15528"/>
                </a:moveTo>
                <a:cubicBezTo>
                  <a:pt x="13352" y="15698"/>
                  <a:pt x="13426" y="15654"/>
                  <a:pt x="13568" y="15751"/>
                </a:cubicBezTo>
                <a:cubicBezTo>
                  <a:pt x="13732" y="15863"/>
                  <a:pt x="13449" y="15811"/>
                  <a:pt x="13419" y="15801"/>
                </a:cubicBezTo>
              </a:path>
              <a:path w="1291" h="1911">
                <a:moveTo>
                  <a:pt x="12402" y="16049"/>
                </a:moveTo>
                <a:cubicBezTo>
                  <a:pt x="12808" y="16011"/>
                  <a:pt x="13261" y="15930"/>
                  <a:pt x="13667" y="16024"/>
                </a:cubicBezTo>
                <a:cubicBezTo>
                  <a:pt x="13690" y="16047"/>
                  <a:pt x="13701" y="16055"/>
                  <a:pt x="13667" y="16049"/>
                </a:cubicBezTo>
              </a:path>
              <a:path w="1291" h="1911">
                <a:moveTo>
                  <a:pt x="13320" y="16297"/>
                </a:moveTo>
                <a:cubicBezTo>
                  <a:pt x="13268" y="16439"/>
                  <a:pt x="13253" y="16476"/>
                  <a:pt x="13271" y="16619"/>
                </a:cubicBezTo>
                <a:cubicBezTo>
                  <a:pt x="13364" y="16626"/>
                  <a:pt x="13664" y="16581"/>
                  <a:pt x="13568" y="16396"/>
                </a:cubicBezTo>
                <a:cubicBezTo>
                  <a:pt x="13494" y="16371"/>
                  <a:pt x="13469" y="16362"/>
                  <a:pt x="13419" y="16346"/>
                </a:cubicBezTo>
              </a:path>
              <a:path w="1291" h="1911">
                <a:moveTo>
                  <a:pt x="12898" y="16247"/>
                </a:moveTo>
                <a:cubicBezTo>
                  <a:pt x="12935" y="16301"/>
                  <a:pt x="12830" y="16526"/>
                  <a:pt x="12799" y="16619"/>
                </a:cubicBezTo>
                <a:cubicBezTo>
                  <a:pt x="12779" y="16680"/>
                  <a:pt x="12760" y="16695"/>
                  <a:pt x="12799" y="16718"/>
                </a:cubicBezTo>
                <a:cubicBezTo>
                  <a:pt x="12942" y="16668"/>
                  <a:pt x="13044" y="16646"/>
                  <a:pt x="13097" y="16495"/>
                </a:cubicBezTo>
                <a:cubicBezTo>
                  <a:pt x="13097" y="16487"/>
                  <a:pt x="13097" y="16478"/>
                  <a:pt x="13097" y="16470"/>
                </a:cubicBezTo>
                <a:cubicBezTo>
                  <a:pt x="12990" y="16488"/>
                  <a:pt x="12948" y="16535"/>
                  <a:pt x="12923" y="16644"/>
                </a:cubicBezTo>
                <a:cubicBezTo>
                  <a:pt x="12886" y="16806"/>
                  <a:pt x="13137" y="16647"/>
                  <a:pt x="13146" y="1664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value of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Remember that all triangles add up to 18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981080"/>
            <a:ext cx="2133720" cy="16002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1905120"/>
            <a:ext cx="2590560" cy="1600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3124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114800"/>
            <a:ext cx="3352680" cy="1905120"/>
          </a:xfrm>
          <a:prstGeom prst="triangle">
            <a:avLst>
              <a:gd name="adj" fmla="val 7599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571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74840" y="3251160"/>
            <a:ext cx="357120" cy="312840"/>
          </a:xfrm>
          <a:custGeom>
            <a:avLst/>
            <a:gdLst/>
            <a:ahLst/>
            <a:rect l="l" t="t" r="r" b="b"/>
            <a:pathLst>
              <a:path w="993" h="869">
                <a:moveTo>
                  <a:pt x="4093" y="9525"/>
                </a:moveTo>
                <a:cubicBezTo>
                  <a:pt x="4111" y="9519"/>
                  <a:pt x="4146" y="9460"/>
                  <a:pt x="4142" y="9426"/>
                </a:cubicBezTo>
                <a:cubicBezTo>
                  <a:pt x="4128" y="9302"/>
                  <a:pt x="3958" y="9333"/>
                  <a:pt x="3894" y="9376"/>
                </a:cubicBezTo>
                <a:cubicBezTo>
                  <a:pt x="3763" y="9464"/>
                  <a:pt x="3823" y="9542"/>
                  <a:pt x="3870" y="9649"/>
                </a:cubicBezTo>
                <a:cubicBezTo>
                  <a:pt x="4035" y="9649"/>
                  <a:pt x="4058" y="9597"/>
                  <a:pt x="4068" y="9426"/>
                </a:cubicBezTo>
                <a:cubicBezTo>
                  <a:pt x="4068" y="9418"/>
                  <a:pt x="4068" y="9409"/>
                  <a:pt x="4068" y="9401"/>
                </a:cubicBezTo>
                <a:cubicBezTo>
                  <a:pt x="4094" y="9530"/>
                  <a:pt x="4156" y="9667"/>
                  <a:pt x="4192" y="9798"/>
                </a:cubicBezTo>
                <a:cubicBezTo>
                  <a:pt x="4211" y="9855"/>
                  <a:pt x="4220" y="9862"/>
                  <a:pt x="4217" y="9897"/>
                </a:cubicBezTo>
              </a:path>
              <a:path w="993" h="869">
                <a:moveTo>
                  <a:pt x="4390" y="9351"/>
                </a:moveTo>
                <a:cubicBezTo>
                  <a:pt x="4383" y="9417"/>
                  <a:pt x="4327" y="9618"/>
                  <a:pt x="4415" y="9674"/>
                </a:cubicBezTo>
                <a:cubicBezTo>
                  <a:pt x="4603" y="9792"/>
                  <a:pt x="4707" y="9484"/>
                  <a:pt x="4638" y="9351"/>
                </a:cubicBezTo>
                <a:cubicBezTo>
                  <a:pt x="4607" y="9292"/>
                  <a:pt x="4499" y="9277"/>
                  <a:pt x="4440" y="9277"/>
                </a:cubicBezTo>
              </a:path>
              <a:path w="993" h="869">
                <a:moveTo>
                  <a:pt x="4762" y="9079"/>
                </a:moveTo>
                <a:cubicBezTo>
                  <a:pt x="4721" y="9093"/>
                  <a:pt x="4722" y="9149"/>
                  <a:pt x="4713" y="9203"/>
                </a:cubicBezTo>
                <a:cubicBezTo>
                  <a:pt x="4745" y="9187"/>
                  <a:pt x="4900" y="9028"/>
                  <a:pt x="4762" y="9029"/>
                </a:cubicBezTo>
                <a:cubicBezTo>
                  <a:pt x="4754" y="9037"/>
                  <a:pt x="4746" y="9046"/>
                  <a:pt x="4738" y="905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84800" y="2054160"/>
            <a:ext cx="1081080" cy="1438200"/>
          </a:xfrm>
          <a:custGeom>
            <a:avLst/>
            <a:gdLst/>
            <a:ahLst/>
            <a:rect l="l" t="t" r="r" b="b"/>
            <a:pathLst>
              <a:path w="3002" h="3995">
                <a:moveTo>
                  <a:pt x="12700" y="5953"/>
                </a:moveTo>
                <a:cubicBezTo>
                  <a:pt x="12721" y="6145"/>
                  <a:pt x="12715" y="6307"/>
                  <a:pt x="12700" y="6499"/>
                </a:cubicBezTo>
                <a:cubicBezTo>
                  <a:pt x="12700" y="6515"/>
                  <a:pt x="12700" y="6532"/>
                  <a:pt x="12700" y="6548"/>
                </a:cubicBezTo>
              </a:path>
              <a:path w="3002" h="3995">
                <a:moveTo>
                  <a:pt x="13320" y="5705"/>
                </a:moveTo>
                <a:cubicBezTo>
                  <a:pt x="13207" y="5841"/>
                  <a:pt x="13174" y="5877"/>
                  <a:pt x="13122" y="5978"/>
                </a:cubicBezTo>
                <a:cubicBezTo>
                  <a:pt x="13215" y="6103"/>
                  <a:pt x="13487" y="6162"/>
                  <a:pt x="13419" y="6375"/>
                </a:cubicBezTo>
                <a:cubicBezTo>
                  <a:pt x="13386" y="6416"/>
                  <a:pt x="13353" y="6458"/>
                  <a:pt x="13320" y="6499"/>
                </a:cubicBezTo>
                <a:cubicBezTo>
                  <a:pt x="13090" y="6364"/>
                  <a:pt x="13322" y="6194"/>
                  <a:pt x="13370" y="5953"/>
                </a:cubicBezTo>
                <a:cubicBezTo>
                  <a:pt x="13362" y="5937"/>
                  <a:pt x="13353" y="5920"/>
                  <a:pt x="13345" y="5904"/>
                </a:cubicBezTo>
              </a:path>
              <a:path w="3002" h="3995">
                <a:moveTo>
                  <a:pt x="13667" y="5705"/>
                </a:moveTo>
                <a:cubicBezTo>
                  <a:pt x="13620" y="5930"/>
                  <a:pt x="13602" y="6056"/>
                  <a:pt x="13643" y="6276"/>
                </a:cubicBezTo>
                <a:cubicBezTo>
                  <a:pt x="13849" y="6254"/>
                  <a:pt x="14120" y="6032"/>
                  <a:pt x="13965" y="5755"/>
                </a:cubicBezTo>
                <a:cubicBezTo>
                  <a:pt x="13836" y="5523"/>
                  <a:pt x="13574" y="5896"/>
                  <a:pt x="13519" y="5953"/>
                </a:cubicBezTo>
              </a:path>
              <a:path w="3002" h="3995">
                <a:moveTo>
                  <a:pt x="13543" y="6747"/>
                </a:moveTo>
                <a:cubicBezTo>
                  <a:pt x="13395" y="6781"/>
                  <a:pt x="13421" y="6737"/>
                  <a:pt x="13370" y="6871"/>
                </a:cubicBezTo>
                <a:cubicBezTo>
                  <a:pt x="13334" y="6961"/>
                  <a:pt x="13317" y="6966"/>
                  <a:pt x="13320" y="7020"/>
                </a:cubicBezTo>
                <a:cubicBezTo>
                  <a:pt x="13449" y="7020"/>
                  <a:pt x="13529" y="7017"/>
                  <a:pt x="13643" y="7069"/>
                </a:cubicBezTo>
                <a:cubicBezTo>
                  <a:pt x="13613" y="7174"/>
                  <a:pt x="13471" y="7447"/>
                  <a:pt x="13295" y="7342"/>
                </a:cubicBezTo>
                <a:cubicBezTo>
                  <a:pt x="13295" y="7317"/>
                  <a:pt x="13295" y="7293"/>
                  <a:pt x="13295" y="7268"/>
                </a:cubicBezTo>
              </a:path>
              <a:path w="3002" h="3995">
                <a:moveTo>
                  <a:pt x="13965" y="6747"/>
                </a:moveTo>
                <a:cubicBezTo>
                  <a:pt x="13915" y="6948"/>
                  <a:pt x="13901" y="6967"/>
                  <a:pt x="13990" y="7144"/>
                </a:cubicBezTo>
                <a:cubicBezTo>
                  <a:pt x="14108" y="7114"/>
                  <a:pt x="14368" y="6893"/>
                  <a:pt x="14139" y="6772"/>
                </a:cubicBezTo>
                <a:cubicBezTo>
                  <a:pt x="13973" y="6772"/>
                  <a:pt x="13908" y="6780"/>
                  <a:pt x="13816" y="6871"/>
                </a:cubicBezTo>
              </a:path>
              <a:path w="3002" h="3995">
                <a:moveTo>
                  <a:pt x="12774" y="7739"/>
                </a:moveTo>
                <a:cubicBezTo>
                  <a:pt x="12774" y="7843"/>
                  <a:pt x="12730" y="8372"/>
                  <a:pt x="12799" y="8210"/>
                </a:cubicBezTo>
              </a:path>
              <a:path w="3002" h="3995">
                <a:moveTo>
                  <a:pt x="13097" y="7739"/>
                </a:moveTo>
                <a:cubicBezTo>
                  <a:pt x="13175" y="7713"/>
                  <a:pt x="13454" y="7566"/>
                  <a:pt x="13419" y="7739"/>
                </a:cubicBezTo>
                <a:cubicBezTo>
                  <a:pt x="13373" y="7832"/>
                  <a:pt x="13362" y="7861"/>
                  <a:pt x="13295" y="7888"/>
                </a:cubicBezTo>
                <a:cubicBezTo>
                  <a:pt x="13410" y="7888"/>
                  <a:pt x="13469" y="7898"/>
                  <a:pt x="13568" y="7938"/>
                </a:cubicBezTo>
                <a:cubicBezTo>
                  <a:pt x="13480" y="8102"/>
                  <a:pt x="13400" y="8161"/>
                  <a:pt x="13221" y="8086"/>
                </a:cubicBezTo>
              </a:path>
              <a:path w="3002" h="3995">
                <a:moveTo>
                  <a:pt x="13568" y="8458"/>
                </a:moveTo>
                <a:cubicBezTo>
                  <a:pt x="13568" y="8326"/>
                  <a:pt x="13473" y="8278"/>
                  <a:pt x="13370" y="8409"/>
                </a:cubicBezTo>
                <a:cubicBezTo>
                  <a:pt x="13330" y="8509"/>
                  <a:pt x="13301" y="8527"/>
                  <a:pt x="13345" y="8582"/>
                </a:cubicBezTo>
                <a:cubicBezTo>
                  <a:pt x="13481" y="8533"/>
                  <a:pt x="13543" y="8450"/>
                  <a:pt x="13643" y="8334"/>
                </a:cubicBezTo>
                <a:cubicBezTo>
                  <a:pt x="13643" y="8434"/>
                  <a:pt x="13595" y="8675"/>
                  <a:pt x="13618" y="8756"/>
                </a:cubicBezTo>
                <a:cubicBezTo>
                  <a:pt x="13626" y="8748"/>
                  <a:pt x="13635" y="8739"/>
                  <a:pt x="13643" y="8731"/>
                </a:cubicBezTo>
              </a:path>
              <a:path w="3002" h="3995">
                <a:moveTo>
                  <a:pt x="13891" y="8409"/>
                </a:moveTo>
                <a:cubicBezTo>
                  <a:pt x="13848" y="8557"/>
                  <a:pt x="13825" y="8590"/>
                  <a:pt x="13866" y="8682"/>
                </a:cubicBezTo>
                <a:cubicBezTo>
                  <a:pt x="14129" y="8705"/>
                  <a:pt x="14223" y="8637"/>
                  <a:pt x="14238" y="8359"/>
                </a:cubicBezTo>
                <a:cubicBezTo>
                  <a:pt x="14060" y="8333"/>
                  <a:pt x="13998" y="8327"/>
                  <a:pt x="13891" y="8409"/>
                </a:cubicBezTo>
              </a:path>
              <a:path w="3002" h="3995">
                <a:moveTo>
                  <a:pt x="12179" y="9079"/>
                </a:moveTo>
                <a:cubicBezTo>
                  <a:pt x="12734" y="9007"/>
                  <a:pt x="13283" y="8930"/>
                  <a:pt x="13841" y="8880"/>
                </a:cubicBezTo>
                <a:cubicBezTo>
                  <a:pt x="14276" y="8841"/>
                  <a:pt x="14741" y="8755"/>
                  <a:pt x="15180" y="8781"/>
                </a:cubicBezTo>
                <a:cubicBezTo>
                  <a:pt x="15180" y="8789"/>
                  <a:pt x="15180" y="8798"/>
                  <a:pt x="15180" y="8806"/>
                </a:cubicBezTo>
              </a:path>
              <a:path w="3002" h="3995">
                <a:moveTo>
                  <a:pt x="13494" y="9252"/>
                </a:moveTo>
                <a:cubicBezTo>
                  <a:pt x="13494" y="9182"/>
                  <a:pt x="13463" y="9334"/>
                  <a:pt x="13444" y="9401"/>
                </a:cubicBezTo>
                <a:cubicBezTo>
                  <a:pt x="13444" y="9409"/>
                  <a:pt x="13444" y="9418"/>
                  <a:pt x="13444" y="9426"/>
                </a:cubicBezTo>
                <a:cubicBezTo>
                  <a:pt x="13536" y="9449"/>
                  <a:pt x="13649" y="9423"/>
                  <a:pt x="13742" y="9376"/>
                </a:cubicBezTo>
              </a:path>
              <a:path w="3002" h="3995">
                <a:moveTo>
                  <a:pt x="13667" y="9128"/>
                </a:moveTo>
                <a:cubicBezTo>
                  <a:pt x="13667" y="9304"/>
                  <a:pt x="13658" y="9475"/>
                  <a:pt x="13643" y="9649"/>
                </a:cubicBezTo>
                <a:cubicBezTo>
                  <a:pt x="13643" y="9719"/>
                  <a:pt x="13652" y="9718"/>
                  <a:pt x="13692" y="9599"/>
                </a:cubicBezTo>
              </a:path>
              <a:path w="3002" h="3995">
                <a:moveTo>
                  <a:pt x="14064" y="9178"/>
                </a:moveTo>
                <a:cubicBezTo>
                  <a:pt x="13953" y="9390"/>
                  <a:pt x="13886" y="9470"/>
                  <a:pt x="14039" y="9649"/>
                </a:cubicBezTo>
                <a:cubicBezTo>
                  <a:pt x="14152" y="9608"/>
                  <a:pt x="14534" y="9364"/>
                  <a:pt x="14213" y="9252"/>
                </a:cubicBezTo>
                <a:cubicBezTo>
                  <a:pt x="14056" y="9252"/>
                  <a:pt x="14014" y="9252"/>
                  <a:pt x="13915" y="925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62120" y="1616040"/>
            <a:ext cx="5894640" cy="3421080"/>
          </a:xfrm>
          <a:custGeom>
            <a:avLst/>
            <a:gdLst/>
            <a:ahLst/>
            <a:rect l="l" t="t" r="r" b="b"/>
            <a:pathLst>
              <a:path w="16372" h="9501">
                <a:moveTo>
                  <a:pt x="12353" y="7615"/>
                </a:moveTo>
                <a:cubicBezTo>
                  <a:pt x="12909" y="7476"/>
                  <a:pt x="13470" y="7347"/>
                  <a:pt x="14039" y="7268"/>
                </a:cubicBezTo>
                <a:cubicBezTo>
                  <a:pt x="14254" y="7248"/>
                  <a:pt x="14287" y="7240"/>
                  <a:pt x="14412" y="7243"/>
                </a:cubicBezTo>
              </a:path>
              <a:path w="16372" h="9501">
                <a:moveTo>
                  <a:pt x="13841" y="7640"/>
                </a:moveTo>
                <a:cubicBezTo>
                  <a:pt x="13775" y="7794"/>
                  <a:pt x="13751" y="7830"/>
                  <a:pt x="13767" y="7938"/>
                </a:cubicBezTo>
                <a:cubicBezTo>
                  <a:pt x="13916" y="7983"/>
                  <a:pt x="14361" y="7991"/>
                  <a:pt x="14213" y="7665"/>
                </a:cubicBezTo>
                <a:cubicBezTo>
                  <a:pt x="14079" y="7557"/>
                  <a:pt x="14024" y="7525"/>
                  <a:pt x="13891" y="7590"/>
                </a:cubicBezTo>
              </a:path>
              <a:path w="16372" h="9501">
                <a:moveTo>
                  <a:pt x="12129" y="8533"/>
                </a:moveTo>
                <a:cubicBezTo>
                  <a:pt x="12286" y="8507"/>
                  <a:pt x="12344" y="8497"/>
                  <a:pt x="12452" y="8483"/>
                </a:cubicBezTo>
              </a:path>
              <a:path w="16372" h="9501">
                <a:moveTo>
                  <a:pt x="7243" y="4490"/>
                </a:moveTo>
                <a:cubicBezTo>
                  <a:pt x="7296" y="4736"/>
                  <a:pt x="7370" y="4963"/>
                  <a:pt x="7317" y="5209"/>
                </a:cubicBezTo>
              </a:path>
              <a:path w="16372" h="9501">
                <a:moveTo>
                  <a:pt x="7119" y="6077"/>
                </a:moveTo>
                <a:cubicBezTo>
                  <a:pt x="7216" y="5959"/>
                  <a:pt x="7317" y="5847"/>
                  <a:pt x="7417" y="5730"/>
                </a:cubicBezTo>
              </a:path>
              <a:path w="16372" h="9501">
                <a:moveTo>
                  <a:pt x="7590" y="5556"/>
                </a:moveTo>
                <a:cubicBezTo>
                  <a:pt x="7643" y="5696"/>
                  <a:pt x="7698" y="5965"/>
                  <a:pt x="7714" y="6028"/>
                </a:cubicBezTo>
              </a:path>
              <a:path w="16372" h="9501">
                <a:moveTo>
                  <a:pt x="7764" y="5407"/>
                </a:moveTo>
                <a:cubicBezTo>
                  <a:pt x="7779" y="5453"/>
                  <a:pt x="7833" y="5593"/>
                  <a:pt x="7913" y="5556"/>
                </a:cubicBezTo>
                <a:cubicBezTo>
                  <a:pt x="8021" y="5475"/>
                  <a:pt x="8058" y="5440"/>
                  <a:pt x="8062" y="5333"/>
                </a:cubicBezTo>
              </a:path>
              <a:path w="16372" h="9501">
                <a:moveTo>
                  <a:pt x="8111" y="5779"/>
                </a:moveTo>
                <a:lnTo>
                  <a:pt x="8111" y="5779"/>
                </a:lnTo>
              </a:path>
              <a:path w="16372" h="9501">
                <a:moveTo>
                  <a:pt x="8359" y="6251"/>
                </a:moveTo>
                <a:cubicBezTo>
                  <a:pt x="8359" y="6352"/>
                  <a:pt x="8339" y="6383"/>
                  <a:pt x="8409" y="6400"/>
                </a:cubicBezTo>
                <a:cubicBezTo>
                  <a:pt x="8586" y="6285"/>
                  <a:pt x="8605" y="6199"/>
                  <a:pt x="8706" y="6003"/>
                </a:cubicBezTo>
              </a:path>
              <a:path w="16372" h="9501">
                <a:moveTo>
                  <a:pt x="8607" y="5904"/>
                </a:moveTo>
                <a:cubicBezTo>
                  <a:pt x="8629" y="6119"/>
                  <a:pt x="8611" y="6718"/>
                  <a:pt x="8706" y="6524"/>
                </a:cubicBezTo>
                <a:cubicBezTo>
                  <a:pt x="8731" y="6449"/>
                  <a:pt x="8756" y="6375"/>
                  <a:pt x="8781" y="6300"/>
                </a:cubicBezTo>
              </a:path>
              <a:path w="16372" h="9501">
                <a:moveTo>
                  <a:pt x="19794" y="13990"/>
                </a:moveTo>
                <a:cubicBezTo>
                  <a:pt x="19978" y="13937"/>
                  <a:pt x="20045" y="13917"/>
                  <a:pt x="20166" y="13866"/>
                </a:cubicBezTo>
              </a:path>
              <a:path w="16372" h="9501">
                <a:moveTo>
                  <a:pt x="22175" y="11757"/>
                </a:moveTo>
                <a:cubicBezTo>
                  <a:pt x="22100" y="12007"/>
                  <a:pt x="22016" y="12256"/>
                  <a:pt x="21927" y="12502"/>
                </a:cubicBezTo>
              </a:path>
              <a:path w="16372" h="9501">
                <a:moveTo>
                  <a:pt x="21134" y="13097"/>
                </a:moveTo>
                <a:cubicBezTo>
                  <a:pt x="21337" y="13020"/>
                  <a:pt x="21409" y="12994"/>
                  <a:pt x="21555" y="12973"/>
                </a:cubicBezTo>
              </a:path>
              <a:path w="16372" h="9501">
                <a:moveTo>
                  <a:pt x="21729" y="12998"/>
                </a:moveTo>
                <a:cubicBezTo>
                  <a:pt x="21661" y="13199"/>
                  <a:pt x="21647" y="13253"/>
                  <a:pt x="21580" y="13370"/>
                </a:cubicBezTo>
              </a:path>
              <a:path w="16372" h="9501">
                <a:moveTo>
                  <a:pt x="23019" y="12750"/>
                </a:moveTo>
                <a:cubicBezTo>
                  <a:pt x="23192" y="12711"/>
                  <a:pt x="23215" y="12695"/>
                  <a:pt x="23316" y="12700"/>
                </a:cubicBezTo>
              </a:path>
              <a:path w="16372" h="9501">
                <a:moveTo>
                  <a:pt x="21084" y="13692"/>
                </a:moveTo>
                <a:cubicBezTo>
                  <a:pt x="21881" y="13568"/>
                  <a:pt x="22679" y="13422"/>
                  <a:pt x="23490" y="13469"/>
                </a:cubicBezTo>
                <a:cubicBezTo>
                  <a:pt x="23482" y="13477"/>
                  <a:pt x="23473" y="13486"/>
                  <a:pt x="23465" y="13494"/>
                </a:cubicBezTo>
              </a:path>
              <a:path w="16372" h="9501">
                <a:moveTo>
                  <a:pt x="17462" y="11361"/>
                </a:moveTo>
                <a:cubicBezTo>
                  <a:pt x="17569" y="11300"/>
                  <a:pt x="17675" y="11242"/>
                  <a:pt x="17785" y="11187"/>
                </a:cubicBezTo>
              </a:path>
              <a:path w="16372" h="9501">
                <a:moveTo>
                  <a:pt x="18107" y="10964"/>
                </a:moveTo>
                <a:cubicBezTo>
                  <a:pt x="18076" y="11027"/>
                  <a:pt x="18064" y="11059"/>
                  <a:pt x="18058" y="11112"/>
                </a:cubicBezTo>
                <a:cubicBezTo>
                  <a:pt x="18156" y="11161"/>
                  <a:pt x="18194" y="11136"/>
                  <a:pt x="18182" y="1103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97120" y="1500120"/>
            <a:ext cx="544680" cy="795240"/>
          </a:xfrm>
          <a:custGeom>
            <a:avLst/>
            <a:gdLst/>
            <a:ahLst/>
            <a:rect l="l" t="t" r="r" b="b"/>
            <a:pathLst>
              <a:path w="1514" h="2209">
                <a:moveTo>
                  <a:pt x="7565" y="4341"/>
                </a:moveTo>
                <a:cubicBezTo>
                  <a:pt x="7514" y="4445"/>
                  <a:pt x="7496" y="4483"/>
                  <a:pt x="7491" y="4564"/>
                </a:cubicBezTo>
                <a:cubicBezTo>
                  <a:pt x="7580" y="4642"/>
                  <a:pt x="7823" y="4637"/>
                  <a:pt x="7838" y="4812"/>
                </a:cubicBezTo>
                <a:cubicBezTo>
                  <a:pt x="7794" y="4945"/>
                  <a:pt x="7790" y="4982"/>
                  <a:pt x="7714" y="5035"/>
                </a:cubicBezTo>
                <a:cubicBezTo>
                  <a:pt x="7653" y="4810"/>
                  <a:pt x="7632" y="4525"/>
                  <a:pt x="7739" y="4291"/>
                </a:cubicBezTo>
                <a:cubicBezTo>
                  <a:pt x="7747" y="4291"/>
                  <a:pt x="7756" y="4291"/>
                  <a:pt x="7764" y="4291"/>
                </a:cubicBezTo>
              </a:path>
              <a:path w="1514" h="2209">
                <a:moveTo>
                  <a:pt x="7962" y="4192"/>
                </a:moveTo>
                <a:cubicBezTo>
                  <a:pt x="7996" y="4389"/>
                  <a:pt x="8004" y="4496"/>
                  <a:pt x="8111" y="4663"/>
                </a:cubicBezTo>
                <a:cubicBezTo>
                  <a:pt x="8143" y="4586"/>
                  <a:pt x="8285" y="4123"/>
                  <a:pt x="8037" y="4167"/>
                </a:cubicBezTo>
                <a:cubicBezTo>
                  <a:pt x="7996" y="4200"/>
                  <a:pt x="7954" y="4233"/>
                  <a:pt x="7913" y="4266"/>
                </a:cubicBezTo>
              </a:path>
              <a:path w="1514" h="2209">
                <a:moveTo>
                  <a:pt x="7938" y="5308"/>
                </a:moveTo>
                <a:cubicBezTo>
                  <a:pt x="7995" y="5465"/>
                  <a:pt x="8049" y="5625"/>
                  <a:pt x="8111" y="5779"/>
                </a:cubicBezTo>
              </a:path>
              <a:path w="1514" h="2209">
                <a:moveTo>
                  <a:pt x="8235" y="5110"/>
                </a:moveTo>
                <a:cubicBezTo>
                  <a:pt x="8270" y="5289"/>
                  <a:pt x="8266" y="5376"/>
                  <a:pt x="8384" y="5507"/>
                </a:cubicBezTo>
                <a:cubicBezTo>
                  <a:pt x="8402" y="5469"/>
                  <a:pt x="8527" y="4953"/>
                  <a:pt x="8334" y="5110"/>
                </a:cubicBezTo>
                <a:cubicBezTo>
                  <a:pt x="8285" y="5176"/>
                  <a:pt x="8235" y="5242"/>
                  <a:pt x="8186" y="5308"/>
                </a:cubicBezTo>
              </a:path>
              <a:path w="1514" h="2209">
                <a:moveTo>
                  <a:pt x="7689" y="6375"/>
                </a:moveTo>
                <a:cubicBezTo>
                  <a:pt x="7990" y="6074"/>
                  <a:pt x="8282" y="5753"/>
                  <a:pt x="8607" y="5482"/>
                </a:cubicBezTo>
              </a:path>
              <a:path w="1514" h="2209">
                <a:moveTo>
                  <a:pt x="8806" y="5904"/>
                </a:moveTo>
                <a:cubicBezTo>
                  <a:pt x="8851" y="6085"/>
                  <a:pt x="8864" y="6133"/>
                  <a:pt x="8880" y="6251"/>
                </a:cubicBezTo>
                <a:cubicBezTo>
                  <a:pt x="9024" y="6171"/>
                  <a:pt x="9078" y="5912"/>
                  <a:pt x="8880" y="5804"/>
                </a:cubicBezTo>
                <a:cubicBezTo>
                  <a:pt x="8847" y="5812"/>
                  <a:pt x="8814" y="5821"/>
                  <a:pt x="8781" y="582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66080" y="4616280"/>
            <a:ext cx="347760" cy="152640"/>
          </a:xfrm>
          <a:custGeom>
            <a:avLst/>
            <a:gdLst/>
            <a:ahLst/>
            <a:rect l="l" t="t" r="r" b="b"/>
            <a:pathLst>
              <a:path w="968" h="423">
                <a:moveTo>
                  <a:pt x="22225" y="12948"/>
                </a:moveTo>
                <a:cubicBezTo>
                  <a:pt x="22138" y="13101"/>
                  <a:pt x="22100" y="13135"/>
                  <a:pt x="22151" y="13246"/>
                </a:cubicBezTo>
                <a:cubicBezTo>
                  <a:pt x="22294" y="13225"/>
                  <a:pt x="22697" y="13080"/>
                  <a:pt x="22423" y="12874"/>
                </a:cubicBezTo>
                <a:cubicBezTo>
                  <a:pt x="22374" y="12866"/>
                  <a:pt x="22324" y="12857"/>
                  <a:pt x="22275" y="12849"/>
                </a:cubicBezTo>
              </a:path>
              <a:path w="968" h="423">
                <a:moveTo>
                  <a:pt x="22796" y="12824"/>
                </a:moveTo>
                <a:cubicBezTo>
                  <a:pt x="22762" y="12960"/>
                  <a:pt x="22884" y="12934"/>
                  <a:pt x="22994" y="12998"/>
                </a:cubicBezTo>
                <a:cubicBezTo>
                  <a:pt x="23161" y="13096"/>
                  <a:pt x="23101" y="13115"/>
                  <a:pt x="22994" y="1319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03800" y="1465200"/>
            <a:ext cx="4429080" cy="1044720"/>
          </a:xfrm>
          <a:custGeom>
            <a:avLst/>
            <a:gdLst/>
            <a:ahLst/>
            <a:rect l="l" t="t" r="r" b="b"/>
            <a:pathLst>
              <a:path w="12304" h="2903">
                <a:moveTo>
                  <a:pt x="11956" y="6970"/>
                </a:moveTo>
                <a:cubicBezTo>
                  <a:pt x="12142" y="6938"/>
                  <a:pt x="12315" y="6909"/>
                  <a:pt x="12502" y="6896"/>
                </a:cubicBezTo>
              </a:path>
              <a:path w="12304" h="2903">
                <a:moveTo>
                  <a:pt x="21282" y="4192"/>
                </a:moveTo>
                <a:cubicBezTo>
                  <a:pt x="21403" y="4120"/>
                  <a:pt x="21441" y="4096"/>
                  <a:pt x="21530" y="4068"/>
                </a:cubicBezTo>
              </a:path>
              <a:path w="12304" h="2903">
                <a:moveTo>
                  <a:pt x="20513" y="5259"/>
                </a:moveTo>
                <a:cubicBezTo>
                  <a:pt x="20529" y="5300"/>
                  <a:pt x="20633" y="5517"/>
                  <a:pt x="20513" y="5457"/>
                </a:cubicBezTo>
              </a:path>
              <a:path w="12304" h="2903">
                <a:moveTo>
                  <a:pt x="20737" y="5283"/>
                </a:moveTo>
                <a:lnTo>
                  <a:pt x="20737" y="5283"/>
                </a:lnTo>
              </a:path>
              <a:path w="12304" h="2903">
                <a:moveTo>
                  <a:pt x="20886" y="5854"/>
                </a:moveTo>
                <a:cubicBezTo>
                  <a:pt x="21186" y="5729"/>
                  <a:pt x="21519" y="5533"/>
                  <a:pt x="21828" y="5606"/>
                </a:cubicBezTo>
              </a:path>
              <a:path w="12304" h="2903">
                <a:moveTo>
                  <a:pt x="21878" y="6052"/>
                </a:moveTo>
                <a:cubicBezTo>
                  <a:pt x="21995" y="6006"/>
                  <a:pt x="22030" y="5993"/>
                  <a:pt x="22101" y="5953"/>
                </a:cubicBezTo>
              </a:path>
              <a:path w="12304" h="2903">
                <a:moveTo>
                  <a:pt x="22746" y="4713"/>
                </a:moveTo>
                <a:cubicBezTo>
                  <a:pt x="22823" y="4700"/>
                  <a:pt x="22871" y="4672"/>
                  <a:pt x="22944" y="4638"/>
                </a:cubicBezTo>
              </a:path>
              <a:path w="12304" h="2903">
                <a:moveTo>
                  <a:pt x="24061" y="4316"/>
                </a:moveTo>
                <a:cubicBezTo>
                  <a:pt x="24126" y="4272"/>
                  <a:pt x="24140" y="4261"/>
                  <a:pt x="24185" y="4242"/>
                </a:cubicBezTo>
              </a:path>
              <a:path w="12304" h="2903">
                <a:moveTo>
                  <a:pt x="24185" y="4242"/>
                </a:moveTo>
                <a:lnTo>
                  <a:pt x="24185" y="4242"/>
                </a:lnTo>
              </a:path>
              <a:path w="12304" h="2903">
                <a:moveTo>
                  <a:pt x="22944" y="5110"/>
                </a:moveTo>
                <a:cubicBezTo>
                  <a:pt x="23268" y="5028"/>
                  <a:pt x="24016" y="4977"/>
                  <a:pt x="24259" y="4738"/>
                </a:cubicBezTo>
                <a:cubicBezTo>
                  <a:pt x="24234" y="4738"/>
                  <a:pt x="24210" y="4738"/>
                  <a:pt x="24185" y="473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58040" y="1482840"/>
            <a:ext cx="455760" cy="500040"/>
          </a:xfrm>
          <a:custGeom>
            <a:avLst/>
            <a:gdLst/>
            <a:ahLst/>
            <a:rect l="l" t="t" r="r" b="b"/>
            <a:pathLst>
              <a:path w="1266" h="1390">
                <a:moveTo>
                  <a:pt x="20935" y="4118"/>
                </a:moveTo>
                <a:cubicBezTo>
                  <a:pt x="21002" y="4139"/>
                  <a:pt x="20940" y="4351"/>
                  <a:pt x="20935" y="4390"/>
                </a:cubicBezTo>
                <a:cubicBezTo>
                  <a:pt x="20912" y="4560"/>
                  <a:pt x="20900" y="4605"/>
                  <a:pt x="20985" y="4738"/>
                </a:cubicBezTo>
                <a:cubicBezTo>
                  <a:pt x="21127" y="4670"/>
                  <a:pt x="21310" y="4627"/>
                  <a:pt x="21258" y="4440"/>
                </a:cubicBezTo>
                <a:cubicBezTo>
                  <a:pt x="21135" y="4511"/>
                  <a:pt x="21072" y="4567"/>
                  <a:pt x="21109" y="4713"/>
                </a:cubicBezTo>
              </a:path>
              <a:path w="1266" h="1390">
                <a:moveTo>
                  <a:pt x="21282" y="4192"/>
                </a:moveTo>
                <a:cubicBezTo>
                  <a:pt x="21261" y="4314"/>
                  <a:pt x="21278" y="4340"/>
                  <a:pt x="21382" y="4415"/>
                </a:cubicBezTo>
                <a:cubicBezTo>
                  <a:pt x="21479" y="4485"/>
                  <a:pt x="21467" y="4487"/>
                  <a:pt x="21506" y="4589"/>
                </a:cubicBezTo>
                <a:cubicBezTo>
                  <a:pt x="21428" y="4640"/>
                  <a:pt x="21399" y="4656"/>
                  <a:pt x="21332" y="4614"/>
                </a:cubicBezTo>
              </a:path>
              <a:path w="1266" h="1390">
                <a:moveTo>
                  <a:pt x="20439" y="5383"/>
                </a:moveTo>
                <a:cubicBezTo>
                  <a:pt x="20535" y="5359"/>
                  <a:pt x="20642" y="5316"/>
                  <a:pt x="20737" y="5283"/>
                </a:cubicBezTo>
              </a:path>
              <a:path w="1266" h="1390">
                <a:moveTo>
                  <a:pt x="21059" y="5085"/>
                </a:moveTo>
                <a:cubicBezTo>
                  <a:pt x="21127" y="5071"/>
                  <a:pt x="21190" y="5049"/>
                  <a:pt x="21258" y="5035"/>
                </a:cubicBezTo>
                <a:cubicBezTo>
                  <a:pt x="21244" y="5193"/>
                  <a:pt x="21218" y="5349"/>
                  <a:pt x="21208" y="5507"/>
                </a:cubicBezTo>
              </a:path>
              <a:path w="1266" h="1390">
                <a:moveTo>
                  <a:pt x="21481" y="5110"/>
                </a:moveTo>
                <a:cubicBezTo>
                  <a:pt x="21472" y="5274"/>
                  <a:pt x="21445" y="5272"/>
                  <a:pt x="21580" y="5358"/>
                </a:cubicBezTo>
                <a:cubicBezTo>
                  <a:pt x="21643" y="5288"/>
                  <a:pt x="21825" y="5018"/>
                  <a:pt x="21580" y="5035"/>
                </a:cubicBezTo>
                <a:cubicBezTo>
                  <a:pt x="21530" y="5052"/>
                  <a:pt x="21481" y="5068"/>
                  <a:pt x="21431" y="508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58120" y="1581120"/>
            <a:ext cx="322200" cy="177840"/>
          </a:xfrm>
          <a:custGeom>
            <a:avLst/>
            <a:gdLst/>
            <a:ahLst/>
            <a:rect l="l" t="t" r="r" b="b"/>
            <a:pathLst>
              <a:path w="894" h="498">
                <a:moveTo>
                  <a:pt x="23217" y="4514"/>
                </a:moveTo>
                <a:cubicBezTo>
                  <a:pt x="23222" y="4613"/>
                  <a:pt x="23257" y="4862"/>
                  <a:pt x="23217" y="4862"/>
                </a:cubicBezTo>
              </a:path>
              <a:path w="894" h="498">
                <a:moveTo>
                  <a:pt x="23490" y="4514"/>
                </a:moveTo>
                <a:cubicBezTo>
                  <a:pt x="23533" y="4501"/>
                  <a:pt x="23758" y="4394"/>
                  <a:pt x="23688" y="4539"/>
                </a:cubicBezTo>
                <a:cubicBezTo>
                  <a:pt x="23628" y="4620"/>
                  <a:pt x="23623" y="4643"/>
                  <a:pt x="23564" y="4663"/>
                </a:cubicBezTo>
                <a:cubicBezTo>
                  <a:pt x="23670" y="4642"/>
                  <a:pt x="23698" y="4620"/>
                  <a:pt x="23738" y="4688"/>
                </a:cubicBezTo>
                <a:cubicBezTo>
                  <a:pt x="23694" y="4849"/>
                  <a:pt x="23611" y="4850"/>
                  <a:pt x="23490" y="4762"/>
                </a:cubicBezTo>
              </a:path>
              <a:path w="894" h="498">
                <a:moveTo>
                  <a:pt x="23986" y="4390"/>
                </a:moveTo>
                <a:cubicBezTo>
                  <a:pt x="23986" y="4507"/>
                  <a:pt x="24010" y="4448"/>
                  <a:pt x="24085" y="4539"/>
                </a:cubicBezTo>
                <a:cubicBezTo>
                  <a:pt x="24121" y="4582"/>
                  <a:pt x="24072" y="4678"/>
                  <a:pt x="24011" y="4688"/>
                </a:cubicBezTo>
                <a:cubicBezTo>
                  <a:pt x="23947" y="4656"/>
                  <a:pt x="23927" y="4633"/>
                  <a:pt x="23937" y="456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5080" y="3178080"/>
            <a:ext cx="669960" cy="393840"/>
          </a:xfrm>
          <a:custGeom>
            <a:avLst/>
            <a:gdLst/>
            <a:ahLst/>
            <a:rect l="l" t="t" r="r" b="b"/>
            <a:pathLst>
              <a:path w="1861" h="1093">
                <a:moveTo>
                  <a:pt x="8954" y="9550"/>
                </a:moveTo>
                <a:cubicBezTo>
                  <a:pt x="9018" y="9535"/>
                  <a:pt x="9393" y="9397"/>
                  <a:pt x="9426" y="9426"/>
                </a:cubicBezTo>
                <a:cubicBezTo>
                  <a:pt x="9426" y="9442"/>
                  <a:pt x="9426" y="9459"/>
                  <a:pt x="9426" y="9475"/>
                </a:cubicBezTo>
              </a:path>
              <a:path w="1861" h="1093">
                <a:moveTo>
                  <a:pt x="8905" y="9723"/>
                </a:moveTo>
                <a:cubicBezTo>
                  <a:pt x="9101" y="9663"/>
                  <a:pt x="9298" y="9600"/>
                  <a:pt x="9500" y="9575"/>
                </a:cubicBezTo>
              </a:path>
              <a:path w="1861" h="1093">
                <a:moveTo>
                  <a:pt x="9798" y="9351"/>
                </a:moveTo>
                <a:cubicBezTo>
                  <a:pt x="9761" y="9316"/>
                  <a:pt x="9786" y="9396"/>
                  <a:pt x="9773" y="9475"/>
                </a:cubicBezTo>
                <a:cubicBezTo>
                  <a:pt x="9755" y="9566"/>
                  <a:pt x="9746" y="9573"/>
                  <a:pt x="9748" y="9624"/>
                </a:cubicBezTo>
                <a:cubicBezTo>
                  <a:pt x="9901" y="9600"/>
                  <a:pt x="10046" y="9568"/>
                  <a:pt x="10145" y="9451"/>
                </a:cubicBezTo>
              </a:path>
              <a:path w="1861" h="1093">
                <a:moveTo>
                  <a:pt x="10071" y="9178"/>
                </a:moveTo>
                <a:cubicBezTo>
                  <a:pt x="10071" y="9363"/>
                  <a:pt x="10063" y="9566"/>
                  <a:pt x="10071" y="9748"/>
                </a:cubicBezTo>
                <a:cubicBezTo>
                  <a:pt x="10079" y="9912"/>
                  <a:pt x="10069" y="9951"/>
                  <a:pt x="10145" y="9823"/>
                </a:cubicBezTo>
              </a:path>
              <a:path w="1861" h="1093">
                <a:moveTo>
                  <a:pt x="10517" y="9227"/>
                </a:moveTo>
                <a:cubicBezTo>
                  <a:pt x="10452" y="9305"/>
                  <a:pt x="10351" y="9602"/>
                  <a:pt x="10418" y="9723"/>
                </a:cubicBezTo>
                <a:cubicBezTo>
                  <a:pt x="10451" y="9740"/>
                  <a:pt x="10484" y="9756"/>
                  <a:pt x="10517" y="9773"/>
                </a:cubicBezTo>
                <a:cubicBezTo>
                  <a:pt x="10700" y="9657"/>
                  <a:pt x="10876" y="9483"/>
                  <a:pt x="10691" y="9252"/>
                </a:cubicBezTo>
                <a:cubicBezTo>
                  <a:pt x="10603" y="9208"/>
                  <a:pt x="10581" y="9192"/>
                  <a:pt x="10517" y="9203"/>
                </a:cubicBezTo>
              </a:path>
              <a:path w="1861" h="1093">
                <a:moveTo>
                  <a:pt x="10592" y="8830"/>
                </a:moveTo>
                <a:cubicBezTo>
                  <a:pt x="10548" y="8919"/>
                  <a:pt x="10573" y="8976"/>
                  <a:pt x="10691" y="8954"/>
                </a:cubicBezTo>
                <a:cubicBezTo>
                  <a:pt x="10853" y="8924"/>
                  <a:pt x="10719" y="8857"/>
                  <a:pt x="10592" y="888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75200" y="1919160"/>
            <a:ext cx="2670480" cy="3090960"/>
          </a:xfrm>
          <a:custGeom>
            <a:avLst/>
            <a:gdLst/>
            <a:ahLst/>
            <a:rect l="l" t="t" r="r" b="b"/>
            <a:pathLst>
              <a:path w="7418" h="8583">
                <a:moveTo>
                  <a:pt x="23738" y="5333"/>
                </a:moveTo>
                <a:cubicBezTo>
                  <a:pt x="23715" y="5475"/>
                  <a:pt x="23696" y="5612"/>
                  <a:pt x="23688" y="5755"/>
                </a:cubicBezTo>
              </a:path>
              <a:path w="7418" h="8583">
                <a:moveTo>
                  <a:pt x="18380" y="13767"/>
                </a:moveTo>
                <a:cubicBezTo>
                  <a:pt x="18847" y="13725"/>
                  <a:pt x="19426" y="13483"/>
                  <a:pt x="19893" y="13568"/>
                </a:cubicBezTo>
                <a:cubicBezTo>
                  <a:pt x="19877" y="13593"/>
                  <a:pt x="19860" y="13618"/>
                  <a:pt x="19844" y="13643"/>
                </a:cubicBezTo>
              </a:path>
              <a:path w="7418" h="8583">
                <a:moveTo>
                  <a:pt x="23019" y="13915"/>
                </a:moveTo>
                <a:cubicBezTo>
                  <a:pt x="23152" y="13894"/>
                  <a:pt x="23186" y="13890"/>
                  <a:pt x="23267" y="13866"/>
                </a:cubicBezTo>
              </a:path>
              <a:path w="7418" h="8583">
                <a:moveTo>
                  <a:pt x="16321" y="11931"/>
                </a:moveTo>
                <a:cubicBezTo>
                  <a:pt x="16457" y="11917"/>
                  <a:pt x="16584" y="11865"/>
                  <a:pt x="16718" y="11832"/>
                </a:cubicBezTo>
              </a:path>
              <a:path w="7418" h="8583">
                <a:moveTo>
                  <a:pt x="16371" y="12154"/>
                </a:moveTo>
                <a:cubicBezTo>
                  <a:pt x="16556" y="12085"/>
                  <a:pt x="16608" y="12068"/>
                  <a:pt x="16718" y="1200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07080" y="3348000"/>
            <a:ext cx="1760760" cy="1465200"/>
          </a:xfrm>
          <a:custGeom>
            <a:avLst/>
            <a:gdLst/>
            <a:ahLst/>
            <a:rect l="l" t="t" r="r" b="b"/>
            <a:pathLst>
              <a:path w="4888" h="4069">
                <a:moveTo>
                  <a:pt x="23019" y="9401"/>
                </a:moveTo>
                <a:cubicBezTo>
                  <a:pt x="23088" y="9358"/>
                  <a:pt x="23163" y="9330"/>
                  <a:pt x="23242" y="9302"/>
                </a:cubicBezTo>
              </a:path>
              <a:path w="4888" h="4069">
                <a:moveTo>
                  <a:pt x="19472" y="12080"/>
                </a:moveTo>
                <a:cubicBezTo>
                  <a:pt x="19594" y="12044"/>
                  <a:pt x="19692" y="12016"/>
                  <a:pt x="19819" y="12005"/>
                </a:cubicBezTo>
              </a:path>
              <a:path w="4888" h="4069">
                <a:moveTo>
                  <a:pt x="19819" y="12005"/>
                </a:moveTo>
                <a:lnTo>
                  <a:pt x="19819" y="12005"/>
                </a:lnTo>
              </a:path>
              <a:path w="4888" h="4069">
                <a:moveTo>
                  <a:pt x="18479" y="12948"/>
                </a:moveTo>
                <a:cubicBezTo>
                  <a:pt x="18468" y="13040"/>
                  <a:pt x="18454" y="13132"/>
                  <a:pt x="18430" y="13221"/>
                </a:cubicBezTo>
              </a:path>
              <a:path w="4888" h="4069">
                <a:moveTo>
                  <a:pt x="18355" y="13122"/>
                </a:moveTo>
                <a:cubicBezTo>
                  <a:pt x="18497" y="13093"/>
                  <a:pt x="18556" y="13080"/>
                  <a:pt x="18653" y="13047"/>
                </a:cubicBezTo>
              </a:path>
              <a:path w="4888" h="4069">
                <a:moveTo>
                  <a:pt x="18653" y="13047"/>
                </a:moveTo>
                <a:lnTo>
                  <a:pt x="18653" y="13047"/>
                </a:lnTo>
              </a:path>
              <a:path w="4888" h="4069">
                <a:moveTo>
                  <a:pt x="19025" y="12849"/>
                </a:moveTo>
                <a:cubicBezTo>
                  <a:pt x="19000" y="12948"/>
                  <a:pt x="18992" y="12981"/>
                  <a:pt x="18976" y="13047"/>
                </a:cubicBezTo>
                <a:cubicBezTo>
                  <a:pt x="19096" y="13099"/>
                  <a:pt x="19099" y="13057"/>
                  <a:pt x="19224" y="12998"/>
                </a:cubicBezTo>
              </a:path>
              <a:path w="4888" h="4069">
                <a:moveTo>
                  <a:pt x="19248" y="12923"/>
                </a:moveTo>
                <a:cubicBezTo>
                  <a:pt x="19222" y="13071"/>
                  <a:pt x="19193" y="13221"/>
                  <a:pt x="19174" y="1337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13720" y="4330800"/>
            <a:ext cx="295200" cy="509400"/>
          </a:xfrm>
          <a:custGeom>
            <a:avLst/>
            <a:gdLst/>
            <a:ahLst/>
            <a:rect l="l" t="t" r="r" b="b"/>
            <a:pathLst>
              <a:path w="820" h="1415">
                <a:moveTo>
                  <a:pt x="18976" y="12030"/>
                </a:moveTo>
                <a:cubicBezTo>
                  <a:pt x="18960" y="12176"/>
                  <a:pt x="18909" y="12328"/>
                  <a:pt x="18926" y="12477"/>
                </a:cubicBezTo>
                <a:cubicBezTo>
                  <a:pt x="18954" y="12723"/>
                  <a:pt x="19208" y="12413"/>
                  <a:pt x="19248" y="12353"/>
                </a:cubicBezTo>
                <a:cubicBezTo>
                  <a:pt x="19240" y="12345"/>
                  <a:pt x="19232" y="12336"/>
                  <a:pt x="19224" y="12328"/>
                </a:cubicBezTo>
                <a:cubicBezTo>
                  <a:pt x="19126" y="12426"/>
                  <a:pt x="19065" y="12512"/>
                  <a:pt x="19100" y="12650"/>
                </a:cubicBezTo>
              </a:path>
              <a:path w="820" h="1415">
                <a:moveTo>
                  <a:pt x="19372" y="12179"/>
                </a:moveTo>
                <a:cubicBezTo>
                  <a:pt x="19351" y="12223"/>
                  <a:pt x="19348" y="12235"/>
                  <a:pt x="19323" y="12254"/>
                </a:cubicBezTo>
                <a:cubicBezTo>
                  <a:pt x="19430" y="12301"/>
                  <a:pt x="19621" y="12263"/>
                  <a:pt x="19621" y="12402"/>
                </a:cubicBezTo>
                <a:cubicBezTo>
                  <a:pt x="19621" y="12585"/>
                  <a:pt x="19458" y="12458"/>
                  <a:pt x="19397" y="12427"/>
                </a:cubicBezTo>
              </a:path>
              <a:path w="820" h="1415">
                <a:moveTo>
                  <a:pt x="19472" y="12998"/>
                </a:moveTo>
                <a:cubicBezTo>
                  <a:pt x="19374" y="13250"/>
                  <a:pt x="19321" y="13245"/>
                  <a:pt x="19472" y="13444"/>
                </a:cubicBezTo>
                <a:cubicBezTo>
                  <a:pt x="19558" y="13388"/>
                  <a:pt x="19977" y="13054"/>
                  <a:pt x="19596" y="13047"/>
                </a:cubicBezTo>
                <a:cubicBezTo>
                  <a:pt x="19538" y="13064"/>
                  <a:pt x="19480" y="13080"/>
                  <a:pt x="19422" y="1309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77120" y="3286080"/>
            <a:ext cx="73080" cy="54000"/>
          </a:xfrm>
          <a:custGeom>
            <a:avLst/>
            <a:gdLst/>
            <a:ahLst/>
            <a:rect l="l" t="t" r="r" b="b"/>
            <a:pathLst>
              <a:path w="199" h="150">
                <a:moveTo>
                  <a:pt x="22994" y="9277"/>
                </a:moveTo>
                <a:cubicBezTo>
                  <a:pt x="23031" y="9203"/>
                  <a:pt x="23099" y="9159"/>
                  <a:pt x="23192" y="912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97800" y="5045040"/>
            <a:ext cx="61920" cy="169920"/>
          </a:xfrm>
          <a:custGeom>
            <a:avLst/>
            <a:gdLst/>
            <a:ahLst/>
            <a:rect l="l" t="t" r="r" b="b"/>
            <a:pathLst>
              <a:path w="174" h="472">
                <a:moveTo>
                  <a:pt x="18777" y="14015"/>
                </a:moveTo>
                <a:cubicBezTo>
                  <a:pt x="18736" y="14170"/>
                  <a:pt x="18694" y="14376"/>
                  <a:pt x="18604" y="1448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67360" y="5045040"/>
            <a:ext cx="9864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19199" y="14015"/>
                </a:moveTo>
                <a:cubicBezTo>
                  <a:pt x="19119" y="14166"/>
                  <a:pt x="19090" y="14222"/>
                  <a:pt x="19100" y="14387"/>
                </a:cubicBezTo>
                <a:cubicBezTo>
                  <a:pt x="19246" y="14376"/>
                  <a:pt x="19443" y="14255"/>
                  <a:pt x="19298" y="14064"/>
                </a:cubicBezTo>
                <a:cubicBezTo>
                  <a:pt x="19233" y="14042"/>
                  <a:pt x="19218" y="14034"/>
                  <a:pt x="19174" y="1403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1920" y="5062680"/>
            <a:ext cx="88920" cy="125280"/>
          </a:xfrm>
          <a:custGeom>
            <a:avLst/>
            <a:gdLst/>
            <a:ahLst/>
            <a:rect l="l" t="t" r="r" b="b"/>
            <a:pathLst>
              <a:path w="249" h="349">
                <a:moveTo>
                  <a:pt x="19670" y="14064"/>
                </a:moveTo>
                <a:cubicBezTo>
                  <a:pt x="19724" y="14214"/>
                  <a:pt x="19855" y="14211"/>
                  <a:pt x="19918" y="14362"/>
                </a:cubicBezTo>
                <a:cubicBezTo>
                  <a:pt x="19827" y="14424"/>
                  <a:pt x="19782" y="14437"/>
                  <a:pt x="19695" y="1438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2880" y="2224080"/>
            <a:ext cx="358920" cy="196920"/>
          </a:xfrm>
          <a:custGeom>
            <a:avLst/>
            <a:gdLst/>
            <a:ahLst/>
            <a:rect l="l" t="t" r="r" b="b"/>
            <a:pathLst>
              <a:path w="993" h="547">
                <a:moveTo>
                  <a:pt x="21010" y="6325"/>
                </a:moveTo>
                <a:cubicBezTo>
                  <a:pt x="21012" y="6373"/>
                  <a:pt x="21049" y="6795"/>
                  <a:pt x="21010" y="6672"/>
                </a:cubicBezTo>
              </a:path>
              <a:path w="993" h="547">
                <a:moveTo>
                  <a:pt x="21208" y="6325"/>
                </a:moveTo>
                <a:cubicBezTo>
                  <a:pt x="21234" y="6309"/>
                  <a:pt x="21510" y="6189"/>
                  <a:pt x="21481" y="6276"/>
                </a:cubicBezTo>
                <a:cubicBezTo>
                  <a:pt x="21431" y="6350"/>
                  <a:pt x="21414" y="6375"/>
                  <a:pt x="21357" y="6400"/>
                </a:cubicBezTo>
                <a:cubicBezTo>
                  <a:pt x="21438" y="6400"/>
                  <a:pt x="21684" y="6411"/>
                  <a:pt x="21555" y="6573"/>
                </a:cubicBezTo>
                <a:cubicBezTo>
                  <a:pt x="21456" y="6697"/>
                  <a:pt x="21353" y="6607"/>
                  <a:pt x="21282" y="6548"/>
                </a:cubicBezTo>
              </a:path>
              <a:path w="993" h="547">
                <a:moveTo>
                  <a:pt x="21704" y="6176"/>
                </a:moveTo>
                <a:cubicBezTo>
                  <a:pt x="21747" y="6276"/>
                  <a:pt x="21729" y="6266"/>
                  <a:pt x="21853" y="6300"/>
                </a:cubicBezTo>
                <a:cubicBezTo>
                  <a:pt x="21937" y="6321"/>
                  <a:pt x="21956" y="6323"/>
                  <a:pt x="22002" y="6350"/>
                </a:cubicBezTo>
                <a:cubicBezTo>
                  <a:pt x="21902" y="6550"/>
                  <a:pt x="21835" y="6524"/>
                  <a:pt x="21679" y="64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23200" y="1374840"/>
            <a:ext cx="17640" cy="169920"/>
          </a:xfrm>
          <a:custGeom>
            <a:avLst/>
            <a:gdLst/>
            <a:ahLst/>
            <a:rect l="l" t="t" r="r" b="b"/>
            <a:pathLst>
              <a:path w="51" h="472">
                <a:moveTo>
                  <a:pt x="23143" y="3820"/>
                </a:moveTo>
                <a:cubicBezTo>
                  <a:pt x="23167" y="3985"/>
                  <a:pt x="23112" y="4129"/>
                  <a:pt x="23118" y="4291"/>
                </a:cubicBezTo>
                <a:cubicBezTo>
                  <a:pt x="23126" y="4291"/>
                  <a:pt x="23135" y="4291"/>
                  <a:pt x="23143" y="429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66120" y="1303200"/>
            <a:ext cx="241200" cy="206640"/>
          </a:xfrm>
          <a:custGeom>
            <a:avLst/>
            <a:gdLst/>
            <a:ahLst/>
            <a:rect l="l" t="t" r="r" b="b"/>
            <a:pathLst>
              <a:path w="671" h="572">
                <a:moveTo>
                  <a:pt x="23589" y="3721"/>
                </a:moveTo>
                <a:cubicBezTo>
                  <a:pt x="23508" y="3861"/>
                  <a:pt x="23469" y="3912"/>
                  <a:pt x="23614" y="4018"/>
                </a:cubicBezTo>
                <a:cubicBezTo>
                  <a:pt x="23712" y="4077"/>
                  <a:pt x="23740" y="4076"/>
                  <a:pt x="23763" y="4142"/>
                </a:cubicBezTo>
                <a:cubicBezTo>
                  <a:pt x="23612" y="4189"/>
                  <a:pt x="23491" y="4206"/>
                  <a:pt x="23614" y="3994"/>
                </a:cubicBezTo>
                <a:cubicBezTo>
                  <a:pt x="23678" y="3884"/>
                  <a:pt x="23737" y="3860"/>
                  <a:pt x="23763" y="3746"/>
                </a:cubicBezTo>
              </a:path>
              <a:path w="671" h="572">
                <a:moveTo>
                  <a:pt x="24036" y="3621"/>
                </a:moveTo>
                <a:cubicBezTo>
                  <a:pt x="23956" y="3781"/>
                  <a:pt x="23995" y="3857"/>
                  <a:pt x="24085" y="3994"/>
                </a:cubicBezTo>
                <a:cubicBezTo>
                  <a:pt x="24130" y="3917"/>
                  <a:pt x="24297" y="3568"/>
                  <a:pt x="24036" y="3646"/>
                </a:cubicBezTo>
                <a:cubicBezTo>
                  <a:pt x="24003" y="3671"/>
                  <a:pt x="23970" y="3696"/>
                  <a:pt x="23937" y="372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66120" y="1938240"/>
            <a:ext cx="71280" cy="54000"/>
          </a:xfrm>
          <a:custGeom>
            <a:avLst/>
            <a:gdLst/>
            <a:ahLst/>
            <a:rect l="l" t="t" r="r" b="b"/>
            <a:pathLst>
              <a:path w="199" h="149">
                <a:moveTo>
                  <a:pt x="23515" y="5407"/>
                </a:moveTo>
                <a:cubicBezTo>
                  <a:pt x="23515" y="5355"/>
                  <a:pt x="23502" y="5486"/>
                  <a:pt x="23540" y="5507"/>
                </a:cubicBezTo>
                <a:cubicBezTo>
                  <a:pt x="23634" y="5537"/>
                  <a:pt x="23673" y="5531"/>
                  <a:pt x="23713" y="543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16960" y="1857240"/>
            <a:ext cx="81000" cy="187560"/>
          </a:xfrm>
          <a:custGeom>
            <a:avLst/>
            <a:gdLst/>
            <a:ahLst/>
            <a:rect l="l" t="t" r="r" b="b"/>
            <a:pathLst>
              <a:path w="224" h="522">
                <a:moveTo>
                  <a:pt x="23937" y="5358"/>
                </a:moveTo>
                <a:cubicBezTo>
                  <a:pt x="23958" y="5469"/>
                  <a:pt x="24037" y="5475"/>
                  <a:pt x="24110" y="5556"/>
                </a:cubicBezTo>
                <a:cubicBezTo>
                  <a:pt x="24223" y="5681"/>
                  <a:pt x="24049" y="5664"/>
                  <a:pt x="23986" y="5655"/>
                </a:cubicBezTo>
              </a:path>
              <a:path w="224" h="522">
                <a:moveTo>
                  <a:pt x="24036" y="5259"/>
                </a:moveTo>
                <a:cubicBezTo>
                  <a:pt x="24088" y="5225"/>
                  <a:pt x="24138" y="5204"/>
                  <a:pt x="24160" y="515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439120" y="3000240"/>
            <a:ext cx="293760" cy="349560"/>
          </a:xfrm>
          <a:custGeom>
            <a:avLst/>
            <a:gdLst/>
            <a:ahLst/>
            <a:rect l="l" t="t" r="r" b="b"/>
            <a:pathLst>
              <a:path w="820" h="969">
                <a:moveTo>
                  <a:pt x="23465" y="8979"/>
                </a:moveTo>
                <a:cubicBezTo>
                  <a:pt x="23465" y="8971"/>
                  <a:pt x="23465" y="8962"/>
                  <a:pt x="23465" y="8954"/>
                </a:cubicBezTo>
                <a:cubicBezTo>
                  <a:pt x="23459" y="8968"/>
                  <a:pt x="23419" y="9124"/>
                  <a:pt x="23440" y="9128"/>
                </a:cubicBezTo>
                <a:cubicBezTo>
                  <a:pt x="23559" y="9152"/>
                  <a:pt x="23658" y="9071"/>
                  <a:pt x="23763" y="9029"/>
                </a:cubicBezTo>
              </a:path>
              <a:path w="820" h="969">
                <a:moveTo>
                  <a:pt x="23639" y="8806"/>
                </a:moveTo>
                <a:cubicBezTo>
                  <a:pt x="23646" y="8978"/>
                  <a:pt x="23658" y="9131"/>
                  <a:pt x="23639" y="9302"/>
                </a:cubicBezTo>
              </a:path>
              <a:path w="820" h="969">
                <a:moveTo>
                  <a:pt x="23937" y="8830"/>
                </a:moveTo>
                <a:cubicBezTo>
                  <a:pt x="23889" y="8872"/>
                  <a:pt x="23874" y="8900"/>
                  <a:pt x="23837" y="8954"/>
                </a:cubicBezTo>
                <a:cubicBezTo>
                  <a:pt x="23987" y="9000"/>
                  <a:pt x="24025" y="9006"/>
                  <a:pt x="24085" y="9153"/>
                </a:cubicBezTo>
                <a:cubicBezTo>
                  <a:pt x="23956" y="9205"/>
                  <a:pt x="23984" y="9206"/>
                  <a:pt x="23887" y="9128"/>
                </a:cubicBezTo>
              </a:path>
              <a:path w="820" h="969">
                <a:moveTo>
                  <a:pt x="23961" y="8806"/>
                </a:moveTo>
                <a:cubicBezTo>
                  <a:pt x="24019" y="8767"/>
                  <a:pt x="24079" y="8733"/>
                  <a:pt x="24110" y="8682"/>
                </a:cubicBezTo>
              </a:path>
              <a:path w="820" h="969">
                <a:moveTo>
                  <a:pt x="24160" y="8334"/>
                </a:moveTo>
                <a:cubicBezTo>
                  <a:pt x="24160" y="8404"/>
                  <a:pt x="24154" y="8439"/>
                  <a:pt x="24135" y="8508"/>
                </a:cubicBezTo>
                <a:cubicBezTo>
                  <a:pt x="24162" y="8503"/>
                  <a:pt x="24371" y="8407"/>
                  <a:pt x="24234" y="8359"/>
                </a:cubicBezTo>
                <a:cubicBezTo>
                  <a:pt x="24201" y="8359"/>
                  <a:pt x="24168" y="8359"/>
                  <a:pt x="24135" y="835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55000" y="4241880"/>
            <a:ext cx="312840" cy="206280"/>
          </a:xfrm>
          <a:custGeom>
            <a:avLst/>
            <a:gdLst/>
            <a:ahLst/>
            <a:rect l="l" t="t" r="r" b="b"/>
            <a:pathLst>
              <a:path w="869" h="572">
                <a:moveTo>
                  <a:pt x="22547" y="11782"/>
                </a:moveTo>
                <a:cubicBezTo>
                  <a:pt x="22308" y="12092"/>
                  <a:pt x="22418" y="11947"/>
                  <a:pt x="22572" y="12204"/>
                </a:cubicBezTo>
                <a:cubicBezTo>
                  <a:pt x="22572" y="12295"/>
                  <a:pt x="22559" y="12330"/>
                  <a:pt x="22473" y="12353"/>
                </a:cubicBezTo>
                <a:cubicBezTo>
                  <a:pt x="22440" y="12353"/>
                  <a:pt x="22407" y="12353"/>
                  <a:pt x="22374" y="12353"/>
                </a:cubicBezTo>
                <a:cubicBezTo>
                  <a:pt x="22447" y="12143"/>
                  <a:pt x="22543" y="11999"/>
                  <a:pt x="22696" y="11832"/>
                </a:cubicBezTo>
              </a:path>
              <a:path w="869" h="572">
                <a:moveTo>
                  <a:pt x="23019" y="11857"/>
                </a:moveTo>
                <a:cubicBezTo>
                  <a:pt x="22951" y="12059"/>
                  <a:pt x="22902" y="12073"/>
                  <a:pt x="23019" y="12229"/>
                </a:cubicBezTo>
                <a:cubicBezTo>
                  <a:pt x="23309" y="11999"/>
                  <a:pt x="23294" y="11919"/>
                  <a:pt x="22920" y="1193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28000" y="5018040"/>
            <a:ext cx="258840" cy="169920"/>
          </a:xfrm>
          <a:custGeom>
            <a:avLst/>
            <a:gdLst/>
            <a:ahLst/>
            <a:rect l="l" t="t" r="r" b="b"/>
            <a:pathLst>
              <a:path w="721" h="473">
                <a:moveTo>
                  <a:pt x="22299" y="13940"/>
                </a:moveTo>
                <a:cubicBezTo>
                  <a:pt x="22474" y="13940"/>
                  <a:pt x="22516" y="13935"/>
                  <a:pt x="22622" y="13965"/>
                </a:cubicBezTo>
                <a:cubicBezTo>
                  <a:pt x="22578" y="14130"/>
                  <a:pt x="22472" y="14264"/>
                  <a:pt x="22374" y="14412"/>
                </a:cubicBezTo>
              </a:path>
              <a:path w="721" h="473">
                <a:moveTo>
                  <a:pt x="22845" y="14015"/>
                </a:moveTo>
                <a:cubicBezTo>
                  <a:pt x="22784" y="14174"/>
                  <a:pt x="22915" y="14164"/>
                  <a:pt x="23019" y="14263"/>
                </a:cubicBezTo>
                <a:cubicBezTo>
                  <a:pt x="23064" y="14305"/>
                  <a:pt x="22987" y="14348"/>
                  <a:pt x="22969" y="1436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54840" y="4098960"/>
            <a:ext cx="347400" cy="223920"/>
          </a:xfrm>
          <a:custGeom>
            <a:avLst/>
            <a:gdLst/>
            <a:ahLst/>
            <a:rect l="l" t="t" r="r" b="b"/>
            <a:pathLst>
              <a:path w="968" h="621">
                <a:moveTo>
                  <a:pt x="16818" y="11658"/>
                </a:moveTo>
                <a:cubicBezTo>
                  <a:pt x="16862" y="11569"/>
                  <a:pt x="17021" y="11529"/>
                  <a:pt x="17115" y="11485"/>
                </a:cubicBezTo>
                <a:cubicBezTo>
                  <a:pt x="17132" y="11477"/>
                  <a:pt x="17148" y="11468"/>
                  <a:pt x="17165" y="11460"/>
                </a:cubicBezTo>
                <a:cubicBezTo>
                  <a:pt x="17179" y="11657"/>
                  <a:pt x="17179" y="11810"/>
                  <a:pt x="17140" y="12005"/>
                </a:cubicBezTo>
              </a:path>
              <a:path w="968" h="621">
                <a:moveTo>
                  <a:pt x="17413" y="11385"/>
                </a:moveTo>
                <a:cubicBezTo>
                  <a:pt x="17390" y="11476"/>
                  <a:pt x="17382" y="11499"/>
                  <a:pt x="17388" y="11559"/>
                </a:cubicBezTo>
                <a:cubicBezTo>
                  <a:pt x="17479" y="11628"/>
                  <a:pt x="17724" y="11546"/>
                  <a:pt x="17785" y="11683"/>
                </a:cubicBezTo>
                <a:cubicBezTo>
                  <a:pt x="17907" y="11955"/>
                  <a:pt x="17475" y="11841"/>
                  <a:pt x="17413" y="1180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 of a roof is in the shape of an isosceles triangle. The measure of an angle at the peak, between the two equal sides, is 120°. The other two angle measures are equal. What is their mea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2120" y="4286160"/>
            <a:ext cx="428760" cy="268200"/>
          </a:xfrm>
          <a:custGeom>
            <a:avLst/>
            <a:gdLst/>
            <a:ahLst/>
            <a:rect l="l" t="t" r="r" b="b"/>
            <a:pathLst>
              <a:path w="1192" h="745">
                <a:moveTo>
                  <a:pt x="10368" y="11906"/>
                </a:moveTo>
                <a:cubicBezTo>
                  <a:pt x="10368" y="12129"/>
                  <a:pt x="10213" y="12687"/>
                  <a:pt x="10368" y="12526"/>
                </a:cubicBezTo>
                <a:cubicBezTo>
                  <a:pt x="10401" y="12493"/>
                  <a:pt x="10435" y="12460"/>
                  <a:pt x="10468" y="12427"/>
                </a:cubicBezTo>
              </a:path>
              <a:path w="1192" h="745">
                <a:moveTo>
                  <a:pt x="10914" y="11981"/>
                </a:moveTo>
                <a:cubicBezTo>
                  <a:pt x="10788" y="12031"/>
                  <a:pt x="10745" y="12049"/>
                  <a:pt x="10691" y="12129"/>
                </a:cubicBezTo>
                <a:cubicBezTo>
                  <a:pt x="10741" y="12278"/>
                  <a:pt x="11059" y="12354"/>
                  <a:pt x="11063" y="12502"/>
                </a:cubicBezTo>
                <a:cubicBezTo>
                  <a:pt x="10982" y="12609"/>
                  <a:pt x="10947" y="12646"/>
                  <a:pt x="10840" y="12650"/>
                </a:cubicBezTo>
                <a:cubicBezTo>
                  <a:pt x="10729" y="12367"/>
                  <a:pt x="10908" y="12353"/>
                  <a:pt x="11013" y="12105"/>
                </a:cubicBezTo>
                <a:cubicBezTo>
                  <a:pt x="11029" y="12068"/>
                  <a:pt x="10950" y="12088"/>
                  <a:pt x="10939" y="12105"/>
                </a:cubicBezTo>
              </a:path>
              <a:path w="1192" h="745">
                <a:moveTo>
                  <a:pt x="11410" y="12005"/>
                </a:moveTo>
                <a:cubicBezTo>
                  <a:pt x="11321" y="12184"/>
                  <a:pt x="11262" y="12331"/>
                  <a:pt x="11237" y="12526"/>
                </a:cubicBezTo>
                <a:cubicBezTo>
                  <a:pt x="11393" y="12526"/>
                  <a:pt x="11611" y="12421"/>
                  <a:pt x="11559" y="12204"/>
                </a:cubicBezTo>
                <a:cubicBezTo>
                  <a:pt x="11489" y="12110"/>
                  <a:pt x="11471" y="12079"/>
                  <a:pt x="11385" y="1208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21000" y="4749840"/>
            <a:ext cx="2502000" cy="366840"/>
          </a:xfrm>
          <a:custGeom>
            <a:avLst/>
            <a:gdLst/>
            <a:ahLst/>
            <a:rect l="l" t="t" r="r" b="b"/>
            <a:pathLst>
              <a:path w="6947" h="1018">
                <a:moveTo>
                  <a:pt x="9227" y="13271"/>
                </a:moveTo>
                <a:cubicBezTo>
                  <a:pt x="9386" y="13244"/>
                  <a:pt x="9445" y="13233"/>
                  <a:pt x="9550" y="13196"/>
                </a:cubicBezTo>
              </a:path>
              <a:path w="6947" h="1018">
                <a:moveTo>
                  <a:pt x="12551" y="13692"/>
                </a:moveTo>
                <a:cubicBezTo>
                  <a:pt x="12551" y="13700"/>
                  <a:pt x="12551" y="13709"/>
                  <a:pt x="12551" y="13717"/>
                </a:cubicBezTo>
              </a:path>
              <a:path w="6947" h="1018">
                <a:moveTo>
                  <a:pt x="12551" y="14213"/>
                </a:moveTo>
                <a:cubicBezTo>
                  <a:pt x="12568" y="14205"/>
                  <a:pt x="12584" y="14196"/>
                  <a:pt x="12601" y="14188"/>
                </a:cubicBezTo>
              </a:path>
              <a:path w="6947" h="1018">
                <a:moveTo>
                  <a:pt x="12601" y="14188"/>
                </a:moveTo>
                <a:lnTo>
                  <a:pt x="12601" y="14188"/>
                </a:lnTo>
              </a:path>
              <a:path w="6947" h="1018">
                <a:moveTo>
                  <a:pt x="16024" y="13519"/>
                </a:moveTo>
                <a:cubicBezTo>
                  <a:pt x="16085" y="13571"/>
                  <a:pt x="16087" y="13580"/>
                  <a:pt x="16173" y="13543"/>
                </a:cubicBezTo>
                <a:cubicBezTo>
                  <a:pt x="16119" y="13457"/>
                  <a:pt x="16122" y="13462"/>
                  <a:pt x="16024" y="1344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1360" y="4653000"/>
            <a:ext cx="2322720" cy="554040"/>
          </a:xfrm>
          <a:custGeom>
            <a:avLst/>
            <a:gdLst/>
            <a:ahLst/>
            <a:rect l="l" t="t" r="r" b="b"/>
            <a:pathLst>
              <a:path w="6451" h="1539">
                <a:moveTo>
                  <a:pt x="9996" y="13047"/>
                </a:moveTo>
                <a:cubicBezTo>
                  <a:pt x="10054" y="13184"/>
                  <a:pt x="10082" y="13343"/>
                  <a:pt x="10145" y="13469"/>
                </a:cubicBezTo>
              </a:path>
              <a:path w="6451" h="1539">
                <a:moveTo>
                  <a:pt x="10567" y="13022"/>
                </a:moveTo>
                <a:cubicBezTo>
                  <a:pt x="10678" y="13041"/>
                  <a:pt x="11036" y="13144"/>
                  <a:pt x="10864" y="13345"/>
                </a:cubicBezTo>
                <a:cubicBezTo>
                  <a:pt x="10762" y="13465"/>
                  <a:pt x="10627" y="13426"/>
                  <a:pt x="10542" y="13370"/>
                </a:cubicBezTo>
                <a:cubicBezTo>
                  <a:pt x="10747" y="13227"/>
                  <a:pt x="10777" y="13378"/>
                  <a:pt x="10988" y="13395"/>
                </a:cubicBezTo>
                <a:cubicBezTo>
                  <a:pt x="11021" y="13387"/>
                  <a:pt x="11055" y="13378"/>
                  <a:pt x="11088" y="13370"/>
                </a:cubicBezTo>
              </a:path>
              <a:path w="6451" h="1539">
                <a:moveTo>
                  <a:pt x="11435" y="12923"/>
                </a:moveTo>
                <a:cubicBezTo>
                  <a:pt x="11251" y="13059"/>
                  <a:pt x="11211" y="13144"/>
                  <a:pt x="11311" y="13345"/>
                </a:cubicBezTo>
                <a:cubicBezTo>
                  <a:pt x="11534" y="13271"/>
                  <a:pt x="11550" y="13255"/>
                  <a:pt x="11658" y="13047"/>
                </a:cubicBezTo>
                <a:cubicBezTo>
                  <a:pt x="11478" y="12976"/>
                  <a:pt x="11454" y="13008"/>
                  <a:pt x="11261" y="13072"/>
                </a:cubicBezTo>
              </a:path>
              <a:path w="6451" h="1539">
                <a:moveTo>
                  <a:pt x="9475" y="13717"/>
                </a:moveTo>
                <a:cubicBezTo>
                  <a:pt x="9979" y="13701"/>
                  <a:pt x="10483" y="13655"/>
                  <a:pt x="10988" y="13643"/>
                </a:cubicBezTo>
                <a:cubicBezTo>
                  <a:pt x="11198" y="13638"/>
                  <a:pt x="11419" y="13668"/>
                  <a:pt x="11584" y="13692"/>
                </a:cubicBezTo>
              </a:path>
              <a:path w="6451" h="1539">
                <a:moveTo>
                  <a:pt x="10765" y="13841"/>
                </a:moveTo>
                <a:cubicBezTo>
                  <a:pt x="10736" y="13960"/>
                  <a:pt x="10592" y="14203"/>
                  <a:pt x="10666" y="14337"/>
                </a:cubicBezTo>
                <a:cubicBezTo>
                  <a:pt x="10775" y="14533"/>
                  <a:pt x="10989" y="14262"/>
                  <a:pt x="11038" y="14188"/>
                </a:cubicBezTo>
                <a:cubicBezTo>
                  <a:pt x="10931" y="14203"/>
                  <a:pt x="10646" y="14259"/>
                  <a:pt x="10765" y="14436"/>
                </a:cubicBezTo>
                <a:cubicBezTo>
                  <a:pt x="10878" y="14474"/>
                  <a:pt x="10938" y="14462"/>
                  <a:pt x="11013" y="14362"/>
                </a:cubicBezTo>
              </a:path>
              <a:path w="6451" h="1539">
                <a:moveTo>
                  <a:pt x="11435" y="13990"/>
                </a:moveTo>
                <a:cubicBezTo>
                  <a:pt x="11320" y="14130"/>
                  <a:pt x="11301" y="14138"/>
                  <a:pt x="11311" y="14312"/>
                </a:cubicBezTo>
                <a:cubicBezTo>
                  <a:pt x="11452" y="14336"/>
                  <a:pt x="11765" y="14294"/>
                  <a:pt x="11708" y="14039"/>
                </a:cubicBezTo>
                <a:cubicBezTo>
                  <a:pt x="11683" y="13925"/>
                  <a:pt x="11447" y="14025"/>
                  <a:pt x="11385" y="14039"/>
                </a:cubicBezTo>
              </a:path>
              <a:path w="6451" h="1539">
                <a:moveTo>
                  <a:pt x="12254" y="14039"/>
                </a:moveTo>
                <a:cubicBezTo>
                  <a:pt x="12423" y="14006"/>
                  <a:pt x="12578" y="13990"/>
                  <a:pt x="12750" y="13990"/>
                </a:cubicBezTo>
                <a:cubicBezTo>
                  <a:pt x="12742" y="13990"/>
                  <a:pt x="12733" y="13990"/>
                  <a:pt x="12725" y="13990"/>
                </a:cubicBezTo>
              </a:path>
              <a:path w="6451" h="1539">
                <a:moveTo>
                  <a:pt x="13146" y="13816"/>
                </a:moveTo>
                <a:cubicBezTo>
                  <a:pt x="13234" y="13829"/>
                  <a:pt x="13346" y="13838"/>
                  <a:pt x="13419" y="13866"/>
                </a:cubicBezTo>
                <a:cubicBezTo>
                  <a:pt x="13355" y="14051"/>
                  <a:pt x="13304" y="14095"/>
                  <a:pt x="13146" y="14213"/>
                </a:cubicBezTo>
                <a:cubicBezTo>
                  <a:pt x="13258" y="14233"/>
                  <a:pt x="13350" y="14197"/>
                  <a:pt x="13469" y="14188"/>
                </a:cubicBezTo>
                <a:cubicBezTo>
                  <a:pt x="13477" y="14188"/>
                  <a:pt x="13486" y="14188"/>
                  <a:pt x="13494" y="14188"/>
                </a:cubicBezTo>
              </a:path>
              <a:path w="6451" h="1539">
                <a:moveTo>
                  <a:pt x="13965" y="13915"/>
                </a:moveTo>
                <a:cubicBezTo>
                  <a:pt x="14082" y="13901"/>
                  <a:pt x="14178" y="13871"/>
                  <a:pt x="14288" y="13891"/>
                </a:cubicBezTo>
              </a:path>
              <a:path w="6451" h="1539">
                <a:moveTo>
                  <a:pt x="13915" y="14039"/>
                </a:moveTo>
                <a:cubicBezTo>
                  <a:pt x="14084" y="14032"/>
                  <a:pt x="14244" y="14014"/>
                  <a:pt x="14412" y="13990"/>
                </a:cubicBezTo>
              </a:path>
              <a:path w="6451" h="1539">
                <a:moveTo>
                  <a:pt x="14858" y="13742"/>
                </a:moveTo>
                <a:cubicBezTo>
                  <a:pt x="14871" y="13703"/>
                  <a:pt x="15036" y="13695"/>
                  <a:pt x="15081" y="13692"/>
                </a:cubicBezTo>
                <a:cubicBezTo>
                  <a:pt x="15388" y="13674"/>
                  <a:pt x="15369" y="13860"/>
                  <a:pt x="15106" y="13940"/>
                </a:cubicBezTo>
                <a:cubicBezTo>
                  <a:pt x="15065" y="13940"/>
                  <a:pt x="15023" y="13940"/>
                  <a:pt x="14982" y="13940"/>
                </a:cubicBezTo>
                <a:cubicBezTo>
                  <a:pt x="14997" y="13971"/>
                  <a:pt x="15256" y="13884"/>
                  <a:pt x="15354" y="13990"/>
                </a:cubicBezTo>
                <a:cubicBezTo>
                  <a:pt x="15489" y="14136"/>
                  <a:pt x="14976" y="14251"/>
                  <a:pt x="14908" y="14188"/>
                </a:cubicBezTo>
                <a:cubicBezTo>
                  <a:pt x="14924" y="14163"/>
                  <a:pt x="14941" y="14139"/>
                  <a:pt x="14957" y="14114"/>
                </a:cubicBezTo>
              </a:path>
              <a:path w="6451" h="1539">
                <a:moveTo>
                  <a:pt x="15652" y="13742"/>
                </a:moveTo>
                <a:cubicBezTo>
                  <a:pt x="15510" y="13925"/>
                  <a:pt x="15457" y="14012"/>
                  <a:pt x="15577" y="14213"/>
                </a:cubicBezTo>
                <a:cubicBezTo>
                  <a:pt x="15691" y="14184"/>
                  <a:pt x="16136" y="14037"/>
                  <a:pt x="15900" y="13816"/>
                </a:cubicBezTo>
                <a:cubicBezTo>
                  <a:pt x="15744" y="13772"/>
                  <a:pt x="15705" y="13756"/>
                  <a:pt x="15602" y="1376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:  PW 122 problems 13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:  PW 1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3:02:28Z</dcterms:created>
  <dc:creator>demcgra</dc:creator>
  <dc:description/>
  <dc:language>en-US</dc:language>
  <cp:lastModifiedBy>demcgra</cp:lastModifiedBy>
  <dcterms:modified xsi:type="dcterms:W3CDTF">2012-01-31T20:07:45Z</dcterms:modified>
  <cp:revision>4</cp:revision>
  <dc:subject/>
  <dc:title>Slide 1</dc:title>
</cp:coreProperties>
</file>